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7.wmf" ContentType="image/x-wmf"/>
  <Override PartName="/ppt/media/image25.png" ContentType="image/png"/>
  <Override PartName="/ppt/media/image13.jpeg" ContentType="image/jpe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4.png" ContentType="image/png"/>
  <Override PartName="/ppt/media/image12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19.png" ContentType="image/png"/>
  <Override PartName="/ppt/media/image20.jpeg" ContentType="image/jpe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F8CC-776E-41F7-B1CC-C44E39EB3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1573-4A0A-45C9-9937-69E90F93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9F2B10-1DC4-489C-938C-EE1E1F32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0778E6-5641-4325-9922-C89D4FCB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B18C71-7005-4982-A1CE-CC5CFD94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1B6F8A-9EE8-453C-B6E5-22C5198F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0A9106-9E7D-453D-A54E-9FF51ACB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0D843B-3AEC-42C1-A3F4-D71962E2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FDFA86-1534-42EF-90FA-C0222828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A85FAF-D8F1-4920-8FE9-C3BF6A528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354E09-A1B0-4B88-B373-5D0C06197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0DB6-4925-43B4-8C29-146FFF4A0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F20C-D3A2-4549-A252-697C65FE3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A1F1B2-59EF-4845-9C10-A00CBCE89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54E370-D715-430F-9757-2D787D20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BD883EE-A9A6-4190-BD43-81C784E7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375ECED-2F2F-4920-B022-0E76E691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3E75CAE-7C0B-4EDD-B80C-E8F254B6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199AE2-F8A9-414C-96F8-F5314B9D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7E57A5-3574-4CE9-8D68-B5AA12F7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F2B79C-7AC1-49C8-876D-5D6198FC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5EE66E-4FAF-4A38-8BAB-43CBDE40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3C89-290B-433C-B2E8-FFBD42897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FF1FC15-2A96-47BF-923C-58E09B6E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97C4919-2341-43DF-82DB-33DBEC96A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412F959-7C97-4662-9E2F-A5DAEC422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C808285-E3B7-4E70-9AE5-35C66785B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6791AD1-CDF3-43BB-8F25-E67A0A62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CC57C62-52CA-4129-94EA-46FB5F41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5A95D68-2B65-43CC-81F4-4423E579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33488A0-9754-4C0E-B4D1-4F28C1BD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5E5E666-D70C-4F32-96EE-CE220689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8F13AE3-74E7-4621-8838-A5F3CF7E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FEE0-1250-4923-B29A-0630296A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7EFF9CF-E020-4776-A360-EB341DC2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7D18A02-055C-4D34-999A-63B85243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F8B475A-12D1-4909-9A57-851BC41F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263D8A8-E692-451B-A09E-16316B84D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EB78138-BA2B-44A7-A6B8-E848D136A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8F682D-7A6C-4563-A83B-D83A034E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3152F5-FAF4-45CB-A19F-83D70CDA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493B3C8-0341-4D58-9136-0404EBDE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12DADD-F2B9-4DE8-B4B3-C920934B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DFE4E3-937C-4210-98D8-5A7A6FE5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4625-F8AC-4718-A470-0C0A9AF0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6E85C28-067B-415C-8B0E-9B1719C3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B77F7D-D54B-4DDB-8917-F03743D1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FCEE02-69FF-4121-8F49-6C88CA25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511484-AE80-4F95-8FB7-882FE33C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0377EF-6871-4519-845F-1D2A9CCD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B50648A-98BB-4B33-8A75-EFF94B041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F1F622-1473-43FA-9AA5-D20CDE758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07B37FC-602D-4FEC-A868-D2DB2D234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6A13E01-5EAF-418D-AE5E-E3535B6B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5EB97F8-0654-46A5-86DF-0E9B84B0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13CF-9387-467A-B56E-C6DEF58B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00D88D3-263F-43FC-A8D4-0A1303AC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A7E4F29-90CF-40B4-96DB-C06DB031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CA0B609-D379-40DD-94F2-E2CCAC57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CB33206-0A8E-48E1-AD2F-9462101E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FA9F550-23CD-4430-BA31-9A43E4BC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67723FF-8259-4C80-9942-C3C6D716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883542E-F818-4939-9BBA-11DE26DE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FF871EA-FDD8-45F4-A300-B1407E977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4F5A2B8-1EB4-436B-B6E3-D3314E84D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E6BD40E-1A15-4002-A1B6-A163F8201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4124-2EE6-44E3-8DCA-63FBFA26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81B8991-57FC-400D-B430-D6B2A189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7879628-D5E4-4084-9D06-9A90461F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59A4A07-20FA-4E42-AB1E-0F5B8209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B6E9C67-05A8-4FC5-A2BB-C1315374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89EFF70-39F2-4A41-BBE4-1E5DE01B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3103456-E10E-4713-B2E3-759EBC05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2A290BC-5F4A-4502-A483-7E8057E2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C7C58DA-9E60-40CA-BEAC-2028BB5F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100338A-75B7-4E9E-8047-DD8B813E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1DBCC44-C3A3-4D8B-A406-7DC4A80AA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5669-4C86-49FA-87D1-257D5DD5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D37A55F-0793-4B28-AEDC-997D1F184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0423E42-1369-4924-939D-AF5C081F2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3888CD8-0CBC-492A-8E48-B50E156E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39B6FE7-D660-41E1-8FD6-8F319855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1282B56-9AC9-4968-BA23-7C54F513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CB6315E-43CB-487C-BAA9-A1B3C652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749C8F8-5A5A-4B22-B16E-82E49F54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4F08E11-E394-44B7-875C-BDA2BDAB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540E815-813A-4A9F-AAA9-CF8D5A5D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5B0F24B-FFF4-4970-83CA-591B205B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4FA4-FA9B-4D7E-9C51-7ADF7D60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B8E0F0D-0B79-4CF1-9A36-9EB0409B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0137245-3BAD-4A72-A0C9-C716D4A1C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315CBB6-9696-4553-96C3-73759F59E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DB3A9CC-B53A-4FC6-ADCE-23F4AC42F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FE5EB32-D43A-46E3-BFAC-5D317E61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C52AFF4-45F7-4237-90E2-27D1E806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B9D8078-5545-4C39-89E2-880E90CC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D6AC10D-9402-4EA4-8F76-A05FB312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E54DD9A-86C9-427A-9D55-51C03D8C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485D92D-D96F-4BA6-A87F-F0917838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122A-F2A0-4A87-8EA5-71E31B6C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546F-7187-4215-99DC-C6EA3686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44457C7-20A0-47EB-BBD0-2F06FCB1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118AFFE-87C5-46A4-B7CE-A336DE43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C91524A-5584-471F-B329-4DAFEBC0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1557E80-EA08-4316-8EA3-A7BD02836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54D4DA2-9009-444A-ABC4-38C55ACC6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71ADE1D-561B-4592-ACDB-EF876D37C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C684BB9-5403-49A0-9615-DBB56C9F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0469AED-6B6C-4251-B8E0-569A44C6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72A44B7-516B-4B40-8C5B-D9A69522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EADD1E3-0974-483C-B039-70E4B0A1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6C03-5410-4050-ADF8-33E939D7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F37BBB6-D334-48C8-8128-0978AE9D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C6A6AD9-8025-4277-9B32-E8B3193E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6AF6EB6-6200-454F-A5A6-26EB37A5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483477D-C985-42B0-B9E2-50E77A5F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FD7905F-D0C5-4A53-BE69-FB492492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FBB51D7-D1AA-4BD3-991B-3BD39F6E8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1786DF0-9029-46E5-8A7C-6B302DC9D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A6BA420-0FF1-41B3-8D55-F9FC844EB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DC63142-C9CD-461D-9DBF-741A2136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DC6C6D8-DECC-4F37-9A9B-F23D66DE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1CCF-8114-4194-A03F-E64581DA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F6DEA1C-9834-417F-A829-6EF31A2C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4AA8AE7-388D-47DA-8412-13217F1D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D4B1D04-1BC9-4217-9564-16A6DDFA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136BCFD-DCCF-4C2F-8DC6-415ACB10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A054EA7-1FE5-4794-AC4F-FDF82CA5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7FA3E5E-E717-41C5-9152-79DF0800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B995C1F-46C0-47E9-89DC-FA14A299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D5787BB-75AC-4D8B-A784-6898FF5BE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E34297B-55B6-4A5D-9415-D7B227B92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2695095-DEC3-4D57-87DC-8DCC03547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CF49-CB6E-4126-92D1-3952D6850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49C8D23-FECE-45FD-A0B8-629273F1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26A7585-2F61-4D6B-803F-4F87AB0E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60C8104-3982-4F67-8BC0-30311D77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8B5A5CE-A4EC-4CDA-B4F6-24C23854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3ADA84D-69FE-4A01-B5D0-B8289E06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3B03628-7DE2-428C-BF9C-0214BCBA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F3F2A22-D6D4-4AB9-8523-8F22ED05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4519F8C-2340-43A3-AE6C-57110EDB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7FB3793-8659-4B6B-9A2D-0F708019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497699E-1E24-4DE8-8559-2E9C0B152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EDC0-4530-439A-A3ED-F6886291C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029AB32-6C0B-4C56-A8C6-6232467B0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F358DF5-3162-489A-B404-B4B036CE5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BA8D27C-AEE6-4569-BEAF-577E3229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1B02B13-6BAC-4E30-9136-27EBDA4C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576760D-8D8A-4E76-8392-5D6FE2C8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3707197-A700-43FE-9169-CC833BEF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F0BDA89-0F2D-453C-BE84-2DBAD20E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357DE16-8863-4B44-9545-3A866F43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77A14C6-C5CD-4FED-A8CE-E33100EC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5989080-71B5-44AE-9E7C-DC38D7F1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0FEBD-B403-4AF2-8CFC-9431843AD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4F7D0B6-FD30-4D9D-A108-36020AA1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7B3FBE2-32D5-460E-8207-41A160536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A06AE00-E4F1-4DB1-8CE8-E0392F529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08C4175-8F27-4278-AC5C-844C8F4C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020ABA2-5076-4431-A90A-9F197F26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283EC3F-718C-4290-851B-4BD39D15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D05C33D-1F16-40A7-8A78-35EE4800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102E668-DCD7-4D13-B51A-65250769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DADA170-64FB-4430-A6ED-310CAE19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A1E6DA2-5F71-4A98-99AB-988D5650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66032-FA77-4C9C-9FD9-AE6B4529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A17593B-D33D-45BD-BEF1-8148787B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3F78945-C1C3-45D8-AC4B-FAF3F354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2A9A10A-7339-4CE8-8556-CA696D6E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DC972A7-FA9A-4C75-8F21-AC707D284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FDA48D5-7143-4BCC-A5A2-7AC992BC5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B2157-538A-45D3-B7DE-69A52F77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FE586D8-337F-4A16-BDBB-C8267FCB1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1F2243C-AA5C-4E5B-83F7-B95EB3B2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FC7A9C2-00DA-4638-B7CD-B236117C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25152-6C6A-433E-A3B1-B0AFBC52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1B7DE6F-7DBB-4A99-B548-8EC80CF5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4A2F807-8FA6-49F6-ABA1-594318AD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3EC1316-4970-4252-A34C-C9CFE48D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4E368BE-95B4-4688-856E-B522F4CE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B745B0D-0AFD-4740-935C-009AF2DD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08F0E07-54A9-434F-A0C6-02AD6492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3916DD0-4A15-4A51-AFEE-F6C91019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7B7C407-A935-4FEC-A53C-DA632B8D5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6584752-EC97-443D-8B1C-270506D02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1C3EE56-7C71-4F19-A648-E9B2761BB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59A7B-9150-4634-93ED-EA118EFB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99BCBFE-7E55-4A21-B430-52A3DA04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16EADAA-3932-417C-B2B5-00E0B908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25E1937-F660-42B7-8C7C-17B68D8A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11CA791-ECFC-47E9-9540-4ADD5E2E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7501C7F-288B-4223-ADF8-ACCDA9AB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9B3A450-C075-446B-9C70-70DC55F2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05C7658-BDC2-471F-9FC1-1A614991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32BA7A2-D807-4E14-9DCA-2FBCE76B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BD111F2-C3C9-4254-9EA2-E4FFEBAC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8D18E12-A01D-48E5-BBC0-D0C42B6B0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121A-B29B-4CA5-AB83-9C95FA52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D2C4E-7CCD-400C-9DFA-57549B3A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8CAC1A0-28FA-4ADC-86AB-C091E7256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568B12A-3D75-4384-8F6E-661BF4537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557AECE-E4C3-4B0A-9E27-5FA57E42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736DB69-7F34-4710-8673-52742AEF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160FFDD-38E3-488C-8DC5-FB96DB6C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02D24BE-3979-475C-B5CE-978A2F90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452A370-E034-4777-9AA9-8911896F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365E1BD-AF4D-4A1F-A88C-860D56AA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100D115-7ED0-494D-B70F-8173E66F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E3BCC0A-8A00-431C-B17B-3E9DA80C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6E9F8-6FE8-42CE-BDC8-3F763623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B6D9772-B4FA-4460-A184-626196EE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8827EB6-9567-4675-BEE8-98F7F4331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2594ADE-7965-4BAA-98EF-3379E4D37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8DBC3DE-9B7D-43A0-95B3-DC0849070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09AFF3C-B050-4728-BEC5-5971E0C5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1642D88-21EC-45B0-BFA3-E5981E9A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05EF59C-F2DB-4DB3-B0F2-B257007A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906E1EB-5DC6-465F-9183-ED104645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58CDEEA-EBEA-49CD-AE56-D2D01982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6F89742-E4B9-4D60-83C4-7488FE01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167E8-9F9F-4B90-B0F8-66992DF9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5857E5C-27BA-4F70-895D-65B2581A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CFB2EFC-6D00-440A-9F7B-4F455550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852FB95-A41A-4C1F-83EF-F9E82E72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18AC51E-554B-4F20-9CFA-C7F7F1398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114ACBD-6DC9-444C-A979-4155BD81B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A6182D0-B4C6-4AF0-B5E4-457892848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16EEA9E-73DA-4B8C-969E-373697F6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0412CE0-03F8-4541-B287-AD2A30AB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DF97956-D49E-4D0F-9021-1BE0E98C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DDC3554-243B-4952-9742-7259FB2F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A8A1A-3FAB-4206-84E8-77AD3FB6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A6EC2BB-DDD4-4BCF-99C8-43D3FE03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E41F477-7DA5-4294-8D96-C384D2F5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489A0E7-CC0B-44F6-9889-A8EBA656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9B2269C-0563-4A71-B1FB-2A3F1E79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A740648-BB26-41DA-A680-0ED87D0D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0C43759-D7BF-4A21-8C08-B5A4DA1E8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ACB3615-1F56-4507-92E6-0733EC7CA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02976A9D-2A42-49D1-9CE6-34108E25A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F181A16D-574F-41F9-959A-CC4408E3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1AB7E083-D027-41FC-8015-46723AC9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61A2B-A931-46D4-9365-2E226598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50E2EFD4-3394-4AC4-AEFC-FCFC7260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C152F7F1-0800-4E91-A29E-D46C4E75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057EC5EE-C570-441E-8A1F-98ED01C3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C4937220-0D33-49D9-AC37-8B567FA5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7F9B290C-3F75-4801-9EBB-DAE38CCA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AEF2FB94-8AB1-4858-BEC7-11147002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BF197AD9-7AEF-4016-9C36-B5661CC8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9CA7A9A5-925D-4FC1-9EF3-B05106381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C4E9DCE1-36BB-4D4C-B931-B3935F6A7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C0CFEE3-3C0E-41A6-9D28-6B78C759E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96303-8D7D-4644-8919-AB9EC76C8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B8E4A0D-7C9D-46C6-A192-3D69FD5D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7F3A3E9-EC13-42C9-8CD6-3F2BC2C3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DC04860-CBA1-4DD8-BCCC-5F2196BF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E1942B6-70D9-4FAA-8A91-2EA6D110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A38ABFA-3D1A-4FB1-B00C-EBB70D28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D630785-65A8-4F7E-BE42-5D43D215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B231FD2-75C1-49E7-85C2-E914F1DD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FCDF95D-AC3C-4916-B97C-57D34550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929AAA38-6373-47BE-BD84-235C9D57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F872F3E-A6B5-4E0C-8BF9-9CB395DAB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C8486-B9F4-4ED0-BE49-74351C6E5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FBD659F-83C1-413E-BDAA-10EAE41A3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94501811-99E0-4E7C-AF76-52FCBD029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CBA1971C-6DE7-42C0-B7A7-4F887A50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2FF60DD0-3C82-42AB-AD0D-A6654671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AC554BE5-1BA6-4304-BE7D-382A6056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673C3CBD-9E91-481C-9059-FF698F8B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E6364447-961C-41DD-BA92-E468F9AC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5E3561D1-1935-4A9E-8463-98167370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1A4EB50-4816-4368-8D8A-C53E632F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2CD47CDC-0A09-4CA8-BA0E-0C236C93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B8574E-43C8-4535-91ED-652D954B2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8B4633B7-FEE8-494F-A711-F95ADDCD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9515AC10-95F3-4E76-AAB8-66F48BBD7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62F53DE6-EEFA-4A5B-96FB-86D729C66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1BDCEA-F56A-4F05-A471-7BF72B92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98AE20-0E6C-41C3-85B8-A95F74D6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1B56-A52B-4DAE-A09C-92A91E71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06F863-8773-42A9-B9BE-0B84A6B2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613FDD-A7B1-4828-8974-FAA5ED58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FA9166-C0A8-4420-8379-C3D13BF4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1EB4D3-700D-40A7-B13E-C614074F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137458-D27C-4226-9E57-2D6B7389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D445AB-758F-4A89-B44B-5490FBF9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634242-BFFA-41A6-8AB4-CA9E89FF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CCF8F8-7180-4B34-A8AD-AD86C9466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77D53C-0B6C-4DC7-8F4E-271E025C1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57E271-1383-4DD2-B24F-20701736F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70DC-9AF7-4178-9394-FF25459E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4A2F9C-FE0D-4B38-A81D-0BCAAF51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4A6E00-C5F6-44E1-9DE5-DF5E4B5A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36CFCC-7AE3-486D-9529-24FF1096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64C9E5-96A5-4783-9B40-533CC4DF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6160D9-677C-4D64-B79C-BC53D081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AA15AB-0AA4-4DD9-AFD9-6597FA9B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D7DEBB-9279-4F52-958E-A7F4088A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C021D7-6E25-4DDF-AA51-3146AF17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6EC0D2-E2BB-4686-9788-252AFFD1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118415-4D30-4431-8296-C735E99E4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B21B-B3EF-4828-BF5F-3F7B8C17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7F22BC-7EF3-4A6F-9850-1C1671478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B217D-0040-4403-8533-6AC81A73A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95578-0E45-43A8-94A5-5A0152B8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10466-4B40-46E4-B7E7-76ADEFC1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C92F1-0DE8-496E-A7F4-0E62A178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8BD5D-14DB-44C6-B361-4E1D3FE4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62043-F4AE-43EA-84D1-3496240D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256DB-6914-42AB-BD73-CB672282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CFDA1-1509-4D34-A5FA-BD301840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6A1A3-B82E-4E8D-96FE-A75BC12D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0CB8-3AC1-43E3-808D-24DFDA2E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F310D-A647-49B0-A109-064946BB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9A2D0-5F46-44B9-975E-4EA4F9BC1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FBF30-CC8E-4293-92ED-2CC0FA657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0E07A5-DC12-4742-BC53-1AD0537CA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8E375D-BBA0-4D6B-A9DA-39F93105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A4F6EA-69EB-4629-94CA-2D1313FF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A85669-39AE-46BB-B832-A00B62E9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89C06E-C82D-4E4A-B03E-77556493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04542C-6C48-4C76-90D6-DD23F098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289B41-F147-4A50-BC7D-AFC337EF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FDAE-C1D7-43C4-A2DC-871462A3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1B0702-41FC-42BF-BF4C-8A945C23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84BC70-6CD9-4EB6-9F4C-94365E7B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B4F658-C6CC-4BE2-BDBC-FDE395E8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0431E0-9649-4585-89D3-4EC812555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46AF47-C68E-4DD8-A273-A0A946E2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1939E-074A-4B4F-9F83-30A5B3F3E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4C49C-B613-4FAB-B528-4DDBDBDE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2673D-CAE1-4E10-A4A7-2BCDCED6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FF4E4-B3F8-4875-8BB3-DF3C2E44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A248C-3CA4-4068-B295-28531927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CD4E-D3EA-468A-B7DD-0E734D9E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C92FE-392A-4FD5-8778-F035C15E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D5E0E-67DE-4BEC-B96D-6E73108C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CE3EC-C4D7-4BBE-9372-DB843AFD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83CD9-E939-4B75-9A16-C0526834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80FE7-FE8C-44D2-A2E2-9A88330A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AC8D1-6D4D-4A67-8F38-A5F1DAADE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E70AE-8C74-4E8B-BEB7-727A91D38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B2FF9C-FFB2-4B23-BBF6-196C29FDB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AB0EA3-D4FF-4DAC-B5A9-C5431A04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57A537-70A4-4E53-8D87-8A04950C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hyperlink" Target="http://ies.ed.gov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hyperlink" Target="http://ies.ed.gov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hyperlink" Target="http://ies.ed.gov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3.xml"/><Relationship Id="rId9" Type="http://schemas.openxmlformats.org/officeDocument/2006/relationships/slideLayout" Target="../slideLayouts/slideLayout134.xml"/><Relationship Id="rId10" Type="http://schemas.openxmlformats.org/officeDocument/2006/relationships/slideLayout" Target="../slideLayouts/slideLayout135.xml"/><Relationship Id="rId11" Type="http://schemas.openxmlformats.org/officeDocument/2006/relationships/slideLayout" Target="../slideLayouts/slideLayout136.xml"/><Relationship Id="rId12" Type="http://schemas.openxmlformats.org/officeDocument/2006/relationships/slideLayout" Target="../slideLayouts/slideLayout137.xml"/><Relationship Id="rId13" Type="http://schemas.openxmlformats.org/officeDocument/2006/relationships/slideLayout" Target="../slideLayouts/slideLayout138.xml"/><Relationship Id="rId14" Type="http://schemas.openxmlformats.org/officeDocument/2006/relationships/slideLayout" Target="../slideLayouts/slideLayout139.xml"/><Relationship Id="rId15" Type="http://schemas.openxmlformats.org/officeDocument/2006/relationships/slideLayout" Target="../slideLayouts/slideLayout140.xml"/><Relationship Id="rId16" Type="http://schemas.openxmlformats.org/officeDocument/2006/relationships/slideLayout" Target="../slideLayouts/slideLayout141.xml"/><Relationship Id="rId17" Type="http://schemas.openxmlformats.org/officeDocument/2006/relationships/slideLayout" Target="../slideLayouts/slideLayout142.xml"/><Relationship Id="rId18" Type="http://schemas.openxmlformats.org/officeDocument/2006/relationships/slideLayout" Target="../slideLayouts/slideLayout143.xml"/><Relationship Id="rId19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hyperlink" Target="http://ies.ed.gov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hyperlink" Target="http://ies.ed.gov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hyperlink" Target="http://ies.ed.gov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hyperlink" Target="http://ies.ed.gov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hyperlink" Target="http://ies.ed.gov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hyperlink" Target="http://ies.ed.gov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hyperlink" Target="http://ies.ed.gov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hyperlink" Target="http://ies.ed.gov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hyperlink" Target="http://ies.ed.gov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41.xml"/><Relationship Id="rId8" Type="http://schemas.openxmlformats.org/officeDocument/2006/relationships/slideLayout" Target="../slideLayouts/slideLayout242.xml"/><Relationship Id="rId9" Type="http://schemas.openxmlformats.org/officeDocument/2006/relationships/slideLayout" Target="../slideLayouts/slideLayout243.xml"/><Relationship Id="rId10" Type="http://schemas.openxmlformats.org/officeDocument/2006/relationships/slideLayout" Target="../slideLayouts/slideLayout244.xml"/><Relationship Id="rId11" Type="http://schemas.openxmlformats.org/officeDocument/2006/relationships/slideLayout" Target="../slideLayouts/slideLayout245.xml"/><Relationship Id="rId12" Type="http://schemas.openxmlformats.org/officeDocument/2006/relationships/slideLayout" Target="../slideLayouts/slideLayout246.xml"/><Relationship Id="rId13" Type="http://schemas.openxmlformats.org/officeDocument/2006/relationships/slideLayout" Target="../slideLayouts/slideLayout247.xml"/><Relationship Id="rId14" Type="http://schemas.openxmlformats.org/officeDocument/2006/relationships/slideLayout" Target="../slideLayouts/slideLayout248.xml"/><Relationship Id="rId15" Type="http://schemas.openxmlformats.org/officeDocument/2006/relationships/slideLayout" Target="../slideLayouts/slideLayout249.xml"/><Relationship Id="rId16" Type="http://schemas.openxmlformats.org/officeDocument/2006/relationships/slideLayout" Target="../slideLayouts/slideLayout250.xml"/><Relationship Id="rId17" Type="http://schemas.openxmlformats.org/officeDocument/2006/relationships/slideLayout" Target="../slideLayouts/slideLayout251.xml"/><Relationship Id="rId18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hyperlink" Target="http://ies.ed.gov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3.xml"/><Relationship Id="rId7" Type="http://schemas.openxmlformats.org/officeDocument/2006/relationships/slideLayout" Target="../slideLayouts/slideLayout254.xml"/><Relationship Id="rId8" Type="http://schemas.openxmlformats.org/officeDocument/2006/relationships/slideLayout" Target="../slideLayouts/slideLayout255.xml"/><Relationship Id="rId9" Type="http://schemas.openxmlformats.org/officeDocument/2006/relationships/slideLayout" Target="../slideLayouts/slideLayout256.xml"/><Relationship Id="rId10" Type="http://schemas.openxmlformats.org/officeDocument/2006/relationships/slideLayout" Target="../slideLayouts/slideLayout257.xml"/><Relationship Id="rId11" Type="http://schemas.openxmlformats.org/officeDocument/2006/relationships/slideLayout" Target="../slideLayouts/slideLayout258.xml"/><Relationship Id="rId12" Type="http://schemas.openxmlformats.org/officeDocument/2006/relationships/slideLayout" Target="../slideLayouts/slideLayout259.xml"/><Relationship Id="rId13" Type="http://schemas.openxmlformats.org/officeDocument/2006/relationships/slideLayout" Target="../slideLayouts/slideLayout260.xml"/><Relationship Id="rId14" Type="http://schemas.openxmlformats.org/officeDocument/2006/relationships/slideLayout" Target="../slideLayouts/slideLayout261.xml"/><Relationship Id="rId15" Type="http://schemas.openxmlformats.org/officeDocument/2006/relationships/slideLayout" Target="../slideLayouts/slideLayout262.xml"/><Relationship Id="rId16" Type="http://schemas.openxmlformats.org/officeDocument/2006/relationships/slideLayout" Target="../slideLayouts/slideLayout263.xml"/><Relationship Id="rId17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hyperlink" Target="http://ies.ed.gov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65.xml"/><Relationship Id="rId8" Type="http://schemas.openxmlformats.org/officeDocument/2006/relationships/slideLayout" Target="../slideLayouts/slideLayout266.xml"/><Relationship Id="rId9" Type="http://schemas.openxmlformats.org/officeDocument/2006/relationships/slideLayout" Target="../slideLayouts/slideLayout267.xml"/><Relationship Id="rId10" Type="http://schemas.openxmlformats.org/officeDocument/2006/relationships/slideLayout" Target="../slideLayouts/slideLayout268.xml"/><Relationship Id="rId11" Type="http://schemas.openxmlformats.org/officeDocument/2006/relationships/slideLayout" Target="../slideLayouts/slideLayout269.xml"/><Relationship Id="rId12" Type="http://schemas.openxmlformats.org/officeDocument/2006/relationships/slideLayout" Target="../slideLayouts/slideLayout270.xml"/><Relationship Id="rId13" Type="http://schemas.openxmlformats.org/officeDocument/2006/relationships/slideLayout" Target="../slideLayouts/slideLayout271.xml"/><Relationship Id="rId14" Type="http://schemas.openxmlformats.org/officeDocument/2006/relationships/slideLayout" Target="../slideLayouts/slideLayout272.xml"/><Relationship Id="rId15" Type="http://schemas.openxmlformats.org/officeDocument/2006/relationships/slideLayout" Target="../slideLayouts/slideLayout273.xml"/><Relationship Id="rId16" Type="http://schemas.openxmlformats.org/officeDocument/2006/relationships/slideLayout" Target="../slideLayouts/slideLayout274.xml"/><Relationship Id="rId17" Type="http://schemas.openxmlformats.org/officeDocument/2006/relationships/slideLayout" Target="../slideLayouts/slideLayout275.xml"/><Relationship Id="rId18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hyperlink" Target="http://ies.ed.gov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77.xml"/><Relationship Id="rId7" Type="http://schemas.openxmlformats.org/officeDocument/2006/relationships/slideLayout" Target="../slideLayouts/slideLayout278.xml"/><Relationship Id="rId8" Type="http://schemas.openxmlformats.org/officeDocument/2006/relationships/slideLayout" Target="../slideLayouts/slideLayout279.xml"/><Relationship Id="rId9" Type="http://schemas.openxmlformats.org/officeDocument/2006/relationships/slideLayout" Target="../slideLayouts/slideLayout280.xml"/><Relationship Id="rId10" Type="http://schemas.openxmlformats.org/officeDocument/2006/relationships/slideLayout" Target="../slideLayouts/slideLayout281.xml"/><Relationship Id="rId11" Type="http://schemas.openxmlformats.org/officeDocument/2006/relationships/slideLayout" Target="../slideLayouts/slideLayout282.xml"/><Relationship Id="rId12" Type="http://schemas.openxmlformats.org/officeDocument/2006/relationships/slideLayout" Target="../slideLayouts/slideLayout283.xml"/><Relationship Id="rId13" Type="http://schemas.openxmlformats.org/officeDocument/2006/relationships/slideLayout" Target="../slideLayouts/slideLayout284.xml"/><Relationship Id="rId14" Type="http://schemas.openxmlformats.org/officeDocument/2006/relationships/slideLayout" Target="../slideLayouts/slideLayout285.xml"/><Relationship Id="rId15" Type="http://schemas.openxmlformats.org/officeDocument/2006/relationships/slideLayout" Target="../slideLayouts/slideLayout286.xml"/><Relationship Id="rId16" Type="http://schemas.openxmlformats.org/officeDocument/2006/relationships/slideLayout" Target="../slideLayouts/slideLayout287.xml"/><Relationship Id="rId17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hyperlink" Target="http://ies.ed.gov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89.xml"/><Relationship Id="rId9" Type="http://schemas.openxmlformats.org/officeDocument/2006/relationships/slideLayout" Target="../slideLayouts/slideLayout290.xml"/><Relationship Id="rId10" Type="http://schemas.openxmlformats.org/officeDocument/2006/relationships/slideLayout" Target="../slideLayouts/slideLayout291.xml"/><Relationship Id="rId11" Type="http://schemas.openxmlformats.org/officeDocument/2006/relationships/slideLayout" Target="../slideLayouts/slideLayout292.xml"/><Relationship Id="rId12" Type="http://schemas.openxmlformats.org/officeDocument/2006/relationships/slideLayout" Target="../slideLayouts/slideLayout293.xml"/><Relationship Id="rId13" Type="http://schemas.openxmlformats.org/officeDocument/2006/relationships/slideLayout" Target="../slideLayouts/slideLayout294.xml"/><Relationship Id="rId14" Type="http://schemas.openxmlformats.org/officeDocument/2006/relationships/slideLayout" Target="../slideLayouts/slideLayout295.xml"/><Relationship Id="rId15" Type="http://schemas.openxmlformats.org/officeDocument/2006/relationships/slideLayout" Target="../slideLayouts/slideLayout296.xml"/><Relationship Id="rId16" Type="http://schemas.openxmlformats.org/officeDocument/2006/relationships/slideLayout" Target="../slideLayouts/slideLayout297.xml"/><Relationship Id="rId17" Type="http://schemas.openxmlformats.org/officeDocument/2006/relationships/slideLayout" Target="../slideLayouts/slideLayout298.xml"/><Relationship Id="rId18" Type="http://schemas.openxmlformats.org/officeDocument/2006/relationships/slideLayout" Target="../slideLayouts/slideLayout299.xml"/><Relationship Id="rId19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ies.ed.gov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hyperlink" Target="http://ies.ed.gov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hyperlink" Target="http://ies.ed.gov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hyperlink" Target="http://ies.ed.gov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hyperlink" Target="http://ies.ed.gov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hyperlink" Target="http://ies.ed.gov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6042-4B6A-4FA2-881E-359189B9CD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6" descr="IES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35760" y="1012680"/>
            <a:ext cx="1297080" cy="2383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bevelDivider.png"/>
          <p:cNvPicPr/>
          <p:nvPr/>
        </p:nvPicPr>
        <p:blipFill>
          <a:blip r:embed="rId4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9" descr=""/>
          <p:cNvPicPr/>
          <p:nvPr/>
        </p:nvPicPr>
        <p:blipFill>
          <a:blip r:embed="rId5"/>
          <a:stretch/>
        </p:blipFill>
        <p:spPr>
          <a:xfrm>
            <a:off x="7924680" y="76320"/>
            <a:ext cx="1133640" cy="7174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0" descr="SectionHeader-Bevel.png"/>
          <p:cNvPicPr/>
          <p:nvPr/>
        </p:nvPicPr>
        <p:blipFill>
          <a:blip r:embed="rId6"/>
          <a:stretch/>
        </p:blipFill>
        <p:spPr>
          <a:xfrm>
            <a:off x="928800" y="3559320"/>
            <a:ext cx="7315200" cy="1908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3428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EFB8-006E-4C9B-A2A7-E3338E36B370}" type="datetime">
              <a:rPr b="0" lang="en-US" sz="1200" spc="-1" strike="noStrike">
                <a:solidFill>
                  <a:srgbClr val="7f7f7f"/>
                </a:solidFill>
                <a:latin typeface="Eurostile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363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Eurostile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6" descr="IES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35760" y="1012680"/>
            <a:ext cx="1297080" cy="2383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6" descr="bevelDivider.png"/>
          <p:cNvPicPr/>
          <p:nvPr/>
        </p:nvPicPr>
        <p:blipFill>
          <a:blip r:embed="rId4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9" descr=""/>
          <p:cNvPicPr/>
          <p:nvPr/>
        </p:nvPicPr>
        <p:blipFill>
          <a:blip r:embed="rId5"/>
          <a:stretch/>
        </p:blipFill>
        <p:spPr>
          <a:xfrm>
            <a:off x="7924680" y="76320"/>
            <a:ext cx="1133640" cy="71748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30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5E5E-306A-4E85-A638-C8B8A9DE26FC}" type="datetime">
              <a:rPr b="0" lang="en-US" sz="2400" spc="-1" strike="noStrike">
                <a:solidFill>
                  <a:srgbClr val="a8aeb5"/>
                </a:solidFill>
                <a:latin typeface="Eurostile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31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d8691"/>
                </a:solidFill>
                <a:latin typeface="Eurostile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32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98CF-23E8-4475-BC4B-B552EE58B740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6" descr="IES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35760" y="1012680"/>
            <a:ext cx="1297080" cy="2383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6" descr="bevelDivider.png"/>
          <p:cNvPicPr/>
          <p:nvPr/>
        </p:nvPicPr>
        <p:blipFill>
          <a:blip r:embed="rId4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9" descr=""/>
          <p:cNvPicPr/>
          <p:nvPr/>
        </p:nvPicPr>
        <p:blipFill>
          <a:blip r:embed="rId5"/>
          <a:stretch/>
        </p:blipFill>
        <p:spPr>
          <a:xfrm>
            <a:off x="7924680" y="76320"/>
            <a:ext cx="1133640" cy="7174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0" descr="ComparisonBoxes.png"/>
          <p:cNvPicPr/>
          <p:nvPr/>
        </p:nvPicPr>
        <p:blipFill>
          <a:blip r:embed="rId6"/>
          <a:srcRect l="4558" t="28435" r="57797" b="7648"/>
          <a:stretch/>
        </p:blipFill>
        <p:spPr>
          <a:xfrm>
            <a:off x="363600" y="1949400"/>
            <a:ext cx="3475080" cy="429120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1" descr="ComparisonBoxes.png"/>
          <p:cNvPicPr/>
          <p:nvPr/>
        </p:nvPicPr>
        <p:blipFill>
          <a:blip r:embed="rId7"/>
          <a:srcRect l="4558" t="28435" r="57797" b="7648"/>
          <a:stretch/>
        </p:blipFill>
        <p:spPr>
          <a:xfrm>
            <a:off x="3992400" y="1944720"/>
            <a:ext cx="3475080" cy="429084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33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11B4-661D-4419-9CB2-A9D3C35A4834}" type="datetime">
              <a:rPr b="0" lang="en-US" sz="2400" spc="-1" strike="noStrike">
                <a:solidFill>
                  <a:srgbClr val="a8aeb5"/>
                </a:solidFill>
                <a:latin typeface="Eurostile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34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d8691"/>
                </a:solidFill>
                <a:latin typeface="Eurostile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5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FF03-B4D0-4D31-963D-C0868B887393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8"/>
    <p:sldLayoutId id="2147483793" r:id="rId9"/>
    <p:sldLayoutId id="2147483794" r:id="rId10"/>
    <p:sldLayoutId id="2147483795" r:id="rId11"/>
    <p:sldLayoutId id="2147483796" r:id="rId12"/>
    <p:sldLayoutId id="2147483797" r:id="rId13"/>
    <p:sldLayoutId id="2147483798" r:id="rId14"/>
    <p:sldLayoutId id="2147483799" r:id="rId15"/>
    <p:sldLayoutId id="2147483800" r:id="rId16"/>
    <p:sldLayoutId id="2147483801" r:id="rId17"/>
    <p:sldLayoutId id="2147483802" r:id="rId18"/>
    <p:sldLayoutId id="2147483803" r:id="rId19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6" descr="IES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35760" y="1012680"/>
            <a:ext cx="1297080" cy="23832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6" descr="bevelDivider.png"/>
          <p:cNvPicPr/>
          <p:nvPr/>
        </p:nvPicPr>
        <p:blipFill>
          <a:blip r:embed="rId4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9" descr=""/>
          <p:cNvPicPr/>
          <p:nvPr/>
        </p:nvPicPr>
        <p:blipFill>
          <a:blip r:embed="rId5"/>
          <a:stretch/>
        </p:blipFill>
        <p:spPr>
          <a:xfrm>
            <a:off x="7924680" y="76320"/>
            <a:ext cx="1133640" cy="71748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36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D483-6D55-49A6-B7AE-1B9BFC0EFD02}" type="datetime">
              <a:rPr b="0" lang="en-US" sz="2400" spc="-1" strike="noStrike">
                <a:solidFill>
                  <a:srgbClr val="a8aeb5"/>
                </a:solidFill>
                <a:latin typeface="Eurostile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37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d8691"/>
                </a:solidFill>
                <a:latin typeface="Eurostile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38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5EE0-236A-4F6A-861F-9ED4FA0E5172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6" descr="IES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35760" y="1012680"/>
            <a:ext cx="1297080" cy="2383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6" descr="bevelDivider.png"/>
          <p:cNvPicPr/>
          <p:nvPr/>
        </p:nvPicPr>
        <p:blipFill>
          <a:blip r:embed="rId4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9" descr=""/>
          <p:cNvPicPr/>
          <p:nvPr/>
        </p:nvPicPr>
        <p:blipFill>
          <a:blip r:embed="rId5"/>
          <a:stretch/>
        </p:blipFill>
        <p:spPr>
          <a:xfrm>
            <a:off x="7924680" y="76320"/>
            <a:ext cx="1133640" cy="71748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39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5A20-CB12-4A46-8794-23F8B46DD8CA}" type="datetime">
              <a:rPr b="0" lang="en-US" sz="2400" spc="-1" strike="noStrike">
                <a:solidFill>
                  <a:srgbClr val="a8aeb5"/>
                </a:solidFill>
                <a:latin typeface="Eurostile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40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d8691"/>
                </a:solidFill>
                <a:latin typeface="Eurostile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41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F4EF-5996-4660-8426-B8FF27908E7C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6" descr="IES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35760" y="1012680"/>
            <a:ext cx="1297080" cy="2383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6" descr="bevelDivider.png"/>
          <p:cNvPicPr/>
          <p:nvPr/>
        </p:nvPicPr>
        <p:blipFill>
          <a:blip r:embed="rId4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9" descr=""/>
          <p:cNvPicPr/>
          <p:nvPr/>
        </p:nvPicPr>
        <p:blipFill>
          <a:blip r:embed="rId5"/>
          <a:stretch/>
        </p:blipFill>
        <p:spPr>
          <a:xfrm>
            <a:off x="7924680" y="76320"/>
            <a:ext cx="1133640" cy="717480"/>
          </a:xfrm>
          <a:prstGeom prst="rect">
            <a:avLst/>
          </a:prstGeom>
          <a:ln w="0">
            <a:noFill/>
          </a:ln>
        </p:spPr>
      </p:pic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42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33A7-C396-4956-BD5E-1573187CC219}" type="datetime">
              <a:rPr b="0" lang="en-US" sz="2400" spc="-1" strike="noStrike">
                <a:solidFill>
                  <a:srgbClr val="a8aeb5"/>
                </a:solidFill>
                <a:latin typeface="Eurostile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ftr" idx="43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d8691"/>
                </a:solidFill>
                <a:latin typeface="Eurostile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sldNum" idx="44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7D3F-4308-44F0-ADE2-18266D31B02E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6" descr="IES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35760" y="1012680"/>
            <a:ext cx="1297080" cy="23832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6" descr="bevelDivider.png"/>
          <p:cNvPicPr/>
          <p:nvPr/>
        </p:nvPicPr>
        <p:blipFill>
          <a:blip r:embed="rId4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9" descr=""/>
          <p:cNvPicPr/>
          <p:nvPr/>
        </p:nvPicPr>
        <p:blipFill>
          <a:blip r:embed="rId5"/>
          <a:stretch/>
        </p:blipFill>
        <p:spPr>
          <a:xfrm>
            <a:off x="7924680" y="76320"/>
            <a:ext cx="1133640" cy="717480"/>
          </a:xfrm>
          <a:prstGeom prst="rect">
            <a:avLst/>
          </a:prstGeom>
          <a:ln w="0">
            <a:noFill/>
          </a:ln>
        </p:spPr>
      </p:pic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45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3983-62AC-41C1-84E9-C07CA6AF93B8}" type="datetime">
              <a:rPr b="0" lang="en-US" sz="2400" spc="-1" strike="noStrike">
                <a:solidFill>
                  <a:srgbClr val="a8aeb5"/>
                </a:solidFill>
                <a:latin typeface="Eurostile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46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d8691"/>
                </a:solidFill>
                <a:latin typeface="Eurostile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47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2C05-8790-4B13-BF0A-6F383C28DAC7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Picture 6" descr="IES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35760" y="1012680"/>
            <a:ext cx="1297080" cy="23832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6" descr="bevelDivider.png"/>
          <p:cNvPicPr/>
          <p:nvPr/>
        </p:nvPicPr>
        <p:blipFill>
          <a:blip r:embed="rId4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9" descr=""/>
          <p:cNvPicPr/>
          <p:nvPr/>
        </p:nvPicPr>
        <p:blipFill>
          <a:blip r:embed="rId5"/>
          <a:stretch/>
        </p:blipFill>
        <p:spPr>
          <a:xfrm>
            <a:off x="7924680" y="76320"/>
            <a:ext cx="1133640" cy="717480"/>
          </a:xfrm>
          <a:prstGeom prst="rect">
            <a:avLst/>
          </a:prstGeom>
          <a:ln w="0">
            <a:noFill/>
          </a:ln>
        </p:spPr>
      </p:pic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48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72C8-C201-4DEC-AE14-76809D7776F6}" type="datetime">
              <a:rPr b="0" lang="en-US" sz="2400" spc="-1" strike="noStrike">
                <a:solidFill>
                  <a:srgbClr val="a8aeb5"/>
                </a:solidFill>
                <a:latin typeface="Eurostile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49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d8691"/>
                </a:solidFill>
                <a:latin typeface="Eurostile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50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163D-DACE-40E9-8B3C-1ACD08EE742A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Picture 6" descr="IES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35760" y="1012680"/>
            <a:ext cx="1297080" cy="23832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6" descr="bevelDivider.png"/>
          <p:cNvPicPr/>
          <p:nvPr/>
        </p:nvPicPr>
        <p:blipFill>
          <a:blip r:embed="rId4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9" descr=""/>
          <p:cNvPicPr/>
          <p:nvPr/>
        </p:nvPicPr>
        <p:blipFill>
          <a:blip r:embed="rId5"/>
          <a:stretch/>
        </p:blipFill>
        <p:spPr>
          <a:xfrm>
            <a:off x="7924680" y="76320"/>
            <a:ext cx="1133640" cy="717480"/>
          </a:xfrm>
          <a:prstGeom prst="rect">
            <a:avLst/>
          </a:prstGeom>
          <a:ln w="0">
            <a:noFill/>
          </a:ln>
        </p:spPr>
      </p:pic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 type="dt" idx="51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B8B2-F85E-4F9B-967B-D286E7A00B47}" type="datetime">
              <a:rPr b="0" lang="en-US" sz="2400" spc="-1" strike="noStrike">
                <a:solidFill>
                  <a:srgbClr val="a8aeb5"/>
                </a:solidFill>
                <a:latin typeface="Eurostile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 type="ftr" idx="52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d8691"/>
                </a:solidFill>
                <a:latin typeface="Eurostile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 type="sldNum" idx="53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CE31-2192-41EC-817D-9682EDD0CD5F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Picture 6" descr="IES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35760" y="1012680"/>
            <a:ext cx="1297080" cy="23832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6" descr="bevelDivider.png"/>
          <p:cNvPicPr/>
          <p:nvPr/>
        </p:nvPicPr>
        <p:blipFill>
          <a:blip r:embed="rId4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9" descr=""/>
          <p:cNvPicPr/>
          <p:nvPr/>
        </p:nvPicPr>
        <p:blipFill>
          <a:blip r:embed="rId5"/>
          <a:stretch/>
        </p:blipFill>
        <p:spPr>
          <a:xfrm>
            <a:off x="7924680" y="76320"/>
            <a:ext cx="1133640" cy="71748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10" descr="titleSlideBevel.png"/>
          <p:cNvPicPr/>
          <p:nvPr/>
        </p:nvPicPr>
        <p:blipFill>
          <a:blip r:embed="rId6"/>
          <a:stretch/>
        </p:blipFill>
        <p:spPr>
          <a:xfrm>
            <a:off x="361800" y="4761000"/>
            <a:ext cx="5121360" cy="17280"/>
          </a:xfrm>
          <a:prstGeom prst="rect">
            <a:avLst/>
          </a:prstGeom>
          <a:ln w="0">
            <a:noFill/>
          </a:ln>
        </p:spPr>
      </p:pic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54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E0C9-0D43-46B1-816E-81443F675D07}" type="datetime">
              <a:rPr b="0" lang="en-US" sz="2400" spc="-1" strike="noStrike">
                <a:solidFill>
                  <a:srgbClr val="a8aeb5"/>
                </a:solidFill>
                <a:latin typeface="Eurostile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55"/>
          </p:nvPr>
        </p:nvSpPr>
        <p:spPr>
          <a:xfrm rot="16200000">
            <a:off x="6023520" y="3461400"/>
            <a:ext cx="459900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d8691"/>
                </a:solidFill>
                <a:latin typeface="Eurostile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56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899F-1103-4EBD-A321-AECEF6789954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AEAA-60B5-4B00-8D43-93C546DEA5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Picture 6" descr="IES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35760" y="1012680"/>
            <a:ext cx="1297080" cy="23832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6" descr="bevelDivider.png"/>
          <p:cNvPicPr/>
          <p:nvPr/>
        </p:nvPicPr>
        <p:blipFill>
          <a:blip r:embed="rId4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9" descr=""/>
          <p:cNvPicPr/>
          <p:nvPr/>
        </p:nvPicPr>
        <p:blipFill>
          <a:blip r:embed="rId5"/>
          <a:stretch/>
        </p:blipFill>
        <p:spPr>
          <a:xfrm>
            <a:off x="7924680" y="76320"/>
            <a:ext cx="1133640" cy="71748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7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7C99-28F0-472F-BD65-8864D16D9A2D}" type="datetime">
              <a:rPr b="0" lang="en-US" sz="2400" spc="-1" strike="noStrike">
                <a:solidFill>
                  <a:srgbClr val="a8aeb5"/>
                </a:solidFill>
                <a:latin typeface="Eurostile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sldNum" idx="58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52D6-5A68-4C32-8600-EEED0DD74CAD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ftr" idx="59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d8691"/>
                </a:solidFill>
                <a:latin typeface="Eurostile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6" name="Picture 6" descr="IES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35760" y="1012680"/>
            <a:ext cx="1297080" cy="23832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6" descr="bevelDivider.png"/>
          <p:cNvPicPr/>
          <p:nvPr/>
        </p:nvPicPr>
        <p:blipFill>
          <a:blip r:embed="rId4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pic>
        <p:nvPicPr>
          <p:cNvPr id="878" name="Picture 9" descr=""/>
          <p:cNvPicPr/>
          <p:nvPr/>
        </p:nvPicPr>
        <p:blipFill>
          <a:blip r:embed="rId5"/>
          <a:stretch/>
        </p:blipFill>
        <p:spPr>
          <a:xfrm>
            <a:off x="7924680" y="76320"/>
            <a:ext cx="1133640" cy="7174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10" descr="titleSlideBevel.png"/>
          <p:cNvPicPr/>
          <p:nvPr/>
        </p:nvPicPr>
        <p:blipFill>
          <a:blip r:embed="rId6"/>
          <a:stretch/>
        </p:blipFill>
        <p:spPr>
          <a:xfrm>
            <a:off x="361800" y="4761000"/>
            <a:ext cx="5121360" cy="1728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0"/>
          </p:nvPr>
        </p:nvSpPr>
        <p:spPr>
          <a:xfrm>
            <a:off x="3428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F703-0EEB-4665-A876-F79939FF4C02}" type="datetime">
              <a:rPr b="0" lang="en-US" sz="1200" spc="-1" strike="noStrike">
                <a:solidFill>
                  <a:srgbClr val="7f7f7f"/>
                </a:solidFill>
                <a:latin typeface="Eurostile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1"/>
          </p:nvPr>
        </p:nvSpPr>
        <p:spPr>
          <a:xfrm>
            <a:off x="363600" y="6356520"/>
            <a:ext cx="213048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Eurostile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2"/>
          </p:nvPr>
        </p:nvSpPr>
        <p:spPr>
          <a:xfrm>
            <a:off x="2590920" y="6356520"/>
            <a:ext cx="6681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Eurostile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193E-6026-4F9D-929A-EE0E2FDB427D}" type="slidenum">
              <a:rPr b="1" lang="en-US" sz="1200" spc="-1" strike="noStrike">
                <a:solidFill>
                  <a:srgbClr val="7f7f7f"/>
                </a:solidFill>
                <a:latin typeface="Eurosti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7"/>
    <p:sldLayoutId id="2147483910" r:id="rId8"/>
    <p:sldLayoutId id="2147483911" r:id="rId9"/>
    <p:sldLayoutId id="2147483912" r:id="rId10"/>
    <p:sldLayoutId id="2147483913" r:id="rId11"/>
    <p:sldLayoutId id="2147483914" r:id="rId12"/>
    <p:sldLayoutId id="2147483915" r:id="rId13"/>
    <p:sldLayoutId id="2147483916" r:id="rId14"/>
    <p:sldLayoutId id="2147483917" r:id="rId15"/>
    <p:sldLayoutId id="2147483918" r:id="rId16"/>
    <p:sldLayoutId id="2147483919" r:id="rId17"/>
    <p:sldLayoutId id="2147483920" r:id="rId18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Picture 6" descr="IES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35760" y="1012680"/>
            <a:ext cx="1297080" cy="238320"/>
          </a:xfrm>
          <a:prstGeom prst="rect">
            <a:avLst/>
          </a:prstGeom>
          <a:ln w="0">
            <a:noFill/>
          </a:ln>
        </p:spPr>
      </p:pic>
      <p:pic>
        <p:nvPicPr>
          <p:cNvPr id="922" name="Picture 6" descr="bevelDivider.png"/>
          <p:cNvPicPr/>
          <p:nvPr/>
        </p:nvPicPr>
        <p:blipFill>
          <a:blip r:embed="rId4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9" descr=""/>
          <p:cNvPicPr/>
          <p:nvPr/>
        </p:nvPicPr>
        <p:blipFill>
          <a:blip r:embed="rId5"/>
          <a:stretch/>
        </p:blipFill>
        <p:spPr>
          <a:xfrm>
            <a:off x="7924680" y="76320"/>
            <a:ext cx="1133640" cy="717480"/>
          </a:xfrm>
          <a:prstGeom prst="rect">
            <a:avLst/>
          </a:prstGeom>
          <a:ln w="0">
            <a:noFill/>
          </a:ln>
        </p:spPr>
      </p:pic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 type="dt" idx="63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56C1-3D86-4FCF-9C21-8FEBD18F7E45}" type="datetime">
              <a:rPr b="0" lang="en-US" sz="2400" spc="-1" strike="noStrike">
                <a:solidFill>
                  <a:srgbClr val="a8aeb5"/>
                </a:solidFill>
                <a:latin typeface="Eurostile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 type="sldNum" idx="64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2E19-3EB8-4282-BBC4-303B5E996CF9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 type="ftr" idx="65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d8691"/>
                </a:solidFill>
                <a:latin typeface="Eurostile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6"/>
    <p:sldLayoutId id="2147483923" r:id="rId7"/>
    <p:sldLayoutId id="2147483924" r:id="rId8"/>
    <p:sldLayoutId id="2147483925" r:id="rId9"/>
    <p:sldLayoutId id="2147483926" r:id="rId10"/>
    <p:sldLayoutId id="2147483927" r:id="rId11"/>
    <p:sldLayoutId id="2147483928" r:id="rId12"/>
    <p:sldLayoutId id="2147483929" r:id="rId13"/>
    <p:sldLayoutId id="2147483930" r:id="rId14"/>
    <p:sldLayoutId id="2147483931" r:id="rId15"/>
    <p:sldLayoutId id="2147483932" r:id="rId16"/>
    <p:sldLayoutId id="2147483933" r:id="rId17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Picture 6" descr="IES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35760" y="1012680"/>
            <a:ext cx="1297080" cy="2383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6" descr="bevelDivider.png"/>
          <p:cNvPicPr/>
          <p:nvPr/>
        </p:nvPicPr>
        <p:blipFill>
          <a:blip r:embed="rId4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9" descr=""/>
          <p:cNvPicPr/>
          <p:nvPr/>
        </p:nvPicPr>
        <p:blipFill>
          <a:blip r:embed="rId5"/>
          <a:stretch/>
        </p:blipFill>
        <p:spPr>
          <a:xfrm>
            <a:off x="7924680" y="76320"/>
            <a:ext cx="1133640" cy="7174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0" descr="SectionHeader-Bevel.png"/>
          <p:cNvPicPr/>
          <p:nvPr/>
        </p:nvPicPr>
        <p:blipFill>
          <a:blip r:embed="rId6"/>
          <a:stretch/>
        </p:blipFill>
        <p:spPr>
          <a:xfrm>
            <a:off x="928800" y="3559320"/>
            <a:ext cx="7315200" cy="19080"/>
          </a:xfrm>
          <a:prstGeom prst="rect">
            <a:avLst/>
          </a:prstGeom>
          <a:ln w="0">
            <a:noFill/>
          </a:ln>
        </p:spPr>
      </p:pic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 type="dt" idx="66"/>
          </p:nvPr>
        </p:nvSpPr>
        <p:spPr>
          <a:xfrm>
            <a:off x="3428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AAB8-0A45-4CDD-90C4-45572C456F8A}" type="datetime">
              <a:rPr b="0" lang="en-US" sz="1200" spc="-1" strike="noStrike">
                <a:solidFill>
                  <a:srgbClr val="7f7f7f"/>
                </a:solidFill>
                <a:latin typeface="Eurostile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 type="ftr" idx="67"/>
          </p:nvPr>
        </p:nvSpPr>
        <p:spPr>
          <a:xfrm>
            <a:off x="363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Eurostile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7"/>
    <p:sldLayoutId id="2147483936" r:id="rId8"/>
    <p:sldLayoutId id="2147483937" r:id="rId9"/>
    <p:sldLayoutId id="2147483938" r:id="rId10"/>
    <p:sldLayoutId id="2147483939" r:id="rId11"/>
    <p:sldLayoutId id="2147483940" r:id="rId12"/>
    <p:sldLayoutId id="2147483941" r:id="rId13"/>
    <p:sldLayoutId id="2147483942" r:id="rId14"/>
    <p:sldLayoutId id="2147483943" r:id="rId15"/>
    <p:sldLayoutId id="2147483944" r:id="rId16"/>
    <p:sldLayoutId id="2147483945" r:id="rId17"/>
    <p:sldLayoutId id="2147483946" r:id="rId18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Picture 6" descr="IES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35760" y="1012680"/>
            <a:ext cx="1297080" cy="23832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6" descr="bevelDivider.png"/>
          <p:cNvPicPr/>
          <p:nvPr/>
        </p:nvPicPr>
        <p:blipFill>
          <a:blip r:embed="rId4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9" descr=""/>
          <p:cNvPicPr/>
          <p:nvPr/>
        </p:nvPicPr>
        <p:blipFill>
          <a:blip r:embed="rId5"/>
          <a:stretch/>
        </p:blipFill>
        <p:spPr>
          <a:xfrm>
            <a:off x="7924680" y="76320"/>
            <a:ext cx="1133640" cy="717480"/>
          </a:xfrm>
          <a:prstGeom prst="rect">
            <a:avLst/>
          </a:prstGeom>
          <a:ln w="0">
            <a:noFill/>
          </a:ln>
        </p:spPr>
      </p:pic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 type="dt" idx="68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EEC7-4C8A-41F7-AD94-54FAF5962267}" type="datetime">
              <a:rPr b="0" lang="en-US" sz="2400" spc="-1" strike="noStrike">
                <a:solidFill>
                  <a:srgbClr val="a8aeb5"/>
                </a:solidFill>
                <a:latin typeface="Eurostile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 type="ftr" idx="69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d8691"/>
                </a:solidFill>
                <a:latin typeface="Eurostile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 type="sldNum" idx="70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55F2-012A-48E5-85E6-41D15E1AA676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6"/>
    <p:sldLayoutId id="2147483949" r:id="rId7"/>
    <p:sldLayoutId id="2147483950" r:id="rId8"/>
    <p:sldLayoutId id="2147483951" r:id="rId9"/>
    <p:sldLayoutId id="2147483952" r:id="rId10"/>
    <p:sldLayoutId id="2147483953" r:id="rId11"/>
    <p:sldLayoutId id="2147483954" r:id="rId12"/>
    <p:sldLayoutId id="2147483955" r:id="rId13"/>
    <p:sldLayoutId id="2147483956" r:id="rId14"/>
    <p:sldLayoutId id="2147483957" r:id="rId15"/>
    <p:sldLayoutId id="2147483958" r:id="rId16"/>
    <p:sldLayoutId id="2147483959" r:id="rId17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Picture 6" descr="IES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35760" y="1012680"/>
            <a:ext cx="1297080" cy="2383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6" descr="bevelDivider.png"/>
          <p:cNvPicPr/>
          <p:nvPr/>
        </p:nvPicPr>
        <p:blipFill>
          <a:blip r:embed="rId4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9" descr=""/>
          <p:cNvPicPr/>
          <p:nvPr/>
        </p:nvPicPr>
        <p:blipFill>
          <a:blip r:embed="rId5"/>
          <a:stretch/>
        </p:blipFill>
        <p:spPr>
          <a:xfrm>
            <a:off x="7924680" y="76320"/>
            <a:ext cx="1133640" cy="7174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0" descr="ComparisonBoxes.png"/>
          <p:cNvPicPr/>
          <p:nvPr/>
        </p:nvPicPr>
        <p:blipFill>
          <a:blip r:embed="rId6"/>
          <a:srcRect l="4558" t="28435" r="57797" b="7648"/>
          <a:stretch/>
        </p:blipFill>
        <p:spPr>
          <a:xfrm>
            <a:off x="363600" y="1949400"/>
            <a:ext cx="3475080" cy="429120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1" descr="ComparisonBoxes.png"/>
          <p:cNvPicPr/>
          <p:nvPr/>
        </p:nvPicPr>
        <p:blipFill>
          <a:blip r:embed="rId7"/>
          <a:srcRect l="4558" t="28435" r="57797" b="7648"/>
          <a:stretch/>
        </p:blipFill>
        <p:spPr>
          <a:xfrm>
            <a:off x="3992400" y="1944720"/>
            <a:ext cx="3475080" cy="4290840"/>
          </a:xfrm>
          <a:prstGeom prst="rect">
            <a:avLst/>
          </a:prstGeom>
          <a:ln w="0">
            <a:noFill/>
          </a:ln>
        </p:spPr>
      </p:pic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dt" idx="71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55F8-71D0-4532-8947-782BA3BBB5A6}" type="datetime">
              <a:rPr b="0" lang="en-US" sz="2400" spc="-1" strike="noStrike">
                <a:solidFill>
                  <a:srgbClr val="a8aeb5"/>
                </a:solidFill>
                <a:latin typeface="Eurostile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ftr" idx="72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d8691"/>
                </a:solidFill>
                <a:latin typeface="Eurostile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 type="sldNum" idx="73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76BE-A4D3-41C0-A6B6-34C5D664D51B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8"/>
    <p:sldLayoutId id="2147483962" r:id="rId9"/>
    <p:sldLayoutId id="2147483963" r:id="rId10"/>
    <p:sldLayoutId id="2147483964" r:id="rId11"/>
    <p:sldLayoutId id="2147483965" r:id="rId12"/>
    <p:sldLayoutId id="2147483966" r:id="rId13"/>
    <p:sldLayoutId id="2147483967" r:id="rId14"/>
    <p:sldLayoutId id="2147483968" r:id="rId15"/>
    <p:sldLayoutId id="2147483969" r:id="rId16"/>
    <p:sldLayoutId id="2147483970" r:id="rId17"/>
    <p:sldLayoutId id="2147483971" r:id="rId18"/>
    <p:sldLayoutId id="2147483972" r:id="rId19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9" name="Picture 6" descr="IES logo"/>
          <p:cNvPicPr/>
          <p:nvPr/>
        </p:nvPicPr>
        <p:blipFill>
          <a:blip r:embed="rId2"/>
          <a:stretch/>
        </p:blipFill>
        <p:spPr>
          <a:xfrm>
            <a:off x="7835760" y="1012680"/>
            <a:ext cx="1297080" cy="23832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6" descr="bevelDivider.png"/>
          <p:cNvPicPr/>
          <p:nvPr/>
        </p:nvPicPr>
        <p:blipFill>
          <a:blip r:embed="rId3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9" descr=""/>
          <p:cNvPicPr/>
          <p:nvPr/>
        </p:nvPicPr>
        <p:blipFill>
          <a:blip r:embed="rId4"/>
          <a:stretch/>
        </p:blipFill>
        <p:spPr>
          <a:xfrm>
            <a:off x="7924680" y="76320"/>
            <a:ext cx="1133640" cy="717480"/>
          </a:xfrm>
          <a:prstGeom prst="rect">
            <a:avLst/>
          </a:prstGeom>
          <a:ln w="0">
            <a:noFill/>
          </a:ln>
        </p:spPr>
      </p:pic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 type="dt" idx="74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E50B-51EA-471D-B97C-612B455116BE}" type="datetime">
              <a:rPr b="0" lang="en-US" sz="2400" spc="-1" strike="noStrike">
                <a:solidFill>
                  <a:srgbClr val="a8aeb5"/>
                </a:solidFill>
                <a:latin typeface="Eurostile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 type="ftr" idx="75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d8691"/>
                </a:solidFill>
                <a:latin typeface="Eurostile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 type="sldNum" idx="76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B127-D2C7-4CDD-A434-B76E18B24180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Picture 6" descr="IES logo"/>
          <p:cNvPicPr/>
          <p:nvPr/>
        </p:nvPicPr>
        <p:blipFill>
          <a:blip r:embed="rId2"/>
          <a:stretch/>
        </p:blipFill>
        <p:spPr>
          <a:xfrm>
            <a:off x="7835760" y="1012680"/>
            <a:ext cx="1297080" cy="23832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6" descr="bevelDivider.png"/>
          <p:cNvPicPr/>
          <p:nvPr/>
        </p:nvPicPr>
        <p:blipFill>
          <a:blip r:embed="rId3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9" descr=""/>
          <p:cNvPicPr/>
          <p:nvPr/>
        </p:nvPicPr>
        <p:blipFill>
          <a:blip r:embed="rId4"/>
          <a:stretch/>
        </p:blipFill>
        <p:spPr>
          <a:xfrm>
            <a:off x="7924680" y="76320"/>
            <a:ext cx="1133640" cy="717480"/>
          </a:xfrm>
          <a:prstGeom prst="rect">
            <a:avLst/>
          </a:prstGeom>
          <a:ln w="0">
            <a:noFill/>
          </a:ln>
        </p:spPr>
      </p:pic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77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053B-D198-4C76-A5DE-49416F391410}" type="datetime">
              <a:rPr b="0" lang="en-US" sz="2400" spc="-1" strike="noStrike">
                <a:solidFill>
                  <a:srgbClr val="a8aeb5"/>
                </a:solidFill>
                <a:latin typeface="Eurostile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ftr" idx="78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d8691"/>
                </a:solidFill>
                <a:latin typeface="Eurostile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sldNum" idx="79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339C-E2D3-4BF8-880C-E0C79E285104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7" name="Picture 6" descr="IES logo"/>
          <p:cNvPicPr/>
          <p:nvPr/>
        </p:nvPicPr>
        <p:blipFill>
          <a:blip r:embed="rId2"/>
          <a:stretch/>
        </p:blipFill>
        <p:spPr>
          <a:xfrm>
            <a:off x="7835760" y="1012680"/>
            <a:ext cx="1297080" cy="23832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6" descr="bevelDivider.png"/>
          <p:cNvPicPr/>
          <p:nvPr/>
        </p:nvPicPr>
        <p:blipFill>
          <a:blip r:embed="rId3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pic>
        <p:nvPicPr>
          <p:cNvPr id="1189" name="Picture 9" descr=""/>
          <p:cNvPicPr/>
          <p:nvPr/>
        </p:nvPicPr>
        <p:blipFill>
          <a:blip r:embed="rId4"/>
          <a:stretch/>
        </p:blipFill>
        <p:spPr>
          <a:xfrm>
            <a:off x="7924680" y="76320"/>
            <a:ext cx="1133640" cy="717480"/>
          </a:xfrm>
          <a:prstGeom prst="rect">
            <a:avLst/>
          </a:prstGeom>
          <a:ln w="0">
            <a:noFill/>
          </a:ln>
        </p:spPr>
      </p:pic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 type="dt" idx="80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5143-F670-401C-A1FC-2CA6F3DC3517}" type="datetime">
              <a:rPr b="0" lang="en-US" sz="2400" spc="-1" strike="noStrike">
                <a:solidFill>
                  <a:srgbClr val="a8aeb5"/>
                </a:solidFill>
                <a:latin typeface="Eurostile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 type="ftr" idx="81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d8691"/>
                </a:solidFill>
                <a:latin typeface="Eurostile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 type="sldNum" idx="82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729C-22C7-4D09-9F68-E23F8CE0DBBD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1" name="Picture 6" descr="IES logo"/>
          <p:cNvPicPr/>
          <p:nvPr/>
        </p:nvPicPr>
        <p:blipFill>
          <a:blip r:embed="rId2"/>
          <a:stretch/>
        </p:blipFill>
        <p:spPr>
          <a:xfrm>
            <a:off x="7835760" y="1012680"/>
            <a:ext cx="1297080" cy="238320"/>
          </a:xfrm>
          <a:prstGeom prst="rect">
            <a:avLst/>
          </a:prstGeom>
          <a:ln w="0">
            <a:noFill/>
          </a:ln>
        </p:spPr>
      </p:pic>
      <p:pic>
        <p:nvPicPr>
          <p:cNvPr id="1232" name="Picture 6" descr="bevelDivider.png"/>
          <p:cNvPicPr/>
          <p:nvPr/>
        </p:nvPicPr>
        <p:blipFill>
          <a:blip r:embed="rId3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pic>
        <p:nvPicPr>
          <p:cNvPr id="1233" name="Picture 9" descr=""/>
          <p:cNvPicPr/>
          <p:nvPr/>
        </p:nvPicPr>
        <p:blipFill>
          <a:blip r:embed="rId4"/>
          <a:stretch/>
        </p:blipFill>
        <p:spPr>
          <a:xfrm>
            <a:off x="7924680" y="76320"/>
            <a:ext cx="1133640" cy="717480"/>
          </a:xfrm>
          <a:prstGeom prst="rect">
            <a:avLst/>
          </a:prstGeom>
          <a:ln w="0">
            <a:noFill/>
          </a:ln>
        </p:spPr>
      </p:pic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83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AC74-C61C-49CD-9A8D-214732295904}" type="datetime">
              <a:rPr b="0" lang="en-US" sz="2400" spc="-1" strike="noStrike">
                <a:solidFill>
                  <a:srgbClr val="a8aeb5"/>
                </a:solidFill>
                <a:latin typeface="Eurostile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84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d8691"/>
                </a:solidFill>
                <a:latin typeface="Eurostile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85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63BF-D6FB-4DEA-A318-116C43F1EBDA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0954-7856-4FDD-98F6-F8E381DD32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5" name="Picture 6" descr="IES logo"/>
          <p:cNvPicPr/>
          <p:nvPr/>
        </p:nvPicPr>
        <p:blipFill>
          <a:blip r:embed="rId2"/>
          <a:stretch/>
        </p:blipFill>
        <p:spPr>
          <a:xfrm>
            <a:off x="7835760" y="1012680"/>
            <a:ext cx="1297080" cy="238320"/>
          </a:xfrm>
          <a:prstGeom prst="rect">
            <a:avLst/>
          </a:prstGeom>
          <a:ln w="0">
            <a:noFill/>
          </a:ln>
        </p:spPr>
      </p:pic>
      <p:pic>
        <p:nvPicPr>
          <p:cNvPr id="1276" name="Picture 6" descr="bevelDivider.png"/>
          <p:cNvPicPr/>
          <p:nvPr/>
        </p:nvPicPr>
        <p:blipFill>
          <a:blip r:embed="rId3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pic>
        <p:nvPicPr>
          <p:cNvPr id="1277" name="Picture 9" descr=""/>
          <p:cNvPicPr/>
          <p:nvPr/>
        </p:nvPicPr>
        <p:blipFill>
          <a:blip r:embed="rId4"/>
          <a:stretch/>
        </p:blipFill>
        <p:spPr>
          <a:xfrm>
            <a:off x="7924680" y="76320"/>
            <a:ext cx="1133640" cy="717480"/>
          </a:xfrm>
          <a:prstGeom prst="rect">
            <a:avLst/>
          </a:prstGeom>
          <a:ln w="0">
            <a:noFill/>
          </a:ln>
        </p:spPr>
      </p:pic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dt" idx="86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357D-3BF9-43C6-BF08-ABFEC441A7CC}" type="datetime">
              <a:rPr b="0" lang="en-US" sz="2400" spc="-1" strike="noStrike">
                <a:solidFill>
                  <a:srgbClr val="a8aeb5"/>
                </a:solidFill>
                <a:latin typeface="Eurostile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 type="ftr" idx="87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d8691"/>
                </a:solidFill>
                <a:latin typeface="Eurostile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 type="sldNum" idx="88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7EE8-1DE4-44CA-B336-48300A7BECC6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9" name="Picture 6" descr="IES logo"/>
          <p:cNvPicPr/>
          <p:nvPr/>
        </p:nvPicPr>
        <p:blipFill>
          <a:blip r:embed="rId2"/>
          <a:stretch/>
        </p:blipFill>
        <p:spPr>
          <a:xfrm>
            <a:off x="7835760" y="1012680"/>
            <a:ext cx="1297080" cy="23832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6" descr="bevelDivider.png"/>
          <p:cNvPicPr/>
          <p:nvPr/>
        </p:nvPicPr>
        <p:blipFill>
          <a:blip r:embed="rId3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pic>
        <p:nvPicPr>
          <p:cNvPr id="1321" name="Picture 9" descr=""/>
          <p:cNvPicPr/>
          <p:nvPr/>
        </p:nvPicPr>
        <p:blipFill>
          <a:blip r:embed="rId4"/>
          <a:stretch/>
        </p:blipFill>
        <p:spPr>
          <a:xfrm>
            <a:off x="7924680" y="76320"/>
            <a:ext cx="1133640" cy="717480"/>
          </a:xfrm>
          <a:prstGeom prst="rect">
            <a:avLst/>
          </a:prstGeom>
          <a:ln w="0">
            <a:noFill/>
          </a:ln>
        </p:spPr>
      </p:pic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 type="dt" idx="89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3F3E-7118-449A-A3D3-147B9675711B}" type="datetime">
              <a:rPr b="0" lang="en-US" sz="2400" spc="-1" strike="noStrike">
                <a:solidFill>
                  <a:srgbClr val="a8aeb5"/>
                </a:solidFill>
                <a:latin typeface="Eurostile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 type="ftr" idx="90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d8691"/>
                </a:solidFill>
                <a:latin typeface="Eurostile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 type="sldNum" idx="91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3EA4-BAF3-4B31-B172-8965BAA9166A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IES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35760" y="1012680"/>
            <a:ext cx="1297080" cy="2383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405E-0176-4199-A648-D73F4EDF8CC0}" type="datetime">
              <a:rPr b="0" lang="en-US" sz="2400" spc="-1" strike="noStrike">
                <a:solidFill>
                  <a:srgbClr val="a8aeb5"/>
                </a:solidFill>
                <a:latin typeface="Eurostile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1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902B-FFD3-482E-A76C-F881019EB6EF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6" descr="bevelDivider.png"/>
          <p:cNvPicPr/>
          <p:nvPr/>
        </p:nvPicPr>
        <p:blipFill>
          <a:blip r:embed="rId4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5"/>
          <p:cNvSpPr>
            <a:spLocks noGrp="1"/>
          </p:cNvSpPr>
          <p:nvPr>
            <p:ph type="ftr" idx="12"/>
          </p:nvPr>
        </p:nvSpPr>
        <p:spPr>
          <a:xfrm rot="16200000">
            <a:off x="6023520" y="3461400"/>
            <a:ext cx="459900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d8691"/>
                </a:solidFill>
                <a:latin typeface="Eurostile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9" descr=""/>
          <p:cNvPicPr/>
          <p:nvPr/>
        </p:nvPicPr>
        <p:blipFill>
          <a:blip r:embed="rId5"/>
          <a:stretch/>
        </p:blipFill>
        <p:spPr>
          <a:xfrm>
            <a:off x="7924680" y="76320"/>
            <a:ext cx="1133640" cy="71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6" descr="IES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35760" y="1012680"/>
            <a:ext cx="1297080" cy="2383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36C2-D77D-4A1B-93E6-D7C8CE29311A}" type="datetime">
              <a:rPr b="0" lang="en-US" sz="2400" spc="-1" strike="noStrike">
                <a:solidFill>
                  <a:srgbClr val="a8aeb5"/>
                </a:solidFill>
                <a:latin typeface="Eurostile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14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01FA-0DD5-4759-8515-99F1E51B602F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6" descr="bevelDivider.png"/>
          <p:cNvPicPr/>
          <p:nvPr/>
        </p:nvPicPr>
        <p:blipFill>
          <a:blip r:embed="rId4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 rot="16200000">
            <a:off x="6023520" y="3461400"/>
            <a:ext cx="459900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d8691"/>
                </a:solidFill>
                <a:latin typeface="Eurostile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9" descr=""/>
          <p:cNvPicPr/>
          <p:nvPr/>
        </p:nvPicPr>
        <p:blipFill>
          <a:blip r:embed="rId5"/>
          <a:stretch/>
        </p:blipFill>
        <p:spPr>
          <a:xfrm>
            <a:off x="7924680" y="76320"/>
            <a:ext cx="1133640" cy="71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6" descr="IES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35760" y="1012680"/>
            <a:ext cx="1297080" cy="2383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bevelDivider.png"/>
          <p:cNvPicPr/>
          <p:nvPr/>
        </p:nvPicPr>
        <p:blipFill>
          <a:blip r:embed="rId4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"/>
          <p:cNvPicPr/>
          <p:nvPr/>
        </p:nvPicPr>
        <p:blipFill>
          <a:blip r:embed="rId5"/>
          <a:stretch/>
        </p:blipFill>
        <p:spPr>
          <a:xfrm>
            <a:off x="7924680" y="76320"/>
            <a:ext cx="1133640" cy="7174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titleSlideBevel.png"/>
          <p:cNvPicPr/>
          <p:nvPr/>
        </p:nvPicPr>
        <p:blipFill>
          <a:blip r:embed="rId6"/>
          <a:stretch/>
        </p:blipFill>
        <p:spPr>
          <a:xfrm>
            <a:off x="361800" y="4761000"/>
            <a:ext cx="5121360" cy="172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7000-08DA-4352-B1CF-4C2563FF3C95}" type="datetime">
              <a:rPr b="0" lang="en-US" sz="2400" spc="-1" strike="noStrike">
                <a:solidFill>
                  <a:srgbClr val="a8aeb5"/>
                </a:solidFill>
                <a:latin typeface="Eurostile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 rot="16200000">
            <a:off x="6023520" y="3461400"/>
            <a:ext cx="459900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d8691"/>
                </a:solidFill>
                <a:latin typeface="Eurostile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9208-75C4-411E-AE27-6D56E24954BC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6" descr="IES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35760" y="1012680"/>
            <a:ext cx="1297080" cy="238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bevelDivider.png"/>
          <p:cNvPicPr/>
          <p:nvPr/>
        </p:nvPicPr>
        <p:blipFill>
          <a:blip r:embed="rId4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9" descr=""/>
          <p:cNvPicPr/>
          <p:nvPr/>
        </p:nvPicPr>
        <p:blipFill>
          <a:blip r:embed="rId5"/>
          <a:stretch/>
        </p:blipFill>
        <p:spPr>
          <a:xfrm>
            <a:off x="7924680" y="76320"/>
            <a:ext cx="1133640" cy="7174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A818-54BF-4D64-88BA-EF60C34244DD}" type="datetime">
              <a:rPr b="0" lang="en-US" sz="2400" spc="-1" strike="noStrike">
                <a:solidFill>
                  <a:srgbClr val="a8aeb5"/>
                </a:solidFill>
                <a:latin typeface="Eurostile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sldNum" idx="20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D03B-AE59-4D79-90F1-0FB73E31EE24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ftr" idx="21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d8691"/>
                </a:solidFill>
                <a:latin typeface="Eurostile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6" descr="IES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35760" y="1012680"/>
            <a:ext cx="1297080" cy="2383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bevelDivider.png"/>
          <p:cNvPicPr/>
          <p:nvPr/>
        </p:nvPicPr>
        <p:blipFill>
          <a:blip r:embed="rId4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9" descr=""/>
          <p:cNvPicPr/>
          <p:nvPr/>
        </p:nvPicPr>
        <p:blipFill>
          <a:blip r:embed="rId5"/>
          <a:stretch/>
        </p:blipFill>
        <p:spPr>
          <a:xfrm>
            <a:off x="7924680" y="76320"/>
            <a:ext cx="1133640" cy="7174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0" descr="titleSlideBevel.png"/>
          <p:cNvPicPr/>
          <p:nvPr/>
        </p:nvPicPr>
        <p:blipFill>
          <a:blip r:embed="rId6"/>
          <a:stretch/>
        </p:blipFill>
        <p:spPr>
          <a:xfrm>
            <a:off x="361800" y="4761000"/>
            <a:ext cx="5121360" cy="1728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3428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DD35-F13D-45EE-92F7-0ED5D68AA155}" type="datetime">
              <a:rPr b="0" lang="en-US" sz="1200" spc="-1" strike="noStrike">
                <a:solidFill>
                  <a:srgbClr val="7f7f7f"/>
                </a:solidFill>
                <a:latin typeface="Eurostile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63600" y="6356520"/>
            <a:ext cx="213048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Eurostile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2590920" y="6356520"/>
            <a:ext cx="6681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Eurostile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37CA-4173-4593-A7B7-DA7DF74F9D45}" type="slidenum">
              <a:rPr b="1" lang="en-US" sz="1200" spc="-1" strike="noStrike">
                <a:solidFill>
                  <a:srgbClr val="7f7f7f"/>
                </a:solidFill>
                <a:latin typeface="Eurosti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6" descr="IES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35760" y="1012680"/>
            <a:ext cx="1297080" cy="2383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bevelDivider.png"/>
          <p:cNvPicPr/>
          <p:nvPr/>
        </p:nvPicPr>
        <p:blipFill>
          <a:blip r:embed="rId4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9" descr=""/>
          <p:cNvPicPr/>
          <p:nvPr/>
        </p:nvPicPr>
        <p:blipFill>
          <a:blip r:embed="rId5"/>
          <a:stretch/>
        </p:blipFill>
        <p:spPr>
          <a:xfrm>
            <a:off x="7924680" y="76320"/>
            <a:ext cx="1133640" cy="71748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3860-0EA5-4D31-BEA2-41A18EFF2AA2}" type="datetime">
              <a:rPr b="0" lang="en-US" sz="2400" spc="-1" strike="noStrike">
                <a:solidFill>
                  <a:srgbClr val="a8aeb5"/>
                </a:solidFill>
                <a:latin typeface="Eurostile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sldNum" idx="26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E919-2EAE-4A48-B75E-F02C323CC69F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ftr" idx="27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d8691"/>
                </a:solidFill>
                <a:latin typeface="Eurostile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9.pn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16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TextBox 1"/>
          <p:cNvSpPr/>
          <p:nvPr/>
        </p:nvSpPr>
        <p:spPr>
          <a:xfrm>
            <a:off x="1295280" y="12952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 2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Century Center for Research and Development in Cognition and Science Instru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Rectangle 3"/>
          <p:cNvSpPr/>
          <p:nvPr/>
        </p:nvSpPr>
        <p:spPr>
          <a:xfrm>
            <a:off x="1219320" y="5867280"/>
            <a:ext cx="7086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unded by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ough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rant R305C080009 to The 21st Century Partnership for STEM Education. The opinions expressed are those of the authors and do not represent views of the U.S. Department of Educ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5" name="Picture 6" descr="IES logo"/>
          <p:cNvPicPr/>
          <p:nvPr/>
        </p:nvPicPr>
        <p:blipFill>
          <a:blip r:embed="rId1"/>
          <a:stretch/>
        </p:blipFill>
        <p:spPr>
          <a:xfrm>
            <a:off x="457200" y="457200"/>
            <a:ext cx="2028960" cy="371520"/>
          </a:xfrm>
          <a:prstGeom prst="rect">
            <a:avLst/>
          </a:prstGeom>
          <a:ln w="0">
            <a:noFill/>
          </a:ln>
        </p:spPr>
      </p:pic>
      <p:sp>
        <p:nvSpPr>
          <p:cNvPr id="136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8" name="Picture 14" descr="Temple University"/>
          <p:cNvPicPr/>
          <p:nvPr/>
        </p:nvPicPr>
        <p:blipFill>
          <a:blip r:embed="rId2"/>
          <a:stretch/>
        </p:blipFill>
        <p:spPr>
          <a:xfrm>
            <a:off x="6477120" y="2743200"/>
            <a:ext cx="1143000" cy="380880"/>
          </a:xfrm>
          <a:prstGeom prst="rect">
            <a:avLst/>
          </a:prstGeom>
          <a:ln w="0">
            <a:noFill/>
          </a:ln>
        </p:spPr>
      </p:pic>
      <p:pic>
        <p:nvPicPr>
          <p:cNvPr id="1369" name="Picture 16" descr="Research for Better Technology"/>
          <p:cNvPicPr/>
          <p:nvPr/>
        </p:nvPicPr>
        <p:blipFill>
          <a:blip r:embed="rId3"/>
          <a:stretch/>
        </p:blipFill>
        <p:spPr>
          <a:xfrm>
            <a:off x="5562720" y="5029200"/>
            <a:ext cx="1981080" cy="647640"/>
          </a:xfrm>
          <a:prstGeom prst="rect">
            <a:avLst/>
          </a:prstGeom>
          <a:ln w="0">
            <a:noFill/>
          </a:ln>
        </p:spPr>
      </p:pic>
      <p:grpSp>
        <p:nvGrpSpPr>
          <p:cNvPr id="1370" name="Group 72"/>
          <p:cNvGrpSpPr/>
          <p:nvPr/>
        </p:nvGrpSpPr>
        <p:grpSpPr>
          <a:xfrm>
            <a:off x="1295280" y="4038480"/>
            <a:ext cx="2971800" cy="685800"/>
            <a:chOff x="1295280" y="4038480"/>
            <a:chExt cx="2971800" cy="685800"/>
          </a:xfrm>
        </p:grpSpPr>
        <p:pic>
          <p:nvPicPr>
            <p:cNvPr id="1371" name="Picture 13" descr=""/>
            <p:cNvPicPr/>
            <p:nvPr/>
          </p:nvPicPr>
          <p:blipFill>
            <a:blip r:embed="rId4"/>
            <a:stretch/>
          </p:blipFill>
          <p:spPr>
            <a:xfrm>
              <a:off x="1521360" y="4177800"/>
              <a:ext cx="2680920" cy="2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2" name="AutoShape 20"/>
            <p:cNvSpPr/>
            <p:nvPr/>
          </p:nvSpPr>
          <p:spPr>
            <a:xfrm>
              <a:off x="1295280" y="4038480"/>
              <a:ext cx="2971800" cy="685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3" name="Rectangle 30"/>
            <p:cNvSpPr/>
            <p:nvPr/>
          </p:nvSpPr>
          <p:spPr>
            <a:xfrm>
              <a:off x="2054160" y="4419360"/>
              <a:ext cx="18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f6389"/>
                  </a:solidFill>
                  <a:latin typeface="Calibri"/>
                </a:rPr>
                <a:t>University of Pennsylvania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74" name="Picture 17" descr=""/>
          <p:cNvPicPr/>
          <p:nvPr/>
        </p:nvPicPr>
        <p:blipFill>
          <a:blip r:embed="rId5"/>
          <a:stretch/>
        </p:blipFill>
        <p:spPr>
          <a:xfrm>
            <a:off x="2209680" y="2666880"/>
            <a:ext cx="990720" cy="857520"/>
          </a:xfrm>
          <a:prstGeom prst="rect">
            <a:avLst/>
          </a:prstGeom>
          <a:ln w="0">
            <a:noFill/>
          </a:ln>
        </p:spPr>
      </p:pic>
      <p:pic>
        <p:nvPicPr>
          <p:cNvPr id="1375" name="Picture 14" descr=""/>
          <p:cNvPicPr/>
          <p:nvPr/>
        </p:nvPicPr>
        <p:blipFill>
          <a:blip r:embed="rId6"/>
          <a:stretch/>
        </p:blipFill>
        <p:spPr>
          <a:xfrm>
            <a:off x="5105520" y="2438280"/>
            <a:ext cx="1218960" cy="1143000"/>
          </a:xfrm>
          <a:prstGeom prst="rect">
            <a:avLst/>
          </a:prstGeom>
          <a:ln w="0">
            <a:noFill/>
          </a:ln>
        </p:spPr>
      </p:pic>
      <p:pic>
        <p:nvPicPr>
          <p:cNvPr id="1376" name="Picture 2" descr="21PSTEM_white_var_3.jpg"/>
          <p:cNvPicPr/>
          <p:nvPr/>
        </p:nvPicPr>
        <p:blipFill>
          <a:blip r:embed="rId7"/>
          <a:stretch/>
        </p:blipFill>
        <p:spPr>
          <a:xfrm>
            <a:off x="1295280" y="5029200"/>
            <a:ext cx="1143000" cy="685800"/>
          </a:xfrm>
          <a:prstGeom prst="rect">
            <a:avLst/>
          </a:prstGeom>
          <a:ln w="0">
            <a:noFill/>
          </a:ln>
        </p:spPr>
      </p:pic>
      <p:sp>
        <p:nvSpPr>
          <p:cNvPr id="1377" name="Text Box 47"/>
          <p:cNvSpPr/>
          <p:nvPr/>
        </p:nvSpPr>
        <p:spPr>
          <a:xfrm>
            <a:off x="2438280" y="5029200"/>
            <a:ext cx="2057400" cy="685800"/>
          </a:xfrm>
          <a:prstGeom prst="rect">
            <a:avLst/>
          </a:prstGeom>
          <a:gradFill rotWithShape="0">
            <a:gsLst>
              <a:gs pos="0">
                <a:srgbClr val="3d836f"/>
              </a:gs>
              <a:gs pos="100000">
                <a:srgbClr val="005c4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The 21</a:t>
            </a:r>
            <a:r>
              <a:rPr b="0" lang="en-US" sz="1200" spc="-1" strike="noStrike" baseline="30000">
                <a:solidFill>
                  <a:srgbClr val="ffffff"/>
                </a:solidFill>
                <a:latin typeface="Gill Sans MT"/>
              </a:rPr>
              <a:t>st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Century Partnershi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for STEM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8" name="logo" descr="http://www.gse.upenn.edu/sites/gse.upenn.edu/themes/gse/PennGSE_logo.jpg"/>
          <p:cNvPicPr/>
          <p:nvPr/>
        </p:nvPicPr>
        <p:blipFill>
          <a:blip r:embed="rId8"/>
          <a:stretch/>
        </p:blipFill>
        <p:spPr>
          <a:xfrm>
            <a:off x="5410080" y="4038480"/>
            <a:ext cx="2438640" cy="587520"/>
          </a:xfrm>
          <a:prstGeom prst="rect">
            <a:avLst/>
          </a:prstGeom>
          <a:ln w="0">
            <a:noFill/>
          </a:ln>
        </p:spPr>
      </p:pic>
      <p:sp>
        <p:nvSpPr>
          <p:cNvPr id="1379" name="Straight Connector 56"/>
          <p:cNvSpPr/>
          <p:nvPr/>
        </p:nvSpPr>
        <p:spPr>
          <a:xfrm flipH="1">
            <a:off x="3276360" y="2133000"/>
            <a:ext cx="1066680" cy="990360"/>
          </a:xfrm>
          <a:prstGeom prst="line">
            <a:avLst/>
          </a:prstGeom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Straight Connector 57"/>
          <p:cNvSpPr/>
          <p:nvPr/>
        </p:nvSpPr>
        <p:spPr>
          <a:xfrm flipH="1" flipV="1">
            <a:off x="4343400" y="2133720"/>
            <a:ext cx="914400" cy="380880"/>
          </a:xfrm>
          <a:prstGeom prst="line">
            <a:avLst/>
          </a:prstGeom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Straight Connector 58"/>
          <p:cNvSpPr/>
          <p:nvPr/>
        </p:nvSpPr>
        <p:spPr>
          <a:xfrm flipH="1">
            <a:off x="3429000" y="2133720"/>
            <a:ext cx="914400" cy="1676160"/>
          </a:xfrm>
          <a:prstGeom prst="line">
            <a:avLst/>
          </a:prstGeom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traight Connector 59"/>
          <p:cNvSpPr/>
          <p:nvPr/>
        </p:nvSpPr>
        <p:spPr>
          <a:xfrm flipH="1" flipV="1">
            <a:off x="4343040" y="2133720"/>
            <a:ext cx="1143000" cy="1676160"/>
          </a:xfrm>
          <a:prstGeom prst="line">
            <a:avLst/>
          </a:prstGeom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Straight Connector 60"/>
          <p:cNvSpPr/>
          <p:nvPr/>
        </p:nvSpPr>
        <p:spPr>
          <a:xfrm>
            <a:off x="4343400" y="2133720"/>
            <a:ext cx="76320" cy="2819160"/>
          </a:xfrm>
          <a:prstGeom prst="line">
            <a:avLst/>
          </a:prstGeom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Straight Connector 71"/>
          <p:cNvSpPr/>
          <p:nvPr/>
        </p:nvSpPr>
        <p:spPr>
          <a:xfrm>
            <a:off x="4342680" y="2133720"/>
            <a:ext cx="1143000" cy="3124080"/>
          </a:xfrm>
          <a:prstGeom prst="line">
            <a:avLst/>
          </a:prstGeom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TextBox 1"/>
          <p:cNvSpPr/>
          <p:nvPr/>
        </p:nvSpPr>
        <p:spPr>
          <a:xfrm>
            <a:off x="3200400" y="272880"/>
            <a:ext cx="51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ole:  The 2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Century Partnership for STEM Educ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TextBox 2"/>
          <p:cNvSpPr/>
          <p:nvPr/>
        </p:nvSpPr>
        <p:spPr>
          <a:xfrm>
            <a:off x="762120" y="1676520"/>
            <a:ext cx="7619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I  F. Joseph Merlino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ad project by practicing “Servant Leadership”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eping focus on the big purpose of the study and maintain integrity of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iginal proposal intent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eping roles of partners within the lines, setting  decision boundaries ,     helping to define issues and facilitate consensus ,  maintaining communication bridges between partne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act with IES, oversee budge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ject Director: Gary Cooper and 5 staff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Donna, Bates, Nancy, John, Deanna, Lisa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age/facilitate  all 12 elements of process as it related to school sites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siness team as Fiscal agent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Elysa, Giselle, Neil)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npower = 7.O F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9" name="Picture 2" descr=""/>
          <p:cNvPicPr/>
          <p:nvPr/>
        </p:nvPicPr>
        <p:blipFill>
          <a:blip r:embed="rId1"/>
          <a:stretch/>
        </p:blipFill>
        <p:spPr>
          <a:xfrm>
            <a:off x="358920" y="147600"/>
            <a:ext cx="253656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5" name="Title 2" descr=""/>
          <p:cNvPicPr/>
          <p:nvPr/>
        </p:nvPicPr>
        <p:blipFill>
          <a:blip r:embed="rId1"/>
          <a:stretch/>
        </p:blipFill>
        <p:spPr>
          <a:xfrm>
            <a:off x="73080" y="360360"/>
            <a:ext cx="7370640" cy="901800"/>
          </a:xfrm>
          <a:prstGeom prst="rect">
            <a:avLst/>
          </a:prstGeom>
          <a:ln w="0">
            <a:noFill/>
          </a:ln>
        </p:spPr>
      </p:pic>
      <p:pic>
        <p:nvPicPr>
          <p:cNvPr id="1386" name="Content Placeholder 4" descr=""/>
          <p:cNvPicPr/>
          <p:nvPr/>
        </p:nvPicPr>
        <p:blipFill>
          <a:blip r:embed="rId2"/>
          <a:stretch/>
        </p:blipFill>
        <p:spPr>
          <a:xfrm>
            <a:off x="244440" y="1474920"/>
            <a:ext cx="7199280" cy="4657680"/>
          </a:xfrm>
          <a:prstGeom prst="rect">
            <a:avLst/>
          </a:prstGeom>
          <a:ln w="0">
            <a:noFill/>
          </a:ln>
        </p:spPr>
      </p:pic>
      <p:pic>
        <p:nvPicPr>
          <p:cNvPr id="1387" name="Footer Placeholder 6" descr=""/>
          <p:cNvPicPr/>
          <p:nvPr/>
        </p:nvPicPr>
        <p:blipFill>
          <a:blip r:embed="rId3"/>
          <a:stretch/>
        </p:blipFill>
        <p:spPr>
          <a:xfrm>
            <a:off x="8077320" y="835200"/>
            <a:ext cx="487080" cy="5260680"/>
          </a:xfrm>
          <a:prstGeom prst="rect">
            <a:avLst/>
          </a:prstGeom>
          <a:ln w="0">
            <a:noFill/>
          </a:ln>
        </p:spPr>
      </p:pic>
      <p:pic>
        <p:nvPicPr>
          <p:cNvPr id="1388" name="Slide Number Placeholder 7" descr=""/>
          <p:cNvPicPr/>
          <p:nvPr/>
        </p:nvPicPr>
        <p:blipFill>
          <a:blip r:embed="rId4"/>
          <a:stretch/>
        </p:blipFill>
        <p:spPr>
          <a:xfrm>
            <a:off x="8034480" y="5803920"/>
            <a:ext cx="1170000" cy="961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9" name="Picture 17" descr=""/>
          <p:cNvPicPr/>
          <p:nvPr/>
        </p:nvPicPr>
        <p:blipFill>
          <a:blip r:embed="rId1"/>
          <a:srcRect l="-7187" t="-8167" r="-7187" b="-8167"/>
          <a:stretch/>
        </p:blipFill>
        <p:spPr>
          <a:xfrm>
            <a:off x="111240" y="1001880"/>
            <a:ext cx="2354040" cy="1820520"/>
          </a:xfrm>
          <a:prstGeom prst="rect">
            <a:avLst/>
          </a:prstGeom>
          <a:ln w="0">
            <a:noFill/>
          </a:ln>
        </p:spPr>
      </p:pic>
      <p:sp>
        <p:nvSpPr>
          <p:cNvPr id="1390" name="TextBox 13"/>
          <p:cNvSpPr/>
          <p:nvPr/>
        </p:nvSpPr>
        <p:spPr>
          <a:xfrm>
            <a:off x="2465280" y="716040"/>
            <a:ext cx="5267520" cy="29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Eurostile"/>
              </a:rPr>
              <a:t>Chris Schunn, Co-PI  </a:t>
            </a: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Eurostile"/>
              </a:rPr>
              <a:t>Assoc. Professor of Psychology, Intelligent Sys Program, Learning Sciences and Polic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Eurostile"/>
              </a:rPr>
              <a:t>Research Scientist, LRD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Eurostile"/>
              </a:rPr>
              <a:t>Kalyani Raghavan   </a:t>
            </a:r>
            <a:r>
              <a:rPr b="0" i="1" lang="en-US" sz="1600" spc="-1" strike="noStrike">
                <a:solidFill>
                  <a:srgbClr val="000000"/>
                </a:solidFill>
                <a:latin typeface="Eurostile"/>
              </a:rPr>
              <a:t>LRDC </a:t>
            </a:r>
            <a:r>
              <a:rPr b="0" lang="en-US" sz="1600" spc="-1" strike="noStrike">
                <a:solidFill>
                  <a:srgbClr val="000000"/>
                </a:solidFill>
                <a:latin typeface="Eurostile"/>
              </a:rPr>
              <a:t>Research Associate,</a:t>
            </a:r>
            <a:r>
              <a:rPr b="0" i="1" lang="en-US" sz="16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Eurostile"/>
              </a:rPr>
              <a:t>and Director of Model Assisted Reasoning in Science projec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Eurostile"/>
              </a:rPr>
              <a:t>Tim Nokes  </a:t>
            </a:r>
            <a:r>
              <a:rPr b="0" lang="en-US" sz="1600" spc="-1" strike="noStrike">
                <a:solidFill>
                  <a:srgbClr val="000000"/>
                </a:solidFill>
                <a:latin typeface="Eurostile"/>
              </a:rPr>
              <a:t>Asst. Professor, Department of Psychology Director, Cognitive Science Learning Labora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TextBox 15"/>
          <p:cNvSpPr/>
          <p:nvPr/>
        </p:nvSpPr>
        <p:spPr>
          <a:xfrm>
            <a:off x="2386080" y="3246480"/>
            <a:ext cx="534672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Eurostile"/>
              </a:rPr>
              <a:t>Nora Newcombe, Co-PI   </a:t>
            </a:r>
            <a:r>
              <a:rPr b="0" lang="en-US" sz="1600" spc="-1" strike="noStrike">
                <a:solidFill>
                  <a:srgbClr val="000000"/>
                </a:solidFill>
                <a:latin typeface="Eurostile"/>
              </a:rPr>
              <a:t>Professor of Psychology and PI of the NSF Spatial Intelligence and Learning Cen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Eurostile"/>
              </a:rPr>
              <a:t>Jennifer Cromley, Co-PI  </a:t>
            </a:r>
            <a:r>
              <a:rPr b="0" lang="en-US" sz="1600" spc="-1" strike="noStrike">
                <a:solidFill>
                  <a:srgbClr val="000000"/>
                </a:solidFill>
                <a:latin typeface="Eurostile"/>
              </a:rPr>
              <a:t>Asst Professor of Educational Psychology, 2010 recipient Presidential Early Career Award for Scientists and Engineers (PECASE)</a:t>
            </a: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TextBox 16"/>
          <p:cNvSpPr/>
          <p:nvPr/>
        </p:nvSpPr>
        <p:spPr>
          <a:xfrm>
            <a:off x="3784680" y="5232240"/>
            <a:ext cx="36115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Eurostile"/>
              </a:rPr>
              <a:t>Chris Massey, Co-PI  </a:t>
            </a: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Eurostile"/>
              </a:rPr>
              <a:t>Director for Research and Education, Institute for Research in Cognitive Science</a:t>
            </a:r>
            <a:r>
              <a:rPr b="0" i="1" lang="en-US" sz="16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TextBox 17"/>
          <p:cNvSpPr/>
          <p:nvPr/>
        </p:nvSpPr>
        <p:spPr>
          <a:xfrm>
            <a:off x="2486160" y="249120"/>
            <a:ext cx="516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urostile"/>
              </a:rPr>
              <a:t>Cognitive Science Senior Team Memb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4" name="Footer Placeholder 8" descr=""/>
          <p:cNvPicPr/>
          <p:nvPr/>
        </p:nvPicPr>
        <p:blipFill>
          <a:blip r:embed="rId2"/>
          <a:stretch/>
        </p:blipFill>
        <p:spPr>
          <a:xfrm>
            <a:off x="8077320" y="835200"/>
            <a:ext cx="487080" cy="5260680"/>
          </a:xfrm>
          <a:prstGeom prst="rect">
            <a:avLst/>
          </a:prstGeom>
          <a:ln w="0">
            <a:noFill/>
          </a:ln>
        </p:spPr>
      </p:pic>
      <p:pic>
        <p:nvPicPr>
          <p:cNvPr id="1395" name="Slide Number Placeholder 9" descr=""/>
          <p:cNvPicPr/>
          <p:nvPr/>
        </p:nvPicPr>
        <p:blipFill>
          <a:blip r:embed="rId3"/>
          <a:stretch/>
        </p:blipFill>
        <p:spPr>
          <a:xfrm>
            <a:off x="8034480" y="5803920"/>
            <a:ext cx="1170000" cy="961920"/>
          </a:xfrm>
          <a:prstGeom prst="rect">
            <a:avLst/>
          </a:prstGeom>
          <a:ln w="0">
            <a:noFill/>
          </a:ln>
        </p:spPr>
      </p:pic>
      <p:pic>
        <p:nvPicPr>
          <p:cNvPr id="1396" name="Picture 18" descr="800px-Temple_text_logo.svg.png"/>
          <p:cNvPicPr/>
          <p:nvPr/>
        </p:nvPicPr>
        <p:blipFill>
          <a:blip r:embed="rId4"/>
          <a:stretch/>
        </p:blipFill>
        <p:spPr>
          <a:xfrm>
            <a:off x="431640" y="4356000"/>
            <a:ext cx="1702080" cy="465120"/>
          </a:xfrm>
          <a:prstGeom prst="rect">
            <a:avLst/>
          </a:prstGeom>
          <a:ln w="0">
            <a:noFill/>
          </a:ln>
        </p:spPr>
      </p:pic>
      <p:pic>
        <p:nvPicPr>
          <p:cNvPr id="1397" name="Picture 19" descr="silc_small3.jpg"/>
          <p:cNvPicPr/>
          <p:nvPr/>
        </p:nvPicPr>
        <p:blipFill>
          <a:blip r:embed="rId5"/>
          <a:stretch/>
        </p:blipFill>
        <p:spPr>
          <a:xfrm>
            <a:off x="677880" y="3132000"/>
            <a:ext cx="1081080" cy="1081080"/>
          </a:xfrm>
          <a:prstGeom prst="rect">
            <a:avLst/>
          </a:prstGeom>
          <a:ln w="0">
            <a:noFill/>
          </a:ln>
        </p:spPr>
      </p:pic>
      <p:grpSp>
        <p:nvGrpSpPr>
          <p:cNvPr id="1398" name="Group 22"/>
          <p:cNvGrpSpPr/>
          <p:nvPr/>
        </p:nvGrpSpPr>
        <p:grpSpPr>
          <a:xfrm>
            <a:off x="195120" y="5245200"/>
            <a:ext cx="3424320" cy="842760"/>
            <a:chOff x="195120" y="5245200"/>
            <a:chExt cx="3424320" cy="842760"/>
          </a:xfrm>
        </p:grpSpPr>
        <p:sp>
          <p:nvSpPr>
            <p:cNvPr id="1399" name="AutoShape 20"/>
            <p:cNvSpPr/>
            <p:nvPr/>
          </p:nvSpPr>
          <p:spPr>
            <a:xfrm>
              <a:off x="195120" y="5245200"/>
              <a:ext cx="3424320" cy="842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00" name="Picture 13" descr=""/>
            <p:cNvPicPr/>
            <p:nvPr/>
          </p:nvPicPr>
          <p:blipFill>
            <a:blip r:embed="rId6"/>
            <a:stretch/>
          </p:blipFill>
          <p:spPr>
            <a:xfrm>
              <a:off x="250920" y="5275440"/>
              <a:ext cx="3310200" cy="29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1" name="Picture 25" descr="penn_logo.jpg"/>
            <p:cNvPicPr/>
            <p:nvPr/>
          </p:nvPicPr>
          <p:blipFill>
            <a:blip r:embed="rId7"/>
            <a:stretch/>
          </p:blipFill>
          <p:spPr>
            <a:xfrm>
              <a:off x="1220040" y="5565600"/>
              <a:ext cx="1560600" cy="507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Rectangle 2"/>
          <p:cNvSpPr/>
          <p:nvPr/>
        </p:nvSpPr>
        <p:spPr>
          <a:xfrm>
            <a:off x="2441520" y="119556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807080"/>
                <a:tab algn="l" pos="9613800"/>
              </a:tabLst>
            </a:pPr>
            <a:r>
              <a:rPr b="1" lang="en-US" sz="2400" spc="-1" strike="noStrike">
                <a:solidFill>
                  <a:srgbClr val="820000"/>
                </a:solidFill>
                <a:latin typeface="Calibri"/>
                <a:ea typeface="MS PGothic"/>
              </a:rPr>
              <a:t>Textbo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Rectangle 3"/>
          <p:cNvSpPr/>
          <p:nvPr/>
        </p:nvSpPr>
        <p:spPr>
          <a:xfrm>
            <a:off x="5665680" y="1195560"/>
            <a:ext cx="16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807080"/>
                <a:tab algn="l" pos="9613800"/>
              </a:tabLst>
            </a:pPr>
            <a:r>
              <a:rPr b="1" lang="en-US" sz="2400" spc="-1" strike="noStrike">
                <a:solidFill>
                  <a:srgbClr val="008100"/>
                </a:solidFill>
                <a:latin typeface="Calibri"/>
                <a:ea typeface="MS PGothic"/>
              </a:rPr>
              <a:t>Kit bas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04" name="Straight Arrow Connector 5"/>
          <p:cNvCxnSpPr/>
          <p:nvPr/>
        </p:nvCxnSpPr>
        <p:spPr>
          <a:xfrm>
            <a:off x="4078440" y="1426680"/>
            <a:ext cx="168480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405" name="TextBox 8"/>
          <p:cNvSpPr/>
          <p:nvPr/>
        </p:nvSpPr>
        <p:spPr>
          <a:xfrm>
            <a:off x="1012680" y="2412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e Design Challen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06" name=""/>
          <p:cNvGraphicFramePr/>
          <p:nvPr/>
        </p:nvGraphicFramePr>
        <p:xfrm>
          <a:off x="411120" y="1735200"/>
          <a:ext cx="7120080" cy="4214880"/>
        </p:xfrm>
        <a:graphic>
          <a:graphicData uri="http://schemas.openxmlformats.org/drawingml/2006/table">
            <a:tbl>
              <a:tblPr/>
              <a:tblGrid>
                <a:gridCol w="2001960"/>
                <a:gridCol w="2495520"/>
                <a:gridCol w="1434960"/>
                <a:gridCol w="1187640"/>
              </a:tblGrid>
              <a:tr h="1834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 Bold"/>
                        </a:rPr>
                        <a:t>Curricul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8180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20000"/>
                          </a:solidFill>
                          <a:latin typeface="Calibri"/>
                        </a:rPr>
                        <a:t>Ho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100"/>
                          </a:solidFill>
                          <a:latin typeface="Calibri"/>
                        </a:rPr>
                        <a:t>Full Option Science System </a:t>
                      </a:r>
                      <a:r>
                        <a:rPr b="0" lang="en-US" sz="1800" spc="-1" strike="noStrike">
                          <a:solidFill>
                            <a:srgbClr val="008100"/>
                          </a:solidFill>
                          <a:latin typeface="Calibri"/>
                        </a:rPr>
                        <a:t>(FOS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5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 Bold"/>
                        </a:rPr>
                        <a:t>Biological Scie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8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20000"/>
                          </a:solidFill>
                          <a:latin typeface="Calibri"/>
                        </a:rPr>
                        <a:t>Cells, Heredity, &amp; Class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100"/>
                          </a:solidFill>
                          <a:latin typeface="Calibri"/>
                        </a:rPr>
                        <a:t>Diversity of Lif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1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 Bold"/>
                        </a:rPr>
                        <a:t>Earth Scie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8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20000"/>
                          </a:solidFill>
                          <a:latin typeface="Calibri"/>
                        </a:rPr>
                        <a:t>Inside the Restless Ear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100"/>
                          </a:solidFill>
                          <a:latin typeface="Calibri"/>
                        </a:rPr>
                        <a:t>Earth His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100"/>
                          </a:solidFill>
                          <a:latin typeface="Calibri"/>
                        </a:rPr>
                        <a:t>Weather and 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 Bold"/>
                        </a:rPr>
                        <a:t>Physical Scie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8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20000"/>
                          </a:solidFill>
                          <a:latin typeface="Calibri"/>
                        </a:rPr>
                        <a:t>Introduction to Ma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8100"/>
                          </a:solidFill>
                          <a:latin typeface="Calibri"/>
                        </a:rPr>
                        <a:t>N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407" name="Picture 11" descr="isbn.aspx.jpeg"/>
          <p:cNvPicPr/>
          <p:nvPr/>
        </p:nvPicPr>
        <p:blipFill>
          <a:blip r:embed="rId1"/>
          <a:stretch/>
        </p:blipFill>
        <p:spPr>
          <a:xfrm>
            <a:off x="3800520" y="2176560"/>
            <a:ext cx="944640" cy="1244520"/>
          </a:xfrm>
          <a:prstGeom prst="rect">
            <a:avLst/>
          </a:prstGeom>
          <a:ln w="0">
            <a:noFill/>
          </a:ln>
        </p:spPr>
      </p:pic>
      <p:pic>
        <p:nvPicPr>
          <p:cNvPr id="1408" name="Picture 13" descr="51lagudGuTL._SL500_AA300_.jpg"/>
          <p:cNvPicPr/>
          <p:nvPr/>
        </p:nvPicPr>
        <p:blipFill>
          <a:blip r:embed="rId2"/>
          <a:stretch/>
        </p:blipFill>
        <p:spPr>
          <a:xfrm>
            <a:off x="2657520" y="2173320"/>
            <a:ext cx="939600" cy="1247760"/>
          </a:xfrm>
          <a:prstGeom prst="rect">
            <a:avLst/>
          </a:prstGeom>
          <a:ln w="0">
            <a:noFill/>
          </a:ln>
        </p:spPr>
      </p:pic>
      <p:pic>
        <p:nvPicPr>
          <p:cNvPr id="1409" name="Picture 14" descr="7426407.jpg"/>
          <p:cNvPicPr/>
          <p:nvPr/>
        </p:nvPicPr>
        <p:blipFill>
          <a:blip r:embed="rId3"/>
          <a:stretch/>
        </p:blipFill>
        <p:spPr>
          <a:xfrm>
            <a:off x="5186520" y="2332080"/>
            <a:ext cx="2090520" cy="1171440"/>
          </a:xfrm>
          <a:prstGeom prst="rect">
            <a:avLst/>
          </a:prstGeom>
          <a:ln w="0">
            <a:noFill/>
          </a:ln>
        </p:spPr>
      </p:pic>
      <p:pic>
        <p:nvPicPr>
          <p:cNvPr id="1410" name="Footer Placeholder 15" descr=""/>
          <p:cNvPicPr/>
          <p:nvPr/>
        </p:nvPicPr>
        <p:blipFill>
          <a:blip r:embed="rId4"/>
          <a:stretch/>
        </p:blipFill>
        <p:spPr>
          <a:xfrm>
            <a:off x="8077320" y="835200"/>
            <a:ext cx="487080" cy="5260680"/>
          </a:xfrm>
          <a:prstGeom prst="rect">
            <a:avLst/>
          </a:prstGeom>
          <a:ln w="0">
            <a:noFill/>
          </a:ln>
        </p:spPr>
      </p:pic>
      <p:pic>
        <p:nvPicPr>
          <p:cNvPr id="1411" name="Slide Number Placeholder 16" descr=""/>
          <p:cNvPicPr/>
          <p:nvPr/>
        </p:nvPicPr>
        <p:blipFill>
          <a:blip r:embed="rId5"/>
          <a:stretch/>
        </p:blipFill>
        <p:spPr>
          <a:xfrm>
            <a:off x="8034480" y="5803920"/>
            <a:ext cx="1170000" cy="961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2" name="Footer Placeholder 1" descr=""/>
          <p:cNvPicPr/>
          <p:nvPr/>
        </p:nvPicPr>
        <p:blipFill>
          <a:blip r:embed="rId1"/>
          <a:stretch/>
        </p:blipFill>
        <p:spPr>
          <a:xfrm>
            <a:off x="8077320" y="835200"/>
            <a:ext cx="487080" cy="5260680"/>
          </a:xfrm>
          <a:prstGeom prst="rect">
            <a:avLst/>
          </a:prstGeom>
          <a:ln w="0">
            <a:noFill/>
          </a:ln>
        </p:spPr>
      </p:pic>
      <p:pic>
        <p:nvPicPr>
          <p:cNvPr id="1413" name="Slide Number Placeholder 2" descr=""/>
          <p:cNvPicPr/>
          <p:nvPr/>
        </p:nvPicPr>
        <p:blipFill>
          <a:blip r:embed="rId2"/>
          <a:stretch/>
        </p:blipFill>
        <p:spPr>
          <a:xfrm>
            <a:off x="8034480" y="5803920"/>
            <a:ext cx="1170000" cy="961920"/>
          </a:xfrm>
          <a:prstGeom prst="rect">
            <a:avLst/>
          </a:prstGeom>
          <a:ln w="0">
            <a:noFill/>
          </a:ln>
        </p:spPr>
      </p:pic>
      <p:pic>
        <p:nvPicPr>
          <p:cNvPr id="1414" name="Picture 3" descr=""/>
          <p:cNvPicPr/>
          <p:nvPr/>
        </p:nvPicPr>
        <p:blipFill>
          <a:blip r:embed="rId3"/>
          <a:stretch/>
        </p:blipFill>
        <p:spPr>
          <a:xfrm>
            <a:off x="685800" y="2484360"/>
            <a:ext cx="6324480" cy="20113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TextBox 4"/>
          <p:cNvSpPr/>
          <p:nvPr/>
        </p:nvSpPr>
        <p:spPr>
          <a:xfrm>
            <a:off x="1219320" y="1066680"/>
            <a:ext cx="380988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 Recruit schools for study, 180+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TextBox 5"/>
          <p:cNvSpPr/>
          <p:nvPr/>
        </p:nvSpPr>
        <p:spPr>
          <a:xfrm>
            <a:off x="1219320" y="2438280"/>
            <a:ext cx="6476760" cy="368280"/>
          </a:xfrm>
          <a:prstGeom prst="rect">
            <a:avLst/>
          </a:prstGeom>
          <a:solidFill>
            <a:srgbClr val="6abb33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 Design Prof Development for Cognitive  Science Treatment  A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TextBox 6"/>
          <p:cNvSpPr/>
          <p:nvPr/>
        </p:nvSpPr>
        <p:spPr>
          <a:xfrm>
            <a:off x="1219320" y="1981080"/>
            <a:ext cx="5790960" cy="368280"/>
          </a:xfrm>
          <a:prstGeom prst="rect">
            <a:avLst/>
          </a:prstGeom>
          <a:solidFill>
            <a:srgbClr val="6abb33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 Create  6 Cognitive Science Modified Units, 3 + 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TextBox 7"/>
          <p:cNvSpPr/>
          <p:nvPr/>
        </p:nvSpPr>
        <p:spPr>
          <a:xfrm>
            <a:off x="1219320" y="1523880"/>
            <a:ext cx="5790960" cy="368280"/>
          </a:xfrm>
          <a:prstGeom prst="rect">
            <a:avLst/>
          </a:prstGeom>
          <a:solidFill>
            <a:srgbClr val="ccc1da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Randomize schools into 3 groups, T1, T2 and Contro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TextBox 8"/>
          <p:cNvSpPr/>
          <p:nvPr/>
        </p:nvSpPr>
        <p:spPr>
          <a:xfrm>
            <a:off x="1219320" y="3352680"/>
            <a:ext cx="579096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. Deliver Prof Development  to teachers + facilitate PL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TextBox 9"/>
          <p:cNvSpPr/>
          <p:nvPr/>
        </p:nvSpPr>
        <p:spPr>
          <a:xfrm>
            <a:off x="1219320" y="2895480"/>
            <a:ext cx="579096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. Design Prof Development for Content Treatment A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TextBox 10"/>
          <p:cNvSpPr/>
          <p:nvPr/>
        </p:nvSpPr>
        <p:spPr>
          <a:xfrm>
            <a:off x="1219320" y="3809880"/>
            <a:ext cx="5790960" cy="368280"/>
          </a:xfrm>
          <a:prstGeom prst="rect">
            <a:avLst/>
          </a:prstGeom>
          <a:solidFill>
            <a:srgbClr val="ccc1da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. Develop six end-of-unit assess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TextBox 11"/>
          <p:cNvSpPr/>
          <p:nvPr/>
        </p:nvSpPr>
        <p:spPr>
          <a:xfrm>
            <a:off x="1219320" y="4343400"/>
            <a:ext cx="586728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. Print, deliver and collect  student end-of-unit assess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TextBox 14"/>
          <p:cNvSpPr/>
          <p:nvPr/>
        </p:nvSpPr>
        <p:spPr>
          <a:xfrm>
            <a:off x="1219320" y="4800600"/>
            <a:ext cx="5867280" cy="368280"/>
          </a:xfrm>
          <a:prstGeom prst="rect">
            <a:avLst/>
          </a:prstGeom>
          <a:solidFill>
            <a:srgbClr val="ccc1da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. Develop teacher content tests, SEC survey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TextBox 15"/>
          <p:cNvSpPr/>
          <p:nvPr/>
        </p:nvSpPr>
        <p:spPr>
          <a:xfrm>
            <a:off x="1219320" y="5257800"/>
            <a:ext cx="586728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. Administer teacher content tests, SEC survey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TextBox 16"/>
          <p:cNvSpPr/>
          <p:nvPr/>
        </p:nvSpPr>
        <p:spPr>
          <a:xfrm>
            <a:off x="1219320" y="6172200"/>
            <a:ext cx="5943600" cy="368280"/>
          </a:xfrm>
          <a:prstGeom prst="rect">
            <a:avLst/>
          </a:prstGeom>
          <a:solidFill>
            <a:srgbClr val="ccc1da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. Analyze dat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TextBox 17"/>
          <p:cNvSpPr/>
          <p:nvPr/>
        </p:nvSpPr>
        <p:spPr>
          <a:xfrm>
            <a:off x="1371600" y="3049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cess to Test Cognitive Scientist’s Modificat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27" name="Straight Arrow Connector 19"/>
          <p:cNvCxnSpPr/>
          <p:nvPr/>
        </p:nvCxnSpPr>
        <p:spPr>
          <a:xfrm flipH="1">
            <a:off x="684000" y="1068480"/>
            <a:ext cx="3600" cy="5410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8" name="TextBox 21"/>
          <p:cNvSpPr/>
          <p:nvPr/>
        </p:nvSpPr>
        <p:spPr>
          <a:xfrm>
            <a:off x="1219320" y="5715000"/>
            <a:ext cx="624816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1. Collect 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grade student level state test data + previous yea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TextBox 23"/>
          <p:cNvSpPr/>
          <p:nvPr/>
        </p:nvSpPr>
        <p:spPr>
          <a:xfrm>
            <a:off x="6553080" y="106668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evise and repea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or 2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cohor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Oval 24"/>
          <p:cNvSpPr/>
          <p:nvPr/>
        </p:nvSpPr>
        <p:spPr>
          <a:xfrm>
            <a:off x="6934320" y="914400"/>
            <a:ext cx="2209680" cy="762120"/>
          </a:xfrm>
          <a:prstGeom prst="ellipse">
            <a:avLst/>
          </a:prstGeom>
          <a:solidFill>
            <a:srgbClr val="ffff00">
              <a:alpha val="3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1" name="Picture 2" descr=""/>
          <p:cNvPicPr/>
          <p:nvPr/>
        </p:nvPicPr>
        <p:blipFill>
          <a:blip r:embed="rId1"/>
          <a:stretch/>
        </p:blipFill>
        <p:spPr>
          <a:xfrm>
            <a:off x="2819520" y="209520"/>
            <a:ext cx="5790960" cy="6542280"/>
          </a:xfrm>
          <a:prstGeom prst="rect">
            <a:avLst/>
          </a:prstGeom>
          <a:ln w="0">
            <a:noFill/>
          </a:ln>
        </p:spPr>
      </p:pic>
      <p:sp>
        <p:nvSpPr>
          <p:cNvPr id="1432" name="TextBox 3"/>
          <p:cNvSpPr/>
          <p:nvPr/>
        </p:nvSpPr>
        <p:spPr>
          <a:xfrm>
            <a:off x="304920" y="1676520"/>
            <a:ext cx="2057400" cy="2288520"/>
          </a:xfrm>
          <a:prstGeom prst="rect">
            <a:avLst/>
          </a:prstGeom>
          <a:solidFill>
            <a:srgbClr val="cc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 Deliver Prof Development  to teachers + facilitate PL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g Sci Arm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Picture 2" descr=""/>
          <p:cNvPicPr/>
          <p:nvPr/>
        </p:nvPicPr>
        <p:blipFill>
          <a:blip r:embed="rId1"/>
          <a:stretch/>
        </p:blipFill>
        <p:spPr>
          <a:xfrm>
            <a:off x="3124080" y="334800"/>
            <a:ext cx="5486400" cy="6255000"/>
          </a:xfrm>
          <a:prstGeom prst="rect">
            <a:avLst/>
          </a:prstGeom>
          <a:ln w="0">
            <a:noFill/>
          </a:ln>
        </p:spPr>
      </p:pic>
      <p:sp>
        <p:nvSpPr>
          <p:cNvPr id="1434" name="TextBox 2"/>
          <p:cNvSpPr/>
          <p:nvPr/>
        </p:nvSpPr>
        <p:spPr>
          <a:xfrm>
            <a:off x="304920" y="1676520"/>
            <a:ext cx="2438280" cy="2288520"/>
          </a:xfrm>
          <a:prstGeom prst="rect">
            <a:avLst/>
          </a:prstGeom>
          <a:solidFill>
            <a:srgbClr val="cc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 Deliver Prof Development  to teachers + facilitate PL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tent Arm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Picture 2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1436" name="TextBox 3"/>
          <p:cNvSpPr/>
          <p:nvPr/>
        </p:nvSpPr>
        <p:spPr>
          <a:xfrm>
            <a:off x="380880" y="533520"/>
            <a:ext cx="80773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. Print, deliver and collect  student end-of-unit assess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7T04:26:51Z</dcterms:created>
  <dc:creator>F Joseph Merlino</dc:creator>
  <dc:description/>
  <dc:language>en-US</dc:language>
  <cp:lastModifiedBy> </cp:lastModifiedBy>
  <dcterms:modified xsi:type="dcterms:W3CDTF">2011-09-07T05:45:43Z</dcterms:modified>
  <cp:revision>6</cp:revision>
  <dc:subject/>
  <dc:title>PowerPoint Presentation</dc:title>
</cp:coreProperties>
</file>