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2D2-1CA8-4E82-B85D-12047DC1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897-2C42-476B-8A99-7417DEB4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711AF5-CB2C-470A-9111-6C38C32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0A382-ED7D-46AA-8684-5011DB3D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8246C4-6E5A-4116-BAAA-ACFC8307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74617-8094-4AB4-9B71-D5030C4D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B87CF-E9F9-4610-A18E-24A9FB2F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B3DBBD-A02C-43B4-BF90-CAA20BD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07796B-6AE1-49F3-92E3-A6700F0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9BBBD3-C697-408F-B89D-5BECC4FC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D849F1-0919-405A-9E67-A98836DC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A39-D87D-4373-A424-B7CC68AF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180-0914-4358-AFEA-2DB3F759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60AEBD-4911-4E88-AC4E-ECDD9A94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98BF2D-BE04-4961-9C15-14C0926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E9FA3A-87A8-432D-9162-B8AC73C6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6F2CE8-E2BE-4A6C-83A1-4B7A0D7F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87D89D-511D-4BBB-8843-807128F7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5C0E24-C15C-4885-95F1-055F2C27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D41C44-97C4-4A0B-981B-2BB00268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51D930-B5F4-41BD-B29B-368BD21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15C2D9-8C5F-431A-9CC3-CDC08E2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6D1A-8373-483C-92E2-DD5280E9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AE136A-E8FE-47A2-8A3D-AFB3358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D600D5-CDA6-4570-B78A-05D46880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DB4A93-2B48-4997-A6FF-624F3CA7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CE9816-B652-4E2A-A063-4FBD29EB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11F0D2-BA12-4739-A0D3-B709F6CE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0F630E-E24A-4F10-B719-C3DDBAE7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6291FB-1CF6-4F93-AE5F-0087A800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49EAB2-2020-4851-8242-3504FE91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5A1936-013B-48C3-9F1D-0387D8DB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5A6794-601C-44A2-B8DB-67CC920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84AE-D3AC-4E52-9C56-98EF049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914821-6DAF-4887-BDD5-21274D0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FDAD7D-1F35-4DF4-831D-FF1A9C0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80B009-FF61-484B-A7CA-EAB555A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E2A0E5-ED72-418C-98E8-67C79CC6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D2CD6D-606B-49C4-A403-29CA642F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BA2C4-37C5-4AF8-9EFB-C06E5BA8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75CB83-C433-4B20-A923-4BF203A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91C0C6-A89F-4C88-9D47-DAC2E5D6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3BEC61-157C-46DC-9130-B58CAE5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75BF4-D859-4102-9AD4-400A6646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1A99-A769-40F5-B2D0-4E1B8F50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4B07D8-F262-4206-9779-EC4BDB9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68A8B9-276D-46BB-9FA4-F65C8DD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10B2B9-0A7C-4419-98D4-DA932427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21207B-09DA-413B-BC0D-1CA3C2C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F0BA6A-660C-4EFB-8DD9-396C234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175A5E-0ACB-4B18-B3C0-87AFF403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0C290D-FA35-41FF-9AB9-3432BBAA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DD6264-BBE1-47F3-8580-E714A04B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1143AA-BA85-4EF7-B451-8F5EE52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EDA915-CE47-45EA-9579-3CD5B5E2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18B8-B015-4E76-91EF-18E7DD6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7E03B3-8082-44F4-9326-5AE0849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0E0F56-F5DD-4225-A04F-113878F4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745E81-7BBC-4E3C-9403-2E02A015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D9BE24-5824-48EE-9C65-2EFB3B8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55708D-11EC-47EA-81C2-44C16A43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3A2553-581B-45AC-A189-9C4CB52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B91C04-E475-44DC-807B-F9AD736F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A3BD9E-4758-4BA7-BC96-129BE519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B430B7-D039-4C12-8690-92E0BCBF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355BFC-889D-48DD-BE5B-E5A1D939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4DF2-0D20-4D6F-95F7-4CCFDF10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013B89-5789-46B7-867A-E4FC5293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91442F-5C72-4BF9-9AE6-1F58D276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08D209-F45B-495C-A111-D9222DBC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9FA317-7D66-4245-9E8B-171CF587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8578B6-C694-408B-A46C-974296B7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EB37CC-134F-49D6-9C57-5AA0B30D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5DD12E-D7AC-4B3D-A461-487C3A1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9F9BBA-4D45-4F12-B04B-1314F4C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088664-D5BE-40C0-B07A-5E0E998E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FA0368-F7B9-452B-8EEE-E3241407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7457-9195-4B4B-9E51-1DFD9598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204EF2-6977-42F8-A8E4-E4A1C30C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91456B-B935-42A4-8130-5969655A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77BBAD-9F80-493D-8BC0-0CE76E12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570FCF-CD21-4247-A02A-DB1BAE44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568593-549A-4C0E-9BE1-0342B54A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C3AAA8-A781-4E64-8DFF-4094F5A9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4F24C4-6702-4325-B0B8-35BC08A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25BC8B-FEB3-4065-8F3E-0BDAE3E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57C2B4-319E-4FA8-8C90-9D37566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07CAB1-E0F9-4AC0-A9AE-D149900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BB06-EDB1-4B34-9AF6-14DBD05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E1DE6D-A562-47DE-8CE9-815DB08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68A5BE-59BD-486A-938C-F2294E1A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443656-CF67-4313-BDF8-976B3114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3D52B6-2B51-455C-AB2F-60D675A2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A7749F-13D9-4BBB-AA02-167AD78B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C6FECC-2283-420D-A51C-3DE2C809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2433FA-DFE8-4D71-9515-B9C755FD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A7D424-0374-40D8-9100-2B3C2F6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57EA6E-BECF-431A-886D-34A0FA32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931CE7-9B02-4DFE-961B-F9BCBF46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9FC-88F2-4AF5-922D-4FDE31F7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069D-142C-41C1-AA5D-A4D6B847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B707DC-B6B0-4D3B-A271-872FFAC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055DF1-E4CB-4DBA-98E5-DBA9C03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F5F709-BAE4-4916-B704-D1C766A7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57C99B-CED7-42AD-BDD9-DE099BE2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535151-EC13-4EFE-871B-D4B48702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1A37A4-066D-4C98-A04D-5B40562D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0F9DB1-0BD1-409F-B344-F4645B7C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92D256-7B7F-4798-B4E3-37642530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F19A5C-EC5E-4D22-A4DC-FFCA12D0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5EE996-E737-4C9F-B0F2-016C5FEA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794F-82B0-4E6A-B2E7-73392CD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1CF932-9227-4EA2-ABC1-001445B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D4FD09-E4F3-4F5D-BB55-3A9B658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8F1B0B-F2DA-4076-9A55-EA1334B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2D6D51-F3FC-4D08-99D9-6CFE69AA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875B73-EA51-4268-A073-AD0C6137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18CCA8-A4AC-4837-A148-1C630F82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078C60-7381-44AA-B650-626433FB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CD11F2-6228-4B11-A045-5DB2E68E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49176F-C1A1-4BA3-8715-25DE8EF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4F0E21-6A20-4154-9A48-A14CCC02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0A36-0BE1-4043-8A75-EA2E5CA9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A60F52-5822-4574-87E5-D06E6A08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DE2DAE-4EED-4C23-B1A8-8B9F6087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063E88-8694-416F-B28B-8497E0D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272DEF-B16B-469E-A37D-645DC25D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2325C7-1664-4360-B5AF-2EC2ADDE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40A076-4FF7-4AA9-A1B2-55E08F96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D044C8-4C94-4C7B-9974-2FD5FE0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555E50-5787-496B-90FE-4BEC972C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7E621B-F49B-41BC-8999-AF602AE5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359DBBD-7CBA-4963-BE45-C239F800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0210-7FA8-4C65-8854-EF9A1D02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42B270-F232-4D21-85BE-AD89072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CF7D5E-4A24-4AA5-B416-9420B216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9979F6-0078-4C03-9E1D-BA80D1C7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37464E9-4C74-4109-A773-88DF0C78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B5118B-9B6A-4098-B78A-E4F0500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B8B6B9-527C-43FD-8269-1F56DFC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3AC967-FDB9-48AD-9818-E742036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5BB951-9B90-42F1-A7A2-5749C80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5ADC3DD-5CF6-4573-ABC2-60EBF07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2C724E-1CA4-4483-8740-7B61F707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EEF0-2AA7-4057-9BE5-1839A408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BE45C8D-2F0B-4808-B1FF-2F67BA6D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1BA79F-7947-4855-A8AF-E0A34AC5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363C53A-10ED-4AAC-B3A6-C34AED79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22FB4E-7CCD-4ECE-816E-F27A14F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E0A4A7-199B-4236-8E17-75EC577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2B301D-BB7C-40A6-9088-FF1A2AD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2249DF-4216-4FC2-99FE-1286627C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FF350C-0A8C-4914-A257-4EBD140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36DBC7C-993E-4239-82A5-2F129E9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50D0EF-242C-4D02-8801-5BC3E6E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7D6D-C16F-492D-8C0F-E97FA767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B7B857-FE0B-454B-8E77-2D3F4C0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1EA40D-2C74-4133-AE35-D63BBBAE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5A204D-A0CC-4340-B034-AFEB0531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3A515D-EC3A-4457-A3C4-C4E9BE08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03875F-297E-47F4-9657-5B0AE556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3C0B86E-795F-4584-9E5B-886FF03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F7F89E6-DA22-4700-B863-FAE81E93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B00F33D-9D0F-4CB7-972F-2E6B3C8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7B38AC-921A-4EA3-BB55-A23E60D5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4CDCCCD-6E9C-45B3-9F96-0D66AB93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A7A0-EDAF-4718-BEF9-AB414DF9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92350D3-09C8-416F-8415-8E2EBAE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D7E58B-D20C-41EE-A560-AB8288D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E632155-8286-4CEA-A9DA-D9CC7A5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319C110-05F4-437C-9E99-5209FFD2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924F19-6C1B-471B-9500-C329E221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C5AA-A332-4B95-BB78-403B51B1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462409-BBD3-4CD1-B6DB-04710419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FF62422-ACCB-41BF-8B9A-FC223E36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296A43-867A-4880-9CC3-2BBC598F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494A-D892-4B91-B84C-EB136611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E63FCD-F32A-4D6F-B20C-3354AF31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165D51-6D58-4A98-A9E6-80B24FE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C34222-DE0F-4453-A9B0-6360239E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3BE4FC7-5014-4977-AA4F-1602ADBF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747CB2-3960-43E5-99CF-7A9F9E9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562F81-60F0-4831-B746-E5E03FA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68E138-7647-4CB3-A39D-97B94A6B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EA72092-601F-471E-AD38-8C600226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D4F047-8F6C-430C-9446-2BCEA6CF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6942EC0-2381-4926-BEE3-4815E035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FBD2-292B-40F1-86DF-40E81609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41854FC-8FC3-4D39-83D1-6680814F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6D0119-5EB4-4597-9C3B-214EC9A1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370A305-0389-4809-983D-F5EAE7AE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2BBA24B-C2F7-4599-B90B-BBDEA807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C04EDE-C719-4C4C-BABC-3CEA8F57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A8BB6F-7CAE-4E9C-869C-845C882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2AA451-88B8-4A4D-9C94-D841A3DA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ACAAEDA-2CF8-48ED-B237-36097075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841DCB-D2D2-45E2-B723-09CE913C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C00A8E2-B059-41F8-94AB-4775801C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6AA-B99A-4CB3-AA2F-D9EFF298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6E96B-A4D6-46B9-AFFC-4DE7395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A0BD191-0D1C-4FCF-9AE9-4C383260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997C338-6F5B-4DF6-8C4E-C0CBA71A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82A445-3028-4645-9ECE-116BEEB2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0B8007-1592-4B49-9C1B-76AEBD7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8544985-3AF9-4FBB-9221-D3726B9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A41D44F-50B0-4A31-B982-44799C4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6F20623-6A8D-422A-9FDE-8B6CA5F2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6CCEA3D-7ED1-448B-AAB3-DE92A047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A09D14A-DF3F-488E-9A65-E5E7939F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69E12D-F469-4FC4-A2AA-F80A4DD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F894-8252-4751-9C77-80ED8EA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24F2A39-E2CD-4B1F-A1B8-DFA65B75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1A04E31-C2E3-4EA2-AC0A-7431C13D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42D7564-7FA8-408F-9389-336AAA2C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CE3DD4C-B163-4183-B7DB-AC1151EC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6E2D870-70F0-42F7-AE04-6F08E8DF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4028E9-7707-4A5E-A57B-90C9B41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20E909D-23A6-4450-A24F-74D7B61D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FB716E6-E300-4562-8C0F-1FABD586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F50790-BCD1-413D-9343-76DECECF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5FBD267-12CC-456E-BD8A-7474CB0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385F-DA64-4DE8-94E9-A7D2DD9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ACCC155-F3B8-4E44-AB87-F3B0E296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323E141-9DEF-4E8C-AE3B-FA95C31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40CFAE3-C483-40B7-A3A3-03E42B4F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FB73181-8392-4FE3-BE28-E3B2D4BC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A4A5E66-3755-4EA2-87A1-4C44937B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22E0EF0-B19A-41EE-977B-6F229971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58FB1C-C93D-433A-99D5-CC28CEF2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64CC74-2EF7-4DC8-9632-CC2CD03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FE4C301-7D0A-4A65-B9CC-C84503A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93FAD5D-4E32-49EA-AF16-C7DF43D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22C7-6E45-4622-AEAA-7959AEC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D3D154B-F8F9-47E1-94E8-059A8B8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C70977F-CA6B-4BB9-8F86-69F5D66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483FB2A-3A75-4DA8-9791-E63E8F8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5950290-EC9D-4A2D-9B70-C3E86CBA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4CBF9E9-5D0F-4847-AE37-3E4016AB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CB21CB-54D3-4E52-81E5-35A06ECB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BB4612-7096-453F-B126-4FDCE34F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5C3DF70-F51F-4180-B47B-58672EC4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0E0704D-C4CE-4BD0-BD8A-317AE7FB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CD1CF02-0C6B-48C0-BA14-FAE58049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7D80-F3A0-451D-8F7D-E4698E32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8FB33C0-6D63-4784-8E38-3616595A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BAF52CD-1D5D-4EB5-AA22-844387CA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14681A4-2650-47F7-9303-DB07BD41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A45A667-E447-4F67-84D6-17BBBB4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F8AB129-EF10-4892-A9F3-801A129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5CA3247-C350-4A23-AEA4-C026193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3F1CFD0-C48B-4379-890C-EEA4FDE2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CAD0665-A2C5-4F05-9265-8F5DF5D1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9F33EFE-48BE-42DF-9E7D-8D964D82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6780AE4-B566-4E2D-9B93-AD4989FF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3D5C-024F-4BFE-9C10-D94BD4DD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66AD9DE-D172-45CF-99C8-F00A2DC1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D42AF7F-D1FA-4928-BA1D-53E9D520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613B5AE-E7ED-4FB4-8D6C-C56FF5B5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F37C490-0889-4681-8E39-86E4785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84729BB-1E71-4676-8E89-3BDB4752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F2B1805-576B-4411-906A-CD80FBC2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DD12F6B-B0B3-4F90-B470-86DBDCE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9B58F68-D5D9-4E47-BBA6-C689051D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20726E0-2745-4B68-B62C-ADFEA2F3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DBE57AF-E2D5-4F6B-B4AB-233B1B5C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13AA-D69F-4AAE-87F0-01E64BF2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064C702-9E55-4D27-A1E7-6C815251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EE758C8-9163-426A-8ABB-1E20FC60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280E2ED-87AB-4B88-A087-DFC64178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608FCE7-06A2-44D8-9A10-3EB70E9B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161922A-BB26-41E3-9D05-E6A5A26C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5AEEFAD-E732-47F5-A746-C67E8130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B71A827-0C5E-4C81-AD00-84C145F3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C68D375-B9FA-4AB6-B737-73385C6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F840C20-B9CA-45E4-8759-7B6CB09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D952FD7-7208-4E1C-9994-8ABE985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64FCA-49F2-4E14-AC44-0FC0BF1D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E252E5C-3924-489F-8FC9-F141E24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84C5CBC-D692-4653-ADBA-D709476A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4CD8E14-00A1-49AD-94C1-EC41B740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E92E0-5DB2-4F85-BF3C-7DC0C37C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56622-1570-47EA-9F71-B8F7ABF2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5D6-C28B-4C63-B18C-2D8E4D0A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D9EBD-1D53-4926-AE5A-A0297467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799F3-8468-4F54-8C05-24C557DF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F2C5F-36E5-4F91-AFFB-F0B5E119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44B5E-A92D-4E83-B46F-B3E4342A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424E6-B624-459C-8E10-75C96CB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998F2-1130-46D6-989C-CC0E65F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1E82D-0FBB-44F2-934F-6800A387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D6D27-F1CE-4D6E-BF18-95397C86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4D473-6D21-4E1A-A8E3-3C706F1E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F7B45-45D1-46A5-966A-13C4AB20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384-7A02-4F8F-B988-D7FC85CC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53E52-079C-4CA4-9C20-9D57A4C3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80FD6-8C0F-4A15-B4C5-47BC4E12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43B22-9CA4-435C-BD58-8FDFBF2E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FC80B-B681-4870-AC61-642521D9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C9F32-D503-4F23-91C7-EB3C7BA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0CC46-3396-46BD-9CA1-11A56E43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BC493-A17C-4039-8093-3CFC78D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CFAC2-E9F4-4908-8A96-5E1BD0E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BE518-BE07-436B-9660-FE38783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3D396-3134-4E4E-96EB-E8A1F664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A99-6040-45E6-A509-D2A8B19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5547E-C082-447D-A5EC-D0D264FC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F649-5E86-4856-8232-903291B0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C4D4-4E91-4528-ABD4-F5E5664E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B4CE-C582-43F7-929A-FCD83B34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E7F4-6CF4-4F65-9F26-C5B521D7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9D5F9-0FF0-4A2B-99C7-BA7769E9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F6F28-4CEF-4346-ACC9-94E74B3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B2879-07BA-4F40-AA4A-F12F5A9F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7A3D-1696-4D4A-8EB2-F369FFBC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9BA2A-4D28-45C5-800A-16CE9919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981-2A6B-4083-9DA3-0F1D2867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A6AFA-63D9-434E-B491-72D390F4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4EF3-0EF0-4A5E-ACEB-675DFFDD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8042-DB29-4623-8823-ED850D96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BCFF5-4E6A-42E1-BF8B-F91FF805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310BC-C5FC-4A94-ACD2-A7A9B430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80667-476B-4802-8073-5B57C756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F34EC-516B-481B-8BDC-19EE4C6F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9A07E-FBC9-4274-88CA-65C9B88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6ACE2-7CFB-44E9-B8F0-7754D1B8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1BB2B-E13F-49DB-B0AD-4AF7F10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C98-0A71-432D-93D8-2A186098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222E5-EE0F-4A2F-998A-C7CEA23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09D52-BB3A-48F8-9E79-17276E15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58E51-BE8B-431F-BD3F-99326EF5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6D49F-B09E-4CB6-8850-DA7A066A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6EE9D-7E01-4830-ABA1-20466825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20C83-8635-42EE-B772-5E9E65B8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FEBC2-219C-4DF0-8307-FF061DD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71F01-F947-45E8-B74F-7BDDCB6B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0F9D6-B1A7-4BE5-B4D8-6CD8775F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5CEE1-A16D-4C7D-9599-FE44614F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E11-DCAA-42BC-9DCA-3F119D5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236D-5B32-4AF1-9366-18A60F90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75D1B-2445-4B1F-892D-E49A5C99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CB459-D6D6-49A2-A158-4F791B1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44CC5-EF29-497E-8B6E-815F2C5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6071E-97E5-43F9-95E0-B8B4829B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67356-FA5C-46B4-99EA-15A75BA8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F3C72-03BC-4AAB-9F34-8C13A3B2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ED5F8-69FC-42EB-AEDE-4BDE2B2A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54FCF-074E-4202-9BEB-FE0BE4DF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0C012-91F7-4B52-8BBE-5FC09BE8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ies.ed.gov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C9C5-F140-4A32-9367-489499A06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SectionHeader-Bevel.png"/>
          <p:cNvPicPr/>
          <p:nvPr/>
        </p:nvPicPr>
        <p:blipFill>
          <a:blip r:embed="rId6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A9A-E1DA-49CD-9AF6-561597F0F307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DEA-2F99-4409-892F-1E3BD258A650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4AB7-1EBF-420A-8BB2-C92734C91A3F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ComparisonBoxes.png"/>
          <p:cNvPicPr/>
          <p:nvPr/>
        </p:nvPicPr>
        <p:blipFill>
          <a:blip r:embed="rId6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ComparisonBoxes.png"/>
          <p:cNvPicPr/>
          <p:nvPr/>
        </p:nvPicPr>
        <p:blipFill>
          <a:blip r:embed="rId7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694C-88CF-45CA-B305-B962685DE6C8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4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5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4527-806F-4C64-B042-B5B285EF322E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7D62-6234-4F49-AB02-31AB67F85B4D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2CDD-62CD-46DE-B9B1-D044A9D3E5D6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9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AC3-EB93-44A4-B2F8-CB187486283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40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41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F40-BAF9-4B40-92D1-D18F2ECB07B1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2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467-B714-4DFE-9421-3305A8AA7F6A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3D3-C455-4289-940E-F7EDA4DAEA6B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5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BEEF-2E21-48DC-9EC0-B685BD235ED8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6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7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61D-5CD9-4A8A-96E0-5899777FEEE2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8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E7B-6F92-4B3D-8E02-0039339636DD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3271-E607-47A5-A4C3-7051982E838A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1388-F037-4390-BAA3-C1C00EF7EB9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2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3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1A8-176C-4548-B527-DC7214022C9C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3313-45A5-44B7-8C12-0A02D312ED3F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5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C893-0D8A-4CCB-8D35-988386820D58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9153-3D8C-486F-9B8C-3A606BA12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E431-6049-47AF-83B5-085AF167E43B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B8CF-F985-4EAB-B915-9649E43092B2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5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0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C2AE-C7B2-473B-9264-C73C95FA088F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1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2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411C-9FC9-458B-AF86-4530F67DCD2A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646F-2A09-4AD0-B2ED-F89BE9C262B1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6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3CBF-9567-4426-B25B-EDC08BD0DF8F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ftr" idx="6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0" descr="SectionHeader-Bevel.png"/>
          <p:cNvPicPr/>
          <p:nvPr/>
        </p:nvPicPr>
        <p:blipFill>
          <a:blip r:embed="rId6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66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281-A9FA-4117-8B9E-684FD1E3A3BD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7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8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F8E-EF14-4D97-B3FD-C5863243B09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9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7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B175-034A-4160-88E1-D6A99ACF9571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0" descr="ComparisonBoxes.png"/>
          <p:cNvPicPr/>
          <p:nvPr/>
        </p:nvPicPr>
        <p:blipFill>
          <a:blip r:embed="rId6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1" descr="ComparisonBoxes.png"/>
          <p:cNvPicPr/>
          <p:nvPr/>
        </p:nvPicPr>
        <p:blipFill>
          <a:blip r:embed="rId7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7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70A-21AA-49FC-9064-E0F7C6CB99FD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2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3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D379-84DC-4159-97AB-66AC139B5D52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D514-DBBE-483A-8B5E-88E17B9A25BE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09B-3D48-42DF-BDEC-182D2687CE0C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7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9FD-A418-4441-A9D9-DD40D03EAE7C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8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9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9A8-7642-4772-A507-F65F57F5B091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8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F56B-5395-4B8B-A653-9AA79E176E50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8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8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9E29-C4AA-47DC-B73D-E9EA1FD65721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8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6897-579B-4EDD-AE19-F0FA736C2AEF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84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85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12D-A7AD-4AA1-B940-19E3D4E7E10F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17A6-8160-453D-832A-750135C4A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8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1EB-2F60-4AA6-997A-DE9B20E62441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8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8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427-5AB6-4CB9-9DD0-AE02789E0A29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6" descr="IES logo"/>
          <p:cNvPicPr/>
          <p:nvPr/>
        </p:nvPicPr>
        <p:blipFill>
          <a:blip r:embed="rId2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9" descr=""/>
          <p:cNvPicPr/>
          <p:nvPr/>
        </p:nvPicPr>
        <p:blipFill>
          <a:blip r:embed="rId4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89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55D1-21A2-4960-88F1-637F92B5BED2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90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91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03E9-C3B8-4897-A6A1-93B3B8CC0877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8AE9-5100-4B06-8A07-A664AB1949CD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496-473E-4F64-80A5-EB79A45ABEE7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5"/>
          <p:cNvSpPr>
            <a:spLocks noGrp="1"/>
          </p:cNvSpPr>
          <p:nvPr>
            <p:ph type="ftr" idx="12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7B7-9CE1-406C-9AC8-6CDFCDBC25F8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3C01-2C0B-4768-985D-A93BD7F40177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BF18-D355-47D2-A845-9CA7879461E0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 rot="16200000">
            <a:off x="6023520" y="3461400"/>
            <a:ext cx="45990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8318-5D4B-4C38-8A0A-631891AB3918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1C60-732C-43CF-97D7-37B7FB9A1987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20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7C6-9514-4711-B8F2-15438A11ECA2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1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titleSlideBevel.png"/>
          <p:cNvPicPr/>
          <p:nvPr/>
        </p:nvPicPr>
        <p:blipFill>
          <a:blip r:embed="rId6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6185-D5AD-432F-9F7F-47F68984CBE9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Eurostile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442B-53D0-40F8-AAF6-8D1D97DD1D38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IES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35760" y="1012680"/>
            <a:ext cx="1297080" cy="238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bevelDivider.png"/>
          <p:cNvPicPr/>
          <p:nvPr/>
        </p:nvPicPr>
        <p:blipFill>
          <a:blip r:embed="rId4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5"/>
          <a:stretch/>
        </p:blipFill>
        <p:spPr>
          <a:xfrm>
            <a:off x="7924680" y="76320"/>
            <a:ext cx="1133640" cy="717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EBF4-CE59-4D0D-9586-594193311ADB}" type="datetime">
              <a:rPr b="0" lang="en-US" sz="24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2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8D2-84B8-4199-A1EA-8613A43FA939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7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7d8691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d8691"/>
                </a:solidFill>
                <a:latin typeface="Eurostile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9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6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Box 1"/>
          <p:cNvSpPr/>
          <p:nvPr/>
        </p:nvSpPr>
        <p:spPr>
          <a:xfrm>
            <a:off x="1295280" y="12952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entury Center for Research and Development in Cognition and Science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3"/>
          <p:cNvSpPr/>
          <p:nvPr/>
        </p:nvSpPr>
        <p:spPr>
          <a:xfrm>
            <a:off x="1219320" y="586728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unded by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nt R305C080009 to The 21st Century Partnership for STEM Education. The opinions expressed are those of the authors and do not represent views of the U.S. Department of Edu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5" name="Picture 6" descr="IES logo"/>
          <p:cNvPicPr/>
          <p:nvPr/>
        </p:nvPicPr>
        <p:blipFill>
          <a:blip r:embed="rId1"/>
          <a:stretch/>
        </p:blipFill>
        <p:spPr>
          <a:xfrm>
            <a:off x="457200" y="457200"/>
            <a:ext cx="2028960" cy="37152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8" name="Picture 14" descr="Temple University"/>
          <p:cNvPicPr/>
          <p:nvPr/>
        </p:nvPicPr>
        <p:blipFill>
          <a:blip r:embed="rId2"/>
          <a:stretch/>
        </p:blipFill>
        <p:spPr>
          <a:xfrm>
            <a:off x="6477120" y="2743200"/>
            <a:ext cx="1143000" cy="38088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16" descr="Research for Better Technology"/>
          <p:cNvPicPr/>
          <p:nvPr/>
        </p:nvPicPr>
        <p:blipFill>
          <a:blip r:embed="rId3"/>
          <a:stretch/>
        </p:blipFill>
        <p:spPr>
          <a:xfrm>
            <a:off x="5562720" y="5029200"/>
            <a:ext cx="198108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70" name="Group 72"/>
          <p:cNvGrpSpPr/>
          <p:nvPr/>
        </p:nvGrpSpPr>
        <p:grpSpPr>
          <a:xfrm>
            <a:off x="1295280" y="4038480"/>
            <a:ext cx="2971800" cy="685800"/>
            <a:chOff x="1295280" y="4038480"/>
            <a:chExt cx="2971800" cy="685800"/>
          </a:xfrm>
        </p:grpSpPr>
        <p:pic>
          <p:nvPicPr>
            <p:cNvPr id="1371" name="Picture 13" descr=""/>
            <p:cNvPicPr/>
            <p:nvPr/>
          </p:nvPicPr>
          <p:blipFill>
            <a:blip r:embed="rId4"/>
            <a:stretch/>
          </p:blipFill>
          <p:spPr>
            <a:xfrm>
              <a:off x="1521360" y="4177800"/>
              <a:ext cx="26809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AutoShape 20"/>
            <p:cNvSpPr/>
            <p:nvPr/>
          </p:nvSpPr>
          <p:spPr>
            <a:xfrm>
              <a:off x="1295280" y="4038480"/>
              <a:ext cx="297180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Rectangle 30"/>
            <p:cNvSpPr/>
            <p:nvPr/>
          </p:nvSpPr>
          <p:spPr>
            <a:xfrm>
              <a:off x="2054160" y="4419360"/>
              <a:ext cx="18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f6389"/>
                  </a:solidFill>
                  <a:latin typeface="Calibri"/>
                </a:rPr>
                <a:t>University of Pennsylvani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4" name="Picture 17" descr=""/>
          <p:cNvPicPr/>
          <p:nvPr/>
        </p:nvPicPr>
        <p:blipFill>
          <a:blip r:embed="rId5"/>
          <a:stretch/>
        </p:blipFill>
        <p:spPr>
          <a:xfrm>
            <a:off x="2209680" y="2666880"/>
            <a:ext cx="990720" cy="85752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4" descr=""/>
          <p:cNvPicPr/>
          <p:nvPr/>
        </p:nvPicPr>
        <p:blipFill>
          <a:blip r:embed="rId6"/>
          <a:stretch/>
        </p:blipFill>
        <p:spPr>
          <a:xfrm>
            <a:off x="5105520" y="243828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" descr="21PSTEM_white_var_3.jpg"/>
          <p:cNvPicPr/>
          <p:nvPr/>
        </p:nvPicPr>
        <p:blipFill>
          <a:blip r:embed="rId7"/>
          <a:stretch/>
        </p:blipFill>
        <p:spPr>
          <a:xfrm>
            <a:off x="1295280" y="502920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377" name="Text Box 47"/>
          <p:cNvSpPr/>
          <p:nvPr/>
        </p:nvSpPr>
        <p:spPr>
          <a:xfrm>
            <a:off x="2438280" y="5029200"/>
            <a:ext cx="2057400" cy="685800"/>
          </a:xfrm>
          <a:prstGeom prst="rect">
            <a:avLst/>
          </a:prstGeom>
          <a:gradFill rotWithShape="0">
            <a:gsLst>
              <a:gs pos="0">
                <a:srgbClr val="3d836f"/>
              </a:gs>
              <a:gs pos="100000">
                <a:srgbClr val="005c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The 21</a:t>
            </a:r>
            <a:r>
              <a:rPr b="0" lang="en-US" sz="12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Century Partnershi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for STEM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8" name="logo" descr="http://www.gse.upenn.edu/sites/gse.upenn.edu/themes/gse/PennGSE_logo.jpg"/>
          <p:cNvPicPr/>
          <p:nvPr/>
        </p:nvPicPr>
        <p:blipFill>
          <a:blip r:embed="rId8"/>
          <a:stretch/>
        </p:blipFill>
        <p:spPr>
          <a:xfrm>
            <a:off x="5410080" y="4038480"/>
            <a:ext cx="2438640" cy="587520"/>
          </a:xfrm>
          <a:prstGeom prst="rect">
            <a:avLst/>
          </a:prstGeom>
          <a:ln w="0">
            <a:noFill/>
          </a:ln>
        </p:spPr>
      </p:pic>
      <p:sp>
        <p:nvSpPr>
          <p:cNvPr id="1379" name="Straight Connector 56"/>
          <p:cNvSpPr/>
          <p:nvPr/>
        </p:nvSpPr>
        <p:spPr>
          <a:xfrm flipH="1">
            <a:off x="3276360" y="2133000"/>
            <a:ext cx="1066680" cy="9903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traight Connector 57"/>
          <p:cNvSpPr/>
          <p:nvPr/>
        </p:nvSpPr>
        <p:spPr>
          <a:xfrm flipH="1" flipV="1">
            <a:off x="4343400" y="2133720"/>
            <a:ext cx="914400" cy="3808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traight Connector 58"/>
          <p:cNvSpPr/>
          <p:nvPr/>
        </p:nvSpPr>
        <p:spPr>
          <a:xfrm flipH="1">
            <a:off x="3429000" y="2133720"/>
            <a:ext cx="914400" cy="16761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traight Connector 59"/>
          <p:cNvSpPr/>
          <p:nvPr/>
        </p:nvSpPr>
        <p:spPr>
          <a:xfrm flipH="1" flipV="1">
            <a:off x="4343040" y="2133720"/>
            <a:ext cx="1143000" cy="16761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traight Connector 60"/>
          <p:cNvSpPr/>
          <p:nvPr/>
        </p:nvSpPr>
        <p:spPr>
          <a:xfrm>
            <a:off x="4343400" y="2133720"/>
            <a:ext cx="76320" cy="281916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traight Connector 71"/>
          <p:cNvSpPr/>
          <p:nvPr/>
        </p:nvSpPr>
        <p:spPr>
          <a:xfrm>
            <a:off x="4342680" y="2133720"/>
            <a:ext cx="1143000" cy="31240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TextBox 1"/>
          <p:cNvSpPr/>
          <p:nvPr/>
        </p:nvSpPr>
        <p:spPr>
          <a:xfrm>
            <a:off x="3200400" y="2728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:  The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ntury Partnership for STEM Edu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Box 2"/>
          <p:cNvSpPr/>
          <p:nvPr/>
        </p:nvSpPr>
        <p:spPr>
          <a:xfrm>
            <a:off x="762120" y="1676520"/>
            <a:ext cx="761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  F. Joseph Merlino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d project by practicing “Servant Leadership”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ing focus on the big purpose of the study and maintain integrity of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iginal proposal inten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ing roles of partners within the lines, setting  decision boundaries ,     helping to define issues and facilitate consensus ,  maintaining communication bridges between partn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 with IES, oversee budg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ject Director: Gary Cooper and 5 staf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Donna, Bates, Nancy, John, Deanna, Lis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age/facilitate  all 12 elements of process as it related to school sites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siness team as Fiscal agen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Elysa, Giselle, Neil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power = 7.O F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9" name="Picture 2" descr=""/>
          <p:cNvPicPr/>
          <p:nvPr/>
        </p:nvPicPr>
        <p:blipFill>
          <a:blip r:embed="rId1"/>
          <a:stretch/>
        </p:blipFill>
        <p:spPr>
          <a:xfrm>
            <a:off x="358920" y="147600"/>
            <a:ext cx="2536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Title 2" descr=""/>
          <p:cNvPicPr/>
          <p:nvPr/>
        </p:nvPicPr>
        <p:blipFill>
          <a:blip r:embed="rId1"/>
          <a:stretch/>
        </p:blipFill>
        <p:spPr>
          <a:xfrm>
            <a:off x="73080" y="360360"/>
            <a:ext cx="7370640" cy="901800"/>
          </a:xfrm>
          <a:prstGeom prst="rect">
            <a:avLst/>
          </a:prstGeom>
          <a:ln w="0">
            <a:noFill/>
          </a:ln>
        </p:spPr>
      </p:pic>
      <p:pic>
        <p:nvPicPr>
          <p:cNvPr id="1386" name="Content Placeholder 4" descr=""/>
          <p:cNvPicPr/>
          <p:nvPr/>
        </p:nvPicPr>
        <p:blipFill>
          <a:blip r:embed="rId2"/>
          <a:stretch/>
        </p:blipFill>
        <p:spPr>
          <a:xfrm>
            <a:off x="244440" y="1474920"/>
            <a:ext cx="7199280" cy="4657680"/>
          </a:xfrm>
          <a:prstGeom prst="rect">
            <a:avLst/>
          </a:prstGeom>
          <a:ln w="0">
            <a:noFill/>
          </a:ln>
        </p:spPr>
      </p:pic>
      <p:pic>
        <p:nvPicPr>
          <p:cNvPr id="1387" name="Footer Placeholder 6" descr=""/>
          <p:cNvPicPr/>
          <p:nvPr/>
        </p:nvPicPr>
        <p:blipFill>
          <a:blip r:embed="rId3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388" name="Slide Number Placeholder 7" descr=""/>
          <p:cNvPicPr/>
          <p:nvPr/>
        </p:nvPicPr>
        <p:blipFill>
          <a:blip r:embed="rId4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Picture 17" descr=""/>
          <p:cNvPicPr/>
          <p:nvPr/>
        </p:nvPicPr>
        <p:blipFill>
          <a:blip r:embed="rId1"/>
          <a:srcRect l="-7187" t="-8167" r="-7187" b="-8167"/>
          <a:stretch/>
        </p:blipFill>
        <p:spPr>
          <a:xfrm>
            <a:off x="111240" y="1001880"/>
            <a:ext cx="2354040" cy="1820520"/>
          </a:xfrm>
          <a:prstGeom prst="rect">
            <a:avLst/>
          </a:prstGeom>
          <a:ln w="0">
            <a:noFill/>
          </a:ln>
        </p:spPr>
      </p:pic>
      <p:sp>
        <p:nvSpPr>
          <p:cNvPr id="1390" name="TextBox 13"/>
          <p:cNvSpPr/>
          <p:nvPr/>
        </p:nvSpPr>
        <p:spPr>
          <a:xfrm>
            <a:off x="2465280" y="716040"/>
            <a:ext cx="526752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Chris Schunn, Co-PI  </a:t>
            </a: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ssoc. Professor of Psychology, Intelligent Sys Program, Learning Sciences and Poli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Research Scientist, LRD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Kalyani Raghavan   </a:t>
            </a:r>
            <a:r>
              <a:rPr b="0" i="1" lang="en-US" sz="1600" spc="-1" strike="noStrike">
                <a:solidFill>
                  <a:srgbClr val="000000"/>
                </a:solidFill>
                <a:latin typeface="Eurostile"/>
              </a:rPr>
              <a:t>LRDC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Research Associate,</a:t>
            </a:r>
            <a:r>
              <a:rPr b="0" i="1" lang="en-US" sz="16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nd Director of Model Assisted Reasoning in Science projec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Tim Nokes 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sst. Professor, Department of Psychology Director, Cognitive Science Learning Labora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TextBox 15"/>
          <p:cNvSpPr/>
          <p:nvPr/>
        </p:nvSpPr>
        <p:spPr>
          <a:xfrm>
            <a:off x="2386080" y="3246480"/>
            <a:ext cx="53467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Nora Newcombe, Co-PI  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Professor of Psychology and PI of the NSF Spatial Intelligence and Learning Cen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Jennifer Cromley, Co-PI 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Asst Professor of Educational Psychology, 2010 recipient Presidential Early Career Award for Scientists and Engineers (PECASE)</a:t>
            </a: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extBox 16"/>
          <p:cNvSpPr/>
          <p:nvPr/>
        </p:nvSpPr>
        <p:spPr>
          <a:xfrm>
            <a:off x="3784680" y="5232240"/>
            <a:ext cx="3611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Chris Massey, Co-PI  </a:t>
            </a: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Director for Research and Education, Institute for Research in Cognitive Science</a:t>
            </a:r>
            <a:r>
              <a:rPr b="0" i="1" lang="en-US" sz="16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TextBox 17"/>
          <p:cNvSpPr/>
          <p:nvPr/>
        </p:nvSpPr>
        <p:spPr>
          <a:xfrm>
            <a:off x="2486160" y="249120"/>
            <a:ext cx="51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Cognitive Science Senior Team Memb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4" name="Footer Placeholder 8" descr=""/>
          <p:cNvPicPr/>
          <p:nvPr/>
        </p:nvPicPr>
        <p:blipFill>
          <a:blip r:embed="rId2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395" name="Slide Number Placeholder 9" descr=""/>
          <p:cNvPicPr/>
          <p:nvPr/>
        </p:nvPicPr>
        <p:blipFill>
          <a:blip r:embed="rId3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8" descr="800px-Temple_text_logo.svg.png"/>
          <p:cNvPicPr/>
          <p:nvPr/>
        </p:nvPicPr>
        <p:blipFill>
          <a:blip r:embed="rId4"/>
          <a:stretch/>
        </p:blipFill>
        <p:spPr>
          <a:xfrm>
            <a:off x="431640" y="4356000"/>
            <a:ext cx="1702080" cy="4651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9" descr="silc_small3.jpg"/>
          <p:cNvPicPr/>
          <p:nvPr/>
        </p:nvPicPr>
        <p:blipFill>
          <a:blip r:embed="rId5"/>
          <a:stretch/>
        </p:blipFill>
        <p:spPr>
          <a:xfrm>
            <a:off x="677880" y="3132000"/>
            <a:ext cx="1081080" cy="1081080"/>
          </a:xfrm>
          <a:prstGeom prst="rect">
            <a:avLst/>
          </a:prstGeom>
          <a:ln w="0">
            <a:noFill/>
          </a:ln>
        </p:spPr>
      </p:pic>
      <p:grpSp>
        <p:nvGrpSpPr>
          <p:cNvPr id="1398" name="Group 22"/>
          <p:cNvGrpSpPr/>
          <p:nvPr/>
        </p:nvGrpSpPr>
        <p:grpSpPr>
          <a:xfrm>
            <a:off x="195120" y="5245200"/>
            <a:ext cx="3424320" cy="842760"/>
            <a:chOff x="195120" y="5245200"/>
            <a:chExt cx="3424320" cy="842760"/>
          </a:xfrm>
        </p:grpSpPr>
        <p:sp>
          <p:nvSpPr>
            <p:cNvPr id="1399" name="AutoShape 20"/>
            <p:cNvSpPr/>
            <p:nvPr/>
          </p:nvSpPr>
          <p:spPr>
            <a:xfrm>
              <a:off x="195120" y="5245200"/>
              <a:ext cx="3424320" cy="84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0" name="Picture 13" descr=""/>
            <p:cNvPicPr/>
            <p:nvPr/>
          </p:nvPicPr>
          <p:blipFill>
            <a:blip r:embed="rId6"/>
            <a:stretch/>
          </p:blipFill>
          <p:spPr>
            <a:xfrm>
              <a:off x="250920" y="5275440"/>
              <a:ext cx="3310200" cy="2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Picture 25" descr="penn_logo.jpg"/>
            <p:cNvPicPr/>
            <p:nvPr/>
          </p:nvPicPr>
          <p:blipFill>
            <a:blip r:embed="rId7"/>
            <a:stretch/>
          </p:blipFill>
          <p:spPr>
            <a:xfrm>
              <a:off x="1220040" y="5565600"/>
              <a:ext cx="1560600" cy="507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2441520" y="11955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807080"/>
                <a:tab algn="l" pos="9613800"/>
              </a:tabLst>
            </a:pPr>
            <a:r>
              <a:rPr b="1" lang="en-US" sz="2400" spc="-1" strike="noStrike">
                <a:solidFill>
                  <a:srgbClr val="820000"/>
                </a:solidFill>
                <a:latin typeface="Calibri"/>
                <a:ea typeface="MS PGothic"/>
              </a:rPr>
              <a:t>Text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5665680" y="1195560"/>
            <a:ext cx="16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807080"/>
                <a:tab algn="l" pos="9613800"/>
              </a:tabLst>
            </a:pPr>
            <a:r>
              <a:rPr b="1" lang="en-US" sz="2400" spc="-1" strike="noStrike">
                <a:solidFill>
                  <a:srgbClr val="008100"/>
                </a:solidFill>
                <a:latin typeface="Calibri"/>
                <a:ea typeface="MS PGothic"/>
              </a:rPr>
              <a:t>Kit b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4" name="Straight Arrow Connector 5"/>
          <p:cNvCxnSpPr/>
          <p:nvPr/>
        </p:nvCxnSpPr>
        <p:spPr>
          <a:xfrm>
            <a:off x="4078440" y="1426680"/>
            <a:ext cx="1684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05" name="TextBox 8"/>
          <p:cNvSpPr/>
          <p:nvPr/>
        </p:nvSpPr>
        <p:spPr>
          <a:xfrm>
            <a:off x="1012680" y="241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e Design Challe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6" name=""/>
          <p:cNvGraphicFramePr/>
          <p:nvPr/>
        </p:nvGraphicFramePr>
        <p:xfrm>
          <a:off x="411120" y="1735200"/>
          <a:ext cx="7120080" cy="4214880"/>
        </p:xfrm>
        <a:graphic>
          <a:graphicData uri="http://schemas.openxmlformats.org/drawingml/2006/table">
            <a:tbl>
              <a:tblPr/>
              <a:tblGrid>
                <a:gridCol w="2001960"/>
                <a:gridCol w="2495520"/>
                <a:gridCol w="1434960"/>
                <a:gridCol w="1187640"/>
              </a:tblGrid>
              <a:tr h="183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Curricul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Ho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Full Option Science System </a:t>
                      </a:r>
                      <a:r>
                        <a:rPr b="0" lang="en-US" sz="18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(F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Biological Sc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Cells, Heredity, &amp; Class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Diversity of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Earth Sc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Inside the Restless Ea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Earth Hi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Weather and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Bold"/>
                        </a:rPr>
                        <a:t>Physical Sc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8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20000"/>
                          </a:solidFill>
                          <a:latin typeface="Calibri"/>
                        </a:rPr>
                        <a:t>Introduction to Ma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8100"/>
                          </a:solidFill>
                          <a:latin typeface="Calibri"/>
                        </a:rPr>
                        <a:t>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07" name="Picture 11" descr="isbn.aspx.jpeg"/>
          <p:cNvPicPr/>
          <p:nvPr/>
        </p:nvPicPr>
        <p:blipFill>
          <a:blip r:embed="rId1"/>
          <a:stretch/>
        </p:blipFill>
        <p:spPr>
          <a:xfrm>
            <a:off x="3800520" y="2176560"/>
            <a:ext cx="944640" cy="124452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13" descr="51lagudGuTL._SL500_AA300_.jpg"/>
          <p:cNvPicPr/>
          <p:nvPr/>
        </p:nvPicPr>
        <p:blipFill>
          <a:blip r:embed="rId2"/>
          <a:stretch/>
        </p:blipFill>
        <p:spPr>
          <a:xfrm>
            <a:off x="2657520" y="2173320"/>
            <a:ext cx="939600" cy="124776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14" descr="7426407.jpg"/>
          <p:cNvPicPr/>
          <p:nvPr/>
        </p:nvPicPr>
        <p:blipFill>
          <a:blip r:embed="rId3"/>
          <a:stretch/>
        </p:blipFill>
        <p:spPr>
          <a:xfrm>
            <a:off x="5186520" y="2332080"/>
            <a:ext cx="2090520" cy="1171440"/>
          </a:xfrm>
          <a:prstGeom prst="rect">
            <a:avLst/>
          </a:prstGeom>
          <a:ln w="0">
            <a:noFill/>
          </a:ln>
        </p:spPr>
      </p:pic>
      <p:pic>
        <p:nvPicPr>
          <p:cNvPr id="1410" name="Footer Placeholder 15" descr=""/>
          <p:cNvPicPr/>
          <p:nvPr/>
        </p:nvPicPr>
        <p:blipFill>
          <a:blip r:embed="rId4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411" name="Slide Number Placeholder 16" descr=""/>
          <p:cNvPicPr/>
          <p:nvPr/>
        </p:nvPicPr>
        <p:blipFill>
          <a:blip r:embed="rId5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Footer Placeholder 1" descr=""/>
          <p:cNvPicPr/>
          <p:nvPr/>
        </p:nvPicPr>
        <p:blipFill>
          <a:blip r:embed="rId1"/>
          <a:stretch/>
        </p:blipFill>
        <p:spPr>
          <a:xfrm>
            <a:off x="8077320" y="835200"/>
            <a:ext cx="487080" cy="5260680"/>
          </a:xfrm>
          <a:prstGeom prst="rect">
            <a:avLst/>
          </a:prstGeom>
          <a:ln w="0">
            <a:noFill/>
          </a:ln>
        </p:spPr>
      </p:pic>
      <p:pic>
        <p:nvPicPr>
          <p:cNvPr id="1413" name="Slide Number Placeholder 2" descr=""/>
          <p:cNvPicPr/>
          <p:nvPr/>
        </p:nvPicPr>
        <p:blipFill>
          <a:blip r:embed="rId2"/>
          <a:stretch/>
        </p:blipFill>
        <p:spPr>
          <a:xfrm>
            <a:off x="8034480" y="5803920"/>
            <a:ext cx="1170000" cy="96192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3" descr=""/>
          <p:cNvPicPr/>
          <p:nvPr/>
        </p:nvPicPr>
        <p:blipFill>
          <a:blip r:embed="rId3"/>
          <a:stretch/>
        </p:blipFill>
        <p:spPr>
          <a:xfrm>
            <a:off x="685800" y="2484360"/>
            <a:ext cx="6324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Box 4"/>
          <p:cNvSpPr/>
          <p:nvPr/>
        </p:nvSpPr>
        <p:spPr>
          <a:xfrm>
            <a:off x="1219320" y="1066680"/>
            <a:ext cx="3809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Recruit schools for study, 180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5"/>
          <p:cNvSpPr/>
          <p:nvPr/>
        </p:nvSpPr>
        <p:spPr>
          <a:xfrm>
            <a:off x="1219320" y="2438280"/>
            <a:ext cx="6476760" cy="368280"/>
          </a:xfrm>
          <a:prstGeom prst="rect">
            <a:avLst/>
          </a:prstGeom>
          <a:solidFill>
            <a:srgbClr val="6abb33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Design Prof Development for Cognitive  Science Treatment  A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6"/>
          <p:cNvSpPr/>
          <p:nvPr/>
        </p:nvSpPr>
        <p:spPr>
          <a:xfrm>
            <a:off x="1219320" y="1981080"/>
            <a:ext cx="5790960" cy="368280"/>
          </a:xfrm>
          <a:prstGeom prst="rect">
            <a:avLst/>
          </a:prstGeom>
          <a:solidFill>
            <a:srgbClr val="6abb33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Create  6 Cognitive Science Modified Units, 3 +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7"/>
          <p:cNvSpPr/>
          <p:nvPr/>
        </p:nvSpPr>
        <p:spPr>
          <a:xfrm>
            <a:off x="1219320" y="1523880"/>
            <a:ext cx="579096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Randomize schools into 3 groups, T1, T2 and Contro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1219320" y="3352680"/>
            <a:ext cx="57909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Deliver Prof Development  to teachers + facilitate PL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9"/>
          <p:cNvSpPr/>
          <p:nvPr/>
        </p:nvSpPr>
        <p:spPr>
          <a:xfrm>
            <a:off x="1219320" y="2895480"/>
            <a:ext cx="57909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Design Prof Development for Content Treatment A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10"/>
          <p:cNvSpPr/>
          <p:nvPr/>
        </p:nvSpPr>
        <p:spPr>
          <a:xfrm>
            <a:off x="1219320" y="3809880"/>
            <a:ext cx="579096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 Develop six end-of-unit assess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11"/>
          <p:cNvSpPr/>
          <p:nvPr/>
        </p:nvSpPr>
        <p:spPr>
          <a:xfrm>
            <a:off x="1219320" y="4343400"/>
            <a:ext cx="58672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 Print, deliver and collect  student end-of-unit assess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14"/>
          <p:cNvSpPr/>
          <p:nvPr/>
        </p:nvSpPr>
        <p:spPr>
          <a:xfrm>
            <a:off x="1219320" y="4800600"/>
            <a:ext cx="586728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 Develop teacher content tests, SEC surv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5"/>
          <p:cNvSpPr/>
          <p:nvPr/>
        </p:nvSpPr>
        <p:spPr>
          <a:xfrm>
            <a:off x="1219320" y="5257800"/>
            <a:ext cx="58672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. Administer teacher content tests, SEC surv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6"/>
          <p:cNvSpPr/>
          <p:nvPr/>
        </p:nvSpPr>
        <p:spPr>
          <a:xfrm>
            <a:off x="1219320" y="6172200"/>
            <a:ext cx="5943600" cy="368280"/>
          </a:xfrm>
          <a:prstGeom prst="rect">
            <a:avLst/>
          </a:prstGeom>
          <a:solidFill>
            <a:srgbClr val="ccc1da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Analyze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7"/>
          <p:cNvSpPr/>
          <p:nvPr/>
        </p:nvSpPr>
        <p:spPr>
          <a:xfrm>
            <a:off x="1371600" y="304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to Test Cognitive Scientist’s Modifica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7" name="Straight Arrow Connector 19"/>
          <p:cNvCxnSpPr/>
          <p:nvPr/>
        </p:nvCxnSpPr>
        <p:spPr>
          <a:xfrm flipH="1">
            <a:off x="684000" y="1068480"/>
            <a:ext cx="3600" cy="541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8" name="TextBox 21"/>
          <p:cNvSpPr/>
          <p:nvPr/>
        </p:nvSpPr>
        <p:spPr>
          <a:xfrm>
            <a:off x="1219320" y="5715000"/>
            <a:ext cx="624816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. Collec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de student level state test data + previous ye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23"/>
          <p:cNvSpPr/>
          <p:nvPr/>
        </p:nvSpPr>
        <p:spPr>
          <a:xfrm>
            <a:off x="6553080" y="1066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vise and repe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oho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Oval 24"/>
          <p:cNvSpPr/>
          <p:nvPr/>
        </p:nvSpPr>
        <p:spPr>
          <a:xfrm>
            <a:off x="6934320" y="914400"/>
            <a:ext cx="2209680" cy="762120"/>
          </a:xfrm>
          <a:prstGeom prst="ellipse">
            <a:avLst/>
          </a:prstGeom>
          <a:solidFill>
            <a:srgbClr val="ffff00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Picture 2" descr=""/>
          <p:cNvPicPr/>
          <p:nvPr/>
        </p:nvPicPr>
        <p:blipFill>
          <a:blip r:embed="rId1"/>
          <a:stretch/>
        </p:blipFill>
        <p:spPr>
          <a:xfrm>
            <a:off x="2819520" y="209520"/>
            <a:ext cx="5790960" cy="6542280"/>
          </a:xfrm>
          <a:prstGeom prst="rect">
            <a:avLst/>
          </a:prstGeom>
          <a:ln w="0">
            <a:noFill/>
          </a:ln>
        </p:spPr>
      </p:pic>
      <p:sp>
        <p:nvSpPr>
          <p:cNvPr id="1432" name="TextBox 3"/>
          <p:cNvSpPr/>
          <p:nvPr/>
        </p:nvSpPr>
        <p:spPr>
          <a:xfrm>
            <a:off x="304920" y="1676520"/>
            <a:ext cx="205740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Deliver Prof Development  to teachers + facilitate PL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 Sci Arm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Picture 2" descr=""/>
          <p:cNvPicPr/>
          <p:nvPr/>
        </p:nvPicPr>
        <p:blipFill>
          <a:blip r:embed="rId1"/>
          <a:stretch/>
        </p:blipFill>
        <p:spPr>
          <a:xfrm>
            <a:off x="3124080" y="334800"/>
            <a:ext cx="5486400" cy="6255000"/>
          </a:xfrm>
          <a:prstGeom prst="rect">
            <a:avLst/>
          </a:prstGeom>
          <a:ln w="0">
            <a:noFill/>
          </a:ln>
        </p:spPr>
      </p:pic>
      <p:sp>
        <p:nvSpPr>
          <p:cNvPr id="1434" name="TextBox 2"/>
          <p:cNvSpPr/>
          <p:nvPr/>
        </p:nvSpPr>
        <p:spPr>
          <a:xfrm>
            <a:off x="304920" y="1676520"/>
            <a:ext cx="243828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Deliver Prof Development  to teachers + facilitate PL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ent Arm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1436" name="TextBox 3"/>
          <p:cNvSpPr/>
          <p:nvPr/>
        </p:nvSpPr>
        <p:spPr>
          <a:xfrm>
            <a:off x="380880" y="533520"/>
            <a:ext cx="80773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Print, deliver and collect  student end-of-unit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4:26:51Z</dcterms:created>
  <dc:creator>F Joseph Merlino</dc:creator>
  <dc:description/>
  <dc:language>en-US</dc:language>
  <cp:lastModifiedBy> </cp:lastModifiedBy>
  <dcterms:modified xsi:type="dcterms:W3CDTF">2011-09-07T05:45:43Z</dcterms:modified>
  <cp:revision>6</cp:revision>
  <dc:subject/>
  <dc:title>PowerPoint Presentation</dc:title>
</cp:coreProperties>
</file>