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ED98-B223-4CBD-A11E-311F019AA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CF43-BFDD-4D93-887F-FDD2AE8DC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5F003BB4-8292-445B-AFA6-30B376367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9F27-7058-466F-A8D5-DD0D1A514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03D26846-F0D1-4D25-8ADB-EC1A4A736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D65D-F22B-49D4-999E-2E66D4D9E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cutting concepts unify the study of science and engineering through their common application across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08C0081C-2E39-4144-8687-2FEC473E0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041D-F6CA-4251-A151-E8F354890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8A3D3106-96AC-4B08-9861-20384679A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857D-3908-4FB9-98F7-19AE591A2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9A520A45-D4CB-485D-828A-4D42B6080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1F94-7AD6-416F-9A94-8A231B135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9B8CEE7E-EE68-4F95-BED1-7231B11EA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6EC5-AB06-43B5-946C-757C09FF1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E46F5E5B-DE75-4C82-9473-431404F43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80A9-3C6B-4403-AB1A-5E2FE9DBA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berate interweaving of practices (developing and using models, planning and carrying out investigations), building to core ideas (matter and its interactions (particle theory) and from molecule to organisms); and crosscutting concept (systems and system mode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43CF0D95-03AD-4B09-83F5-8845805DB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5D0F-A3AC-4030-92AF-4C075BA9A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8371-9E8A-4AE5-BC7B-2F85A6627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4ECF-2682-4FF4-B492-9BEA3EABC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A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Benchmarks for Science Literacy, 1993; National Science Education Standards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such as Systems for State Science Assessment, 2005; Taking Science to School, 200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sion of information access through developments in science and technology, e.g. cell phones, tab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5682DAD3-2F86-45BF-9782-5D44D15A8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F24E-AA46-445F-96E2-5E6042A42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CF8728C-0A91-409D-B945-D01A71216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NAS and NAE members including 2 Nobel laureates; 9 other scientists and educators; note designed diversity of expertise and backgrounds; 2 physicists; 1 chemist; 2 biologists; 2 mathematicians, 2 engineers, 2 earth and space scientists, 3 learning scientists, 6 educational researchers, 5 wom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73E-ADF1-4428-AB20-54E6FE46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59D5-C5A4-4634-B72E-405F8544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B599-D346-4193-BA63-1F9A2D81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5C32-E343-4BA2-8A53-68D357B9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2A6B-33C5-4C35-9BE9-26484B6C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F538-79D4-4199-ACB3-3D10C617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E136-B142-4268-90B5-99D6DFEE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A95F-6068-4D95-AA13-02460C80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0AA9-AB12-41C9-A93E-31CC49B4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7CE3-315D-4A62-AB7B-79633933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AEB0-2D63-4217-AC02-D31CF856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6456-53CE-4F90-8142-644A241F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1035-A1DC-4CC6-90FC-B82A938C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FAB5-4E7C-4506-9BBC-0BE3883D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D82A-60E9-4F41-A100-8D4561AC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5704-59D4-406D-BA99-1EEB0D09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CEB1-FC05-45AD-8AA2-17E157FC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A06D4-79D8-4B4B-9550-250E32DE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4B472-522C-41F7-AD90-3CA16CF3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4A06F-1798-4072-A2CF-3C8C09B8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52AC4-51E7-4D51-8AA8-7F29BDC7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6EDBE-5D70-4DCF-A0A2-DE052F89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49A-BCDA-4CC9-AD2E-AB6908B7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8B9E4-06C6-4655-A690-98DCBA52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4996A-C86E-475D-8F57-0988690D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0CD36-0FDB-4711-91F0-32346EDF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258EB-7D2B-459C-AD4F-87614760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A7A57-13B3-4888-BA90-8063E4C3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5A45F-78F3-45DF-BB0D-A937E020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E838F-6E7E-4390-9F36-4A67D090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4081E-A79F-45E5-87AF-6479E447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5E615-A9DE-40EC-9165-F3C3DE67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8A6D9-9CE1-4CE0-BE2D-C2CB5F59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0EA2-7A16-4087-8183-9EEF34C5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9E0A6-13FF-43C1-88B9-463F816B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EBAB4-47B7-406C-8972-CA8FB901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338C0-5B00-4515-AC94-95DAA919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2EB7B-8E8B-4806-86C8-C2E2D9AB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F9768-D7CB-4763-A2AE-6F5C7F5A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C4809-E3DF-4703-9EF1-7F3D0F25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F74F5-0083-4A9B-9F91-33C0CB40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408AA-F0BD-486F-9C60-5E6FE639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52863-E60D-4DCB-AA05-E3704202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F27E-2A40-4E5E-B3F4-B2549ED5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EC4-00AD-437D-93E1-8A86FF0E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99C0-33AF-43DF-9BC2-6425EFD5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960-EAC1-4FEA-BEF5-C6DF052A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DDD-5B5D-42EF-8C51-5DA5AAE4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9DD4-FF29-4412-871F-D8FE4C289F8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10" descr="nrc-na"/>
          <p:cNvPicPr/>
          <p:nvPr/>
        </p:nvPicPr>
        <p:blipFill>
          <a:blip r:embed="rId5"/>
          <a:stretch/>
        </p:blipFill>
        <p:spPr>
          <a:xfrm>
            <a:off x="304920" y="6248520"/>
            <a:ext cx="333504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10" descr="nrc-na"/>
          <p:cNvPicPr/>
          <p:nvPr/>
        </p:nvPicPr>
        <p:blipFill>
          <a:blip r:embed="rId5"/>
          <a:stretch/>
        </p:blipFill>
        <p:spPr>
          <a:xfrm>
            <a:off x="304920" y="6248520"/>
            <a:ext cx="3335040" cy="3920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0B90-9169-43FB-B84D-D44B79D18578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10" descr="nrc-na"/>
          <p:cNvPicPr/>
          <p:nvPr/>
        </p:nvPicPr>
        <p:blipFill>
          <a:blip r:embed="rId5"/>
          <a:stretch/>
        </p:blipFill>
        <p:spPr>
          <a:xfrm>
            <a:off x="304920" y="6248520"/>
            <a:ext cx="3335040" cy="3920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DC86-4437-4EFF-9849-96D2F0E60E4F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4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Triangle 15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6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8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D4F1-6126-49C5-A289-9462DFA3526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ap.edu/catalog.php?record_id=13165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838080" y="1600200"/>
            <a:ext cx="7391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A Framework for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K-12 Science Education: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Practices, Crosscutting Concepts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and Core Id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5105520" y="4495680"/>
            <a:ext cx="4876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Board on Science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Three Dimens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828800" y="2133720"/>
            <a:ext cx="5105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cientific and engineering practi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Crosscutting concep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Disciplinary core ide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Scientific and Engineering Practices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047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alibri"/>
              </a:rPr>
              <a:t>1. 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Asking questions and defining probl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34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alibri"/>
              </a:rPr>
              <a:t>2. 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Developing and using mode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34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alibri"/>
              </a:rPr>
              <a:t>3. 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lanning and carrying out investig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34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alibri"/>
              </a:rPr>
              <a:t>4. 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Analyzing and interpreting da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34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34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723920" y="1904760"/>
            <a:ext cx="4038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alibri"/>
              </a:rPr>
              <a:t>5. 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Using mathematics and computational thin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34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alibri"/>
              </a:rPr>
              <a:t>6. 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Developing explanations and designing solu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34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alibri"/>
              </a:rPr>
              <a:t>7. 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ngaging in arg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344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alibri"/>
              </a:rPr>
              <a:t>8. 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Obtaining, evaluating, and communicating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344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Crosscutting Concepts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Cause and eff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cale, proportion and quant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ystems and system mode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nergy and mat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ructure and 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ability and 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A core idea for K-12 science instruction is a scientific idea that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Has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alibri"/>
              </a:rPr>
              <a:t>broad importance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across multiple science or engineering disciplines or is a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alibri"/>
              </a:rPr>
              <a:t>key organizing concept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of a single discip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rovides a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alibri"/>
              </a:rPr>
              <a:t>key tool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for understanding or investigating more complex ideas and solving probl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Relates to the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alibri"/>
              </a:rPr>
              <a:t>interests and life experiences of students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or can be connected to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alibri"/>
              </a:rPr>
              <a:t>societal or personal concerns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that require scientific or technical knowledg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Is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alibri"/>
              </a:rPr>
              <a:t>teachable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and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alibri"/>
              </a:rPr>
              <a:t>learnable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over multiple grades at increasing levels of depth and sophisti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Disciplinary Core Ideas: </a:t>
            </a:r>
            <a:br>
              <a:rPr sz="2900"/>
            </a:b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Physical Sciences</a:t>
            </a:r>
            <a:br>
              <a:rPr sz="36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S1  Matter and its intera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S2  Motion and stability: Forces and intera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S3  Ener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S4  Waves and their applications in technologies for information transf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Disciplinary Core Ideas: </a:t>
            </a:r>
            <a:br>
              <a:rPr sz="2900"/>
            </a:b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Life Sciences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LS1  From molecules to organisms: Structures and proce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LS2  Ecosystems: Interactions, energy, and dynam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LS3  Heredity: Inheritance and variation of tra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LS4  Biological evolution: Unity and divers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Disciplinary Core Ideas: </a:t>
            </a:r>
            <a:br>
              <a:rPr sz="2900"/>
            </a:b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Earth and Space Sciences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52480" y="2514240"/>
            <a:ext cx="6019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SS1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arth</a:t>
            </a:r>
            <a:r>
              <a:rPr b="0" lang="ja-JP" sz="2400" spc="-1" strike="noStrike">
                <a:solidFill>
                  <a:srgbClr val="333399"/>
                </a:solidFill>
                <a:latin typeface="Calibri"/>
                <a:ea typeface="HGP明朝E"/>
              </a:rPr>
              <a:t>’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HGP明朝E"/>
              </a:rPr>
              <a:t>s place in the univer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SS2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arth</a:t>
            </a:r>
            <a:r>
              <a:rPr b="0" lang="ja-JP" sz="2400" spc="-1" strike="noStrike">
                <a:solidFill>
                  <a:srgbClr val="333399"/>
                </a:solidFill>
                <a:latin typeface="Calibri"/>
                <a:ea typeface="HGP明朝E"/>
              </a:rPr>
              <a:t>’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HGP明朝E"/>
              </a:rPr>
              <a:t>s syst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SS3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arth and human activ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Disciplinary Core Ideas: </a:t>
            </a:r>
            <a:br>
              <a:rPr sz="2900"/>
            </a:b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Engineering, Technology and Applications of Science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TS1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ngineering desig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TS2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Links among engineering, technology, science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and socie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Integrating the Dimensions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To facilitate students</a:t>
            </a:r>
            <a:r>
              <a:rPr b="0" lang="ja-JP" sz="2400" spc="-1" strike="noStrike">
                <a:solidFill>
                  <a:srgbClr val="333399"/>
                </a:solidFill>
                <a:latin typeface="Constantia"/>
                <a:ea typeface="HGP明朝E"/>
              </a:rPr>
              <a:t>’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HGP明朝E"/>
              </a:rPr>
              <a:t> learning the dimensions must be woven together in standards, assessments, curriculum and instru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udents should explore a core idea by engaging in the practices and making connections to crosscutting concept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Implica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19047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Not separate treatment of “content” and “inquiry” </a:t>
            </a:r>
            <a:r>
              <a:rPr b="1" i="1" lang="en-US" sz="2400" spc="-1" strike="noStrike">
                <a:solidFill>
                  <a:srgbClr val="333399"/>
                </a:solidFill>
                <a:latin typeface="Calibri"/>
              </a:rPr>
              <a:t>(No “Chapter 1”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Curriculum and instruction needs to do more than present and assess scientific ideas – they need to involve learners in using scientific practices to develop and apply the scientific ideas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6" name="Picture 5" descr=""/>
          <p:cNvPicPr/>
          <p:nvPr/>
        </p:nvPicPr>
        <p:blipFill>
          <a:blip r:embed="rId1"/>
          <a:stretch/>
        </p:blipFill>
        <p:spPr>
          <a:xfrm>
            <a:off x="4800600" y="2286000"/>
            <a:ext cx="2360520" cy="41781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6858000" y="1981080"/>
            <a:ext cx="9428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4114800" y="24382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"/>
          <p:cNvSpPr/>
          <p:nvPr/>
        </p:nvSpPr>
        <p:spPr>
          <a:xfrm>
            <a:off x="5105520" y="1828800"/>
            <a:ext cx="16142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rosscutting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3" descr=""/>
          <p:cNvPicPr/>
          <p:nvPr/>
        </p:nvPicPr>
        <p:blipFill>
          <a:blip r:embed="rId1"/>
          <a:stretch/>
        </p:blipFill>
        <p:spPr>
          <a:xfrm>
            <a:off x="530280" y="2176560"/>
            <a:ext cx="831528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2" descr=""/>
          <p:cNvPicPr/>
          <p:nvPr/>
        </p:nvPicPr>
        <p:blipFill>
          <a:blip r:embed="rId1"/>
          <a:stretch/>
        </p:blipFill>
        <p:spPr>
          <a:xfrm>
            <a:off x="682560" y="573120"/>
            <a:ext cx="7553520" cy="110952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3"/>
          <p:cNvSpPr/>
          <p:nvPr/>
        </p:nvSpPr>
        <p:spPr>
          <a:xfrm>
            <a:off x="4869000" y="4627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990720" y="1905120"/>
          <a:ext cx="6781680" cy="4035240"/>
        </p:xfrm>
        <a:graphic>
          <a:graphicData uri="http://schemas.openxmlformats.org/drawingml/2006/table">
            <a:tbl>
              <a:tblPr/>
              <a:tblGrid>
                <a:gridCol w="1828800"/>
                <a:gridCol w="1218960"/>
                <a:gridCol w="1067040"/>
                <a:gridCol w="1295280"/>
                <a:gridCol w="137160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hys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a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i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th</a:t>
                      </a:r>
                      <a:r>
                        <a:rPr b="0" lang="en-US" sz="2400" spc="-1" strike="noStrike">
                          <a:solidFill>
                            <a:srgbClr val="830013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0013"/>
                          </a:solidFill>
                          <a:latin typeface="Arial"/>
                          <a:ea typeface="Arial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0013"/>
                          </a:solidFill>
                          <a:latin typeface="Arial"/>
                          <a:ea typeface="Arial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0013"/>
                          </a:solidFill>
                          <a:latin typeface="Arial"/>
                          <a:ea typeface="Arial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30013"/>
                          </a:solidFill>
                          <a:latin typeface="Arial"/>
                          <a:ea typeface="Times New Roman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ndersta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WordArt 44"/>
          <p:cNvSpPr txBox="1"/>
          <p:nvPr/>
        </p:nvSpPr>
        <p:spPr>
          <a:xfrm rot="21588600">
            <a:off x="3278160" y="5264280"/>
            <a:ext cx="3817800" cy="536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41e99"/>
                  </a:solidFill>
                  <a:miter/>
                </a:ln>
                <a:solidFill>
                  <a:srgbClr val="2c08f4"/>
                </a:solidFill>
                <a:effectLst>
                  <a:outerShdw dist="46745" dir="2116872" blurRad="0" rotWithShape="0">
                    <a:srgbClr val="c0c0c0">
                      <a:alpha val="75000"/>
                    </a:srgbClr>
                  </a:outerShdw>
                </a:effectLst>
                <a:latin typeface="Arial"/>
              </a:rPr>
              <a:t>Little understanding</a:t>
            </a:r>
            <a:endParaRPr b="1" lang="en-US" sz="2000" spc="1" strike="noStrike">
              <a:ln w="9360">
                <a:solidFill>
                  <a:srgbClr val="041e99"/>
                </a:solidFill>
                <a:miter/>
              </a:ln>
              <a:solidFill>
                <a:srgbClr val="2c08f4"/>
              </a:solidFill>
              <a:effectLst>
                <a:outerShdw dist="46745" dir="2116872" blurRad="0" rotWithShape="0">
                  <a:srgbClr val="c0c0c0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365040" y="974880"/>
            <a:ext cx="8425080" cy="9633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3"/>
          <p:cNvSpPr/>
          <p:nvPr/>
        </p:nvSpPr>
        <p:spPr>
          <a:xfrm>
            <a:off x="4799160" y="4754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371600" y="1981080"/>
          <a:ext cx="6781680" cy="4013280"/>
        </p:xfrm>
        <a:graphic>
          <a:graphicData uri="http://schemas.openxmlformats.org/drawingml/2006/table">
            <a:tbl>
              <a:tblPr/>
              <a:tblGrid>
                <a:gridCol w="1828800"/>
                <a:gridCol w="1219320"/>
                <a:gridCol w="1066680"/>
                <a:gridCol w="1295280"/>
                <a:gridCol w="13716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hys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a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i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th</a:t>
                      </a:r>
                      <a:r>
                        <a:rPr b="0" lang="en-US" sz="2400" spc="-1" strike="noStrike">
                          <a:solidFill>
                            <a:srgbClr val="830013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ndersta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7" name="Line 43"/>
          <p:cNvSpPr/>
          <p:nvPr/>
        </p:nvSpPr>
        <p:spPr>
          <a:xfrm>
            <a:off x="3886200" y="2895480"/>
            <a:ext cx="0" cy="2210040"/>
          </a:xfrm>
          <a:prstGeom prst="line">
            <a:avLst/>
          </a:prstGeom>
          <a:ln w="28440">
            <a:solidFill>
              <a:srgbClr val="8300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44"/>
          <p:cNvSpPr txBox="1"/>
          <p:nvPr/>
        </p:nvSpPr>
        <p:spPr>
          <a:xfrm rot="16200000">
            <a:off x="2901960" y="3803760"/>
            <a:ext cx="1355760" cy="30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30013"/>
                </a:solidFill>
                <a:effectLst>
                  <a:outerShdw dist="46745" dir="2116872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Energy&amp; explanation</a:t>
            </a:r>
            <a:endParaRPr b="0" lang="en-US" sz="2000" spc="1" strike="noStrike">
              <a:ln w="0">
                <a:noFill/>
              </a:ln>
              <a:solidFill>
                <a:srgbClr val="830013"/>
              </a:solidFill>
              <a:effectLst>
                <a:outerShdw dist="46745" dir="2116872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2743200" y="3124080"/>
            <a:ext cx="4648320" cy="0"/>
          </a:xfrm>
          <a:prstGeom prst="line">
            <a:avLst/>
          </a:prstGeom>
          <a:ln w="28440">
            <a:solidFill>
              <a:srgbClr val="8300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7"/>
          <p:cNvSpPr/>
          <p:nvPr/>
        </p:nvSpPr>
        <p:spPr>
          <a:xfrm>
            <a:off x="2590920" y="3962520"/>
            <a:ext cx="4724280" cy="0"/>
          </a:xfrm>
          <a:prstGeom prst="line">
            <a:avLst/>
          </a:prstGeom>
          <a:ln w="28440">
            <a:solidFill>
              <a:srgbClr val="8300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48"/>
          <p:cNvSpPr txBox="1"/>
          <p:nvPr/>
        </p:nvSpPr>
        <p:spPr>
          <a:xfrm>
            <a:off x="4038480" y="4603680"/>
            <a:ext cx="1757520" cy="5018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30013"/>
                </a:solidFill>
                <a:effectLst>
                  <a:outerShdw dist="46745" dir="2116872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Energy &amp; Explanation </a:t>
            </a:r>
            <a:endParaRPr b="0" lang="en-US" sz="1800" spc="1" strike="noStrike">
              <a:ln w="0">
                <a:noFill/>
              </a:ln>
              <a:solidFill>
                <a:srgbClr val="830013"/>
              </a:solidFill>
              <a:effectLst>
                <a:outerShdw dist="46745" dir="2116872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2" name="Line 49"/>
          <p:cNvSpPr/>
          <p:nvPr/>
        </p:nvSpPr>
        <p:spPr>
          <a:xfrm>
            <a:off x="2743200" y="4800600"/>
            <a:ext cx="4648320" cy="0"/>
          </a:xfrm>
          <a:prstGeom prst="line">
            <a:avLst/>
          </a:prstGeom>
          <a:ln w="28440">
            <a:solidFill>
              <a:srgbClr val="8300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1"/>
          <p:cNvSpPr/>
          <p:nvPr/>
        </p:nvSpPr>
        <p:spPr>
          <a:xfrm>
            <a:off x="4952880" y="2895480"/>
            <a:ext cx="0" cy="2210040"/>
          </a:xfrm>
          <a:prstGeom prst="line">
            <a:avLst/>
          </a:prstGeom>
          <a:ln w="28440">
            <a:solidFill>
              <a:srgbClr val="8300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3"/>
          <p:cNvSpPr/>
          <p:nvPr/>
        </p:nvSpPr>
        <p:spPr>
          <a:xfrm>
            <a:off x="6095880" y="2895480"/>
            <a:ext cx="0" cy="2210040"/>
          </a:xfrm>
          <a:prstGeom prst="line">
            <a:avLst/>
          </a:prstGeom>
          <a:ln w="28440">
            <a:solidFill>
              <a:srgbClr val="8300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5"/>
          <p:cNvSpPr/>
          <p:nvPr/>
        </p:nvSpPr>
        <p:spPr>
          <a:xfrm>
            <a:off x="7391520" y="2895480"/>
            <a:ext cx="0" cy="2210040"/>
          </a:xfrm>
          <a:prstGeom prst="line">
            <a:avLst/>
          </a:prstGeom>
          <a:ln w="28440">
            <a:solidFill>
              <a:srgbClr val="8300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57"/>
          <p:cNvSpPr txBox="1"/>
          <p:nvPr/>
        </p:nvSpPr>
        <p:spPr>
          <a:xfrm rot="21588600">
            <a:off x="3201840" y="5342040"/>
            <a:ext cx="4953240" cy="530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41e99"/>
                  </a:solidFill>
                  <a:miter/>
                </a:ln>
                <a:solidFill>
                  <a:srgbClr val="2c08f4"/>
                </a:solidFill>
                <a:effectLst>
                  <a:outerShdw dist="46745" dir="2116872" blurRad="0" rotWithShape="0">
                    <a:srgbClr val="c0c0c0">
                      <a:alpha val="75000"/>
                    </a:srgbClr>
                  </a:outerShdw>
                </a:effectLst>
                <a:latin typeface="Arial"/>
              </a:rPr>
              <a:t>Integrated, Useful &amp; Meaningful</a:t>
            </a:r>
            <a:endParaRPr b="1" lang="en-US" sz="2000" spc="1" strike="noStrike">
              <a:ln w="9360">
                <a:solidFill>
                  <a:srgbClr val="041e99"/>
                </a:solidFill>
                <a:miter/>
              </a:ln>
              <a:solidFill>
                <a:srgbClr val="2c08f4"/>
              </a:solidFill>
              <a:effectLst>
                <a:outerShdw dist="46745" dir="2116872" blurRad="0" rotWithShape="0">
                  <a:srgbClr val="c0c0c0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7" name="WordArt 48"/>
          <p:cNvSpPr txBox="1"/>
          <p:nvPr/>
        </p:nvSpPr>
        <p:spPr>
          <a:xfrm>
            <a:off x="4038480" y="3048120"/>
            <a:ext cx="1824120" cy="533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30013"/>
                </a:solidFill>
                <a:effectLst>
                  <a:outerShdw dist="46745" dir="2116872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Energy &amp; Explanation </a:t>
            </a:r>
            <a:endParaRPr b="0" lang="en-US" sz="1800" spc="1" strike="noStrike">
              <a:ln w="0">
                <a:noFill/>
              </a:ln>
              <a:solidFill>
                <a:srgbClr val="830013"/>
              </a:solidFill>
              <a:effectLst>
                <a:outerShdw dist="46745" dir="2116872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8" name="WordArt 44"/>
          <p:cNvSpPr txBox="1"/>
          <p:nvPr/>
        </p:nvSpPr>
        <p:spPr>
          <a:xfrm rot="16200000">
            <a:off x="6483240" y="3727440"/>
            <a:ext cx="1355760" cy="30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30013"/>
                </a:solidFill>
                <a:effectLst>
                  <a:outerShdw dist="46745" dir="2116872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Energy&amp; explanation</a:t>
            </a:r>
            <a:endParaRPr b="0" lang="en-US" sz="2000" spc="1" strike="noStrike">
              <a:ln w="0">
                <a:noFill/>
              </a:ln>
              <a:solidFill>
                <a:srgbClr val="830013"/>
              </a:solidFill>
              <a:effectLst>
                <a:outerShdw dist="46745" dir="2116872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Implementation: Aligning Components of the System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Curriculum and instructional materi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re-service preparation of teach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rofessional development for in-service teach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Diversity and Equity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057040" y="2285640"/>
            <a:ext cx="6629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qualizing opportunities to lear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Inclusive science instr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Making diversity visi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Value multiple modes of expr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Guidance for Standards Developers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et rigorous learning goals for all stud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mphasize all 3 dimen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Include performance expect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Be organized as progressions that support learning over multiple grad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Attend to issues of diversity and equ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Key Areas of Research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676520" y="1676160"/>
            <a:ext cx="670536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</a:rPr>
              <a:t>Learning progress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</a:rPr>
              <a:t>Scientific and engineering practi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</a:rPr>
              <a:t>Curricular and instructional materia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</a:rPr>
              <a:t>Assessmen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</a:rPr>
              <a:t>Supporting teachers</a:t>
            </a:r>
            <a:r>
              <a:rPr b="0" lang="ja-JP" sz="2200" spc="-1" strike="noStrike">
                <a:solidFill>
                  <a:srgbClr val="333399"/>
                </a:solidFill>
                <a:latin typeface="Calibri"/>
                <a:ea typeface="HGP明朝E"/>
              </a:rPr>
              <a:t>’</a:t>
            </a: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HGP明朝E"/>
              </a:rPr>
              <a:t> learn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</a:rPr>
              <a:t>Evaluation of the impact of standard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  <a:ea typeface="Arial"/>
              </a:rPr>
              <a:t>Next Step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914400" y="167652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Outreach and dissemination of the framework by the NR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ate-led development of Next Generation Science Standards, coordinated by Achie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rogress on critical steps toward implem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lanning meeting to explore behavioral and social sciences in K-12 edu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23619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Thanks to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The Committe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rategic partners (NSTA, AAAS, Achiev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All those who commented on the draft framewor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Numerous external consulta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NRC Staf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xpert review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13716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Free PDF version of </a:t>
            </a:r>
            <a:r>
              <a:rPr b="0" i="1" lang="en-US" sz="3200" spc="-1" strike="noStrike">
                <a:solidFill>
                  <a:srgbClr val="333399"/>
                </a:solidFill>
                <a:latin typeface="Calibri"/>
              </a:rPr>
              <a:t>A Framework for K-12 Science Education </a:t>
            </a: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is available at:</a:t>
            </a:r>
            <a:br>
              <a:rPr sz="3200"/>
            </a:br>
            <a:r>
              <a:rPr b="0" lang="en-US" sz="28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http://www.nap.edu/catalog.php?record_id=13165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tle 1"/>
          <p:cNvSpPr/>
          <p:nvPr/>
        </p:nvSpPr>
        <p:spPr>
          <a:xfrm>
            <a:off x="380880" y="9907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Science for Al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tent Placeholder 2"/>
          <p:cNvSpPr/>
          <p:nvPr/>
        </p:nvSpPr>
        <p:spPr>
          <a:xfrm>
            <a:off x="1143000" y="1752480"/>
            <a:ext cx="7162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333399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cience, engineering and technology are cultural achievements and a shared good of humank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333399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cience, engineering and technology permeate modern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333399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Understanding of science and engineering is critical to participation in public policy and good decision-ma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333399"/>
              </a:buClr>
              <a:buSzPct val="7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More and more careers require knowledge of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1295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Why is a K-12 science framework needed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1349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Improved knowledge about learning and teaching sci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1349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Opportunities to improve current teaching pract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1349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Advances in scientific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5"/>
          <p:cNvGrpSpPr/>
          <p:nvPr/>
        </p:nvGrpSpPr>
        <p:grpSpPr>
          <a:xfrm>
            <a:off x="838080" y="1600200"/>
            <a:ext cx="6934320" cy="3352680"/>
            <a:chOff x="838080" y="1600200"/>
            <a:chExt cx="6934320" cy="3352680"/>
          </a:xfrm>
        </p:grpSpPr>
        <p:sp>
          <p:nvSpPr>
            <p:cNvPr id="213" name="Rounded Rectangle 19"/>
            <p:cNvSpPr/>
            <p:nvPr/>
          </p:nvSpPr>
          <p:spPr>
            <a:xfrm>
              <a:off x="838080" y="2971800"/>
              <a:ext cx="1600200" cy="53352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Frame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ounded Rectangle 20"/>
            <p:cNvSpPr/>
            <p:nvPr/>
          </p:nvSpPr>
          <p:spPr>
            <a:xfrm>
              <a:off x="3505320" y="2971800"/>
              <a:ext cx="1523880" cy="53352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Standa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ounded Rectangle 21"/>
            <p:cNvSpPr/>
            <p:nvPr/>
          </p:nvSpPr>
          <p:spPr>
            <a:xfrm>
              <a:off x="6019920" y="3276720"/>
              <a:ext cx="1676160" cy="45720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ounded Rectangle 22"/>
            <p:cNvSpPr/>
            <p:nvPr/>
          </p:nvSpPr>
          <p:spPr>
            <a:xfrm>
              <a:off x="6019920" y="2438280"/>
              <a:ext cx="1676160" cy="45720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Curricu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ounded Rectangle 23"/>
            <p:cNvSpPr/>
            <p:nvPr/>
          </p:nvSpPr>
          <p:spPr>
            <a:xfrm>
              <a:off x="6019920" y="1600200"/>
              <a:ext cx="1676160" cy="45720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Assess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ounded Rectangle 25"/>
            <p:cNvSpPr/>
            <p:nvPr/>
          </p:nvSpPr>
          <p:spPr>
            <a:xfrm>
              <a:off x="6019920" y="4114800"/>
              <a:ext cx="1752480" cy="83808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Teacher develop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ight Arrow 26"/>
            <p:cNvSpPr/>
            <p:nvPr/>
          </p:nvSpPr>
          <p:spPr>
            <a:xfrm>
              <a:off x="2666880" y="3124080"/>
              <a:ext cx="685800" cy="304920"/>
            </a:xfrm>
            <a:prstGeom prst="rightArrow">
              <a:avLst>
                <a:gd name="adj1" fmla="val 50000"/>
                <a:gd name="adj2" fmla="val 49980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ight Arrow 31"/>
            <p:cNvSpPr/>
            <p:nvPr/>
          </p:nvSpPr>
          <p:spPr>
            <a:xfrm rot="18906000">
              <a:off x="5101920" y="2280960"/>
              <a:ext cx="762120" cy="304560"/>
            </a:xfrm>
            <a:prstGeom prst="rightArrow">
              <a:avLst>
                <a:gd name="adj1" fmla="val 50000"/>
                <a:gd name="adj2" fmla="val 5004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ight Arrow 32"/>
            <p:cNvSpPr/>
            <p:nvPr/>
          </p:nvSpPr>
          <p:spPr>
            <a:xfrm rot="20365200">
              <a:off x="5205240" y="2746080"/>
              <a:ext cx="762120" cy="304560"/>
            </a:xfrm>
            <a:prstGeom prst="rightArrow">
              <a:avLst>
                <a:gd name="adj1" fmla="val 50000"/>
                <a:gd name="adj2" fmla="val 5004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ight Arrow 33"/>
            <p:cNvSpPr/>
            <p:nvPr/>
          </p:nvSpPr>
          <p:spPr>
            <a:xfrm rot="954000">
              <a:off x="5181120" y="3276360"/>
              <a:ext cx="762120" cy="304560"/>
            </a:xfrm>
            <a:prstGeom prst="rightArrow">
              <a:avLst>
                <a:gd name="adj1" fmla="val 50000"/>
                <a:gd name="adj2" fmla="val 5004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ight Arrow 34"/>
            <p:cNvSpPr/>
            <p:nvPr/>
          </p:nvSpPr>
          <p:spPr>
            <a:xfrm rot="1815000">
              <a:off x="5054400" y="3828960"/>
              <a:ext cx="761760" cy="304920"/>
            </a:xfrm>
            <a:prstGeom prst="rightArrow">
              <a:avLst>
                <a:gd name="adj1" fmla="val 50000"/>
                <a:gd name="adj2" fmla="val 49964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0773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Committee Members</a:t>
            </a:r>
            <a:br>
              <a:rPr sz="2900"/>
            </a:br>
            <a:r>
              <a:rPr b="0" lang="en-US" sz="2900" spc="-1" strike="noStrike">
                <a:solidFill>
                  <a:srgbClr val="009dd9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952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Helen Quinn, Chair Stanford University (Physic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Wyatt Anderson, University of Georgia (Biology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Tanya Atwater, UC Santa Barbara (Earth Science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Philip Bell, University of Washington (Learning Science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Thomas Corcoran, Center for Policy Research in Education, Columbia Teachers Colleg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Rodolfo Dirzo, Stanford University (Biology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Phillip Griffiths, Institute for Advanced Study, Princeton (Mathematic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Dudley Herschbach, Harvard University (Chemistry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Linda Katehi, UC Davis (Engineering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John Mather, NASA (Astrophysic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4479840" y="1717560"/>
            <a:ext cx="329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4724280" y="1295280"/>
            <a:ext cx="4114800" cy="44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Brett Moulding, Educator, Ut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Jonathan Osborne, Stanford University (Science Edu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James Pellegrino, University of Illinois at Chicago (Learning Scien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Stephen L. Pruitt, GA Department of Education (until June, 20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Brian Reiser, Northwestern University (Learning Scien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Rebecca Richards-Kortum, Rice University (Enginee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Walter Secada, University of Miami  (Mathematics Edu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Deborah Smith, Pennsylvania State University (Elementary Edu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Calibri"/>
              </a:rPr>
              <a:t>Design Tea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3772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</a:rPr>
              <a:t>Earth and Space Scienc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Michael Wysession (Lead), Department of Earth and Planetary Sciences, Washington University in Saint Loui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Scott Linneman, Geology Department, Western Washington University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Eric Pyle, Department of Geology &amp; Environmental Science, James Madison Univers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Dennis Schatz, Pacific Science Cent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Don Duggan-Haas, Paleontological Research Institution and its Museum of the Earth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</a:rPr>
              <a:t>Life Scienc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Rodger Bybee (Lead), BSC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Bruce Fuchs, National Institutes of Health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Kathy Comfort, WestE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Danine Ezell, San Diego County Office of Educati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57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</a:rPr>
              <a:t>Physical Scienc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Joseph Krajcik </a:t>
            </a:r>
            <a:r>
              <a:rPr b="0" i="1" lang="en-US" sz="1600" spc="-1" strike="noStrike">
                <a:solidFill>
                  <a:srgbClr val="333399"/>
                </a:solidFill>
                <a:latin typeface="Calibri"/>
              </a:rPr>
              <a:t>(Lead)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, School of Education, University of Michiga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Shawn Stevens, School of Education, University of Michiga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Sophia Gershman, Watchung Hills Regional High Schoo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Arthur Eisenkraft, Graduate College of Education, University of Massachusett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Angelica Stacy, Department of Chemistry, University of California, Berkele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</a:rPr>
              <a:t>Engineering,Technology and Applications of Scienc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Cary Sneider </a:t>
            </a:r>
            <a:r>
              <a:rPr b="0" i="1" lang="en-US" sz="1600" spc="-1" strike="noStrike">
                <a:solidFill>
                  <a:srgbClr val="333399"/>
                </a:solidFill>
                <a:latin typeface="Calibri"/>
              </a:rPr>
              <a:t>(Lead)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, Center for Education, Portland State Univers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Rodney L. Custer, Department of Technology, Illinois State Univers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Jacob Foster, Mass. Department of Elementary and Secondary Educati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Yvonne Spicer, Nat</a:t>
            </a:r>
            <a:r>
              <a:rPr b="0" lang="ja-JP" sz="1600" spc="-1" strike="noStrike">
                <a:solidFill>
                  <a:srgbClr val="333399"/>
                </a:solidFill>
                <a:latin typeface="Calibri"/>
                <a:ea typeface="HGP明朝E"/>
              </a:rPr>
              <a:t>’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  <a:ea typeface="HGP明朝E"/>
              </a:rPr>
              <a:t>l Center for Technological Literacy, Museum of Science, Bost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Maurice Frazier, Chesapeake Public School System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Goals of the Framewor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447920" y="2285640"/>
            <a:ext cx="6858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Coherent investigation of core ideas across multiple years of scho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More seamless blending of practices with core ideas and crosscutting concep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Learning Develops Over Tim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37720" y="15998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More expert knowledge is structured around conceptual framewor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Guide how they solve problems, make observations, and organized and structure new inform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Learning unfolds overti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Learning difficult ideas takes time and often come together as students work on a task that forces them to synthesize idea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Learning is facilitated when new and existing knowledge is structured around the core ide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Developing understanding is dependent on instr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20:05:52Z</dcterms:created>
  <dc:creator>dsprunge</dc:creator>
  <dc:description/>
  <dc:language>en-US</dc:language>
  <cp:lastModifiedBy>hschweingruber</cp:lastModifiedBy>
  <dcterms:modified xsi:type="dcterms:W3CDTF">2011-09-06T18:54:19Z</dcterms:modified>
  <cp:revision>64</cp:revision>
  <dc:subject/>
  <dc:title>Slide 1</dc:title>
</cp:coreProperties>
</file>