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4DC9-C6E7-4234-A5B4-057A0EB05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3169-970A-4A29-962A-94AC12C39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C47545D-7944-4B3E-A591-D090D49F1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6BB9-3EE0-4DE6-9755-F5EDFD660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9F0D14C-E569-4D9C-B285-6504DEDA0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1994-48C5-4618-81B5-18686083E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cutting concepts unify the study of science and engineering through their common application across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F4ACBF07-9D88-47B9-B91E-0FCDDA186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33DA-3B8E-4F76-817B-A1ADF7DD4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55C8025C-1FD7-4A1D-8219-739E4AB1A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4FAF-0D3B-459F-BD07-CF1CF8745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83821AA-AC5F-44C6-A5CF-69EA37001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464D-1014-4DCC-8655-A503CBFD2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785075D-41E8-41A7-970B-413AB7CEF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943A-089A-4F70-A5A7-37A857A3C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4401698-C8F9-44AE-BCB2-48947C6F1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2359-2112-4595-812F-694755BB6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berate interweaving of practices (developing and using models, planning and carrying out investigations), building to core ideas (matter and its interactions (particle theory) and from molecule to organisms); and crosscutting concept (systems and system mode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78EA247-E9BB-4CDB-A9E7-3CC26593B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48CF-0831-4955-8778-853E6B897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E8C3-0929-4502-AE37-62AE93A3A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5319-4B92-4B62-B13D-36731D73C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A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Benchmarks for Science Literacy, 1993; National Science Education Standards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such as Systems for State Science Assessment, 2005; Taking Science to School, 20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on of information access through developments in science and technology, e.g. cell phones, tab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A3F4B022-3486-4E11-B32B-4D2C59481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379A-2457-448F-9D70-30231DFEA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0DFFA8D-D7A2-47C8-9428-D2003ACD1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NAS and NAE members including 2 Nobel laureates; 9 other scientists and educators; note designed diversity of expertise and backgrounds; 2 physicists; 1 chemist; 2 biologists; 2 mathematicians, 2 engineers, 2 earth and space scientists, 3 learning scientists, 6 educational researchers, 5 wom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A1B-D5BF-453A-9930-E685A3FC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A98-E51B-4A90-8DA4-D2B56366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4E1-61D5-42CE-88DF-883D7F53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436-1026-470E-8865-DB9DEB7D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3096-D58E-4A02-824B-6B030EB7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FDCF-E413-4964-92B4-D579C43C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AB9E-D5DC-4586-8899-DE56E514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C1B9-4103-41EC-BD59-C5E12048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AE15-E3E5-4C28-80EC-56E28350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EA76-1E6C-4A0F-9A80-681602A1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4BF8-BC6B-4362-BCE7-A8A14E8E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829-02C1-4FB1-BC65-0638E1C4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CDC4-F309-4094-B840-5E8BE310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97EB-201F-419F-AC2A-4701ACDF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6ADA-E442-4FE4-8D51-53DE1A1B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813E-3120-4994-AB58-326082B4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F876-8FEA-480E-BF78-427866CF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02C78-C317-437F-8C32-99A02E8E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2D55B-1186-4EA6-9C7A-8E1FBF2E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97818-EBFE-4E0C-9DC3-C74980AF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0D0A4-37F0-4E49-8DE8-1B64760F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06E2D-BAA5-47DE-8FE0-736299F2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7DD-EF15-4C7F-91E9-D8CF8D65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BA554-FD69-4C07-8921-A6DE818D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EE9E6-D382-40C4-B937-9B4D51D9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4CA62-CB9A-4211-98D6-44BCD926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02439-636A-4542-9B29-16C94CA2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321AB-5598-4BC5-A0CC-F663465D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8B7D7-0AA9-495A-BC76-2F3BCA40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458E-89C1-4D0E-B519-0501A726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BFE75-3A6B-4CAA-BF04-C2B7F032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1EB20-5F49-4203-9582-AEFD6812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1E760-4BA0-4141-8C59-62B7685F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968-5FF0-49B7-8218-8FDDA629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E0A86-8621-4CBA-9234-28BD2367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76B74-237A-4505-90FA-2C1A1BDC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60136-59AB-4A66-801B-F1463D6A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7705E-359E-4833-9C93-70FF3A8B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E40B2-C8FF-4A1C-ABCB-970CF064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B8903-0CFC-457C-BCD7-E904EA1F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6BD58-6707-4E12-937D-A7EFAFEE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DD330-0E12-4F88-A0EF-D9296527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E3C07-0B51-4498-A95E-B16CE64C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A81-B69C-4999-BBC4-3307869D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D54-2B8A-4E25-B783-79E3281A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98B-462F-4C56-B8D9-B4C18DE2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04F-B956-41BD-AA42-B63B5443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2F2-0B9A-4CD5-A2FA-F99FA44D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3217-D298-4019-AC7E-E2A801F0519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10" descr="nrc-na"/>
          <p:cNvPicPr/>
          <p:nvPr/>
        </p:nvPicPr>
        <p:blipFill>
          <a:blip r:embed="rId5"/>
          <a:stretch/>
        </p:blipFill>
        <p:spPr>
          <a:xfrm>
            <a:off x="304920" y="6248520"/>
            <a:ext cx="333504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10" descr="nrc-na"/>
          <p:cNvPicPr/>
          <p:nvPr/>
        </p:nvPicPr>
        <p:blipFill>
          <a:blip r:embed="rId5"/>
          <a:stretch/>
        </p:blipFill>
        <p:spPr>
          <a:xfrm>
            <a:off x="304920" y="6248520"/>
            <a:ext cx="3335040" cy="3920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8C60-6ABA-496E-B015-5FD1080B086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10" descr="nrc-na"/>
          <p:cNvPicPr/>
          <p:nvPr/>
        </p:nvPicPr>
        <p:blipFill>
          <a:blip r:embed="rId5"/>
          <a:stretch/>
        </p:blipFill>
        <p:spPr>
          <a:xfrm>
            <a:off x="304920" y="6248520"/>
            <a:ext cx="3335040" cy="392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30BB-BAE3-4B6C-94EF-6CB98FF4C479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4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Triangle 15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6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8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431F-D757-448E-8DD6-9921A8982BE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ap.edu/catalog.php?record_id=13165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838080" y="1600200"/>
            <a:ext cx="7391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A Framework for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K-12 Science Education: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Practices, Crosscutting Concepts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and Core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5105520" y="4495680"/>
            <a:ext cx="4876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Board on Science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Three Dimens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510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cientific and engineering practi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Crosscutting concep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Disciplinary core ide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Scientific and Engineering Practices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047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alibri"/>
              </a:rPr>
              <a:t>1.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sking questions and defining probl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alibri"/>
              </a:rPr>
              <a:t>2.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Developing and using mod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alibri"/>
              </a:rPr>
              <a:t>3.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lanning and carrying out investig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alibri"/>
              </a:rPr>
              <a:t>4.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nalyzing and interpreting 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723920" y="1904760"/>
            <a:ext cx="4038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alibri"/>
              </a:rPr>
              <a:t>5.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Using mathematics and computational thin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alibri"/>
              </a:rPr>
              <a:t>6.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Developing explanations and designing solu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alibri"/>
              </a:rPr>
              <a:t>7.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ngaging in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alibri"/>
              </a:rPr>
              <a:t>8.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Obtaining, evaluating, and communicating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Crosscutting Concepts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Cause and eff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cale, proportion and 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ystems and system mod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nergy and mat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ructure and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ability and 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A core idea for K-12 science instruction is a scientific idea that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Has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broad importance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across multiple science or engineering disciplines or is a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key organizing concept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of a single discip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rovides a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key tool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for understanding or investigating more complex ideas and solving probl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Relates to the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interests and life experiences of students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or can be connected to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societal or personal concerns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that require scientific or technical knowledg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Is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teachable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learnable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over multiple grades at increasing levels of depth and sophisti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Disciplinary Core Ideas: </a:t>
            </a:r>
            <a:br>
              <a:rPr sz="2900"/>
            </a:b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Physical Sciences</a:t>
            </a:r>
            <a:br>
              <a:rPr sz="36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S1  Matter and its intera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S2  Motion and stability: Forces and intera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S3  Ener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S4  Waves and their applications in technologies for information transf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Disciplinary Core Ideas: </a:t>
            </a:r>
            <a:br>
              <a:rPr sz="2900"/>
            </a:b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Life Sciences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LS1  From molecules to organisms: Structures and proc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LS2  Ecosystems: Interactions, energy, and dynam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LS3  Heredity: Inheritance and variation of tra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LS4  Biological evolution: Unity and divers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Disciplinary Core Ideas: </a:t>
            </a:r>
            <a:br>
              <a:rPr sz="2900"/>
            </a:b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Earth and Space Sciences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52480" y="2514240"/>
            <a:ext cx="6019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SS1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arth</a:t>
            </a:r>
            <a:r>
              <a:rPr b="0" lang="ja-JP" sz="2400" spc="-1" strike="noStrike">
                <a:solidFill>
                  <a:srgbClr val="333399"/>
                </a:solidFill>
                <a:latin typeface="Calibri"/>
                <a:ea typeface="HGP明朝E"/>
              </a:rPr>
              <a:t>’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HGP明朝E"/>
              </a:rPr>
              <a:t>s place in the univer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SS2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arth</a:t>
            </a:r>
            <a:r>
              <a:rPr b="0" lang="ja-JP" sz="2400" spc="-1" strike="noStrike">
                <a:solidFill>
                  <a:srgbClr val="333399"/>
                </a:solidFill>
                <a:latin typeface="Calibri"/>
                <a:ea typeface="HGP明朝E"/>
              </a:rPr>
              <a:t>’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HGP明朝E"/>
              </a:rPr>
              <a:t>s syst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SS3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arth and human activ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Disciplinary Core Ideas: </a:t>
            </a:r>
            <a:br>
              <a:rPr sz="2900"/>
            </a:b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Engineering, Technology and Applications of Science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TS1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ngineering de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TS2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Links among engineering, technology, science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nd socie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Integrating the Dimensions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To facilitate students</a:t>
            </a:r>
            <a:r>
              <a:rPr b="0" lang="ja-JP" sz="2400" spc="-1" strike="noStrike">
                <a:solidFill>
                  <a:srgbClr val="333399"/>
                </a:solidFill>
                <a:latin typeface="Constantia"/>
                <a:ea typeface="HGP明朝E"/>
              </a:rPr>
              <a:t>’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HGP明朝E"/>
              </a:rPr>
              <a:t> learning the dimensions must be woven together in standards, assessments, curriculum and instru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udents should explore a core idea by engaging in the practices and making connections to crosscutting concept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Implica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19047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Not separate treatment of “content” and “inquiry” </a:t>
            </a:r>
            <a:r>
              <a:rPr b="1" i="1" lang="en-US" sz="2400" spc="-1" strike="noStrike">
                <a:solidFill>
                  <a:srgbClr val="333399"/>
                </a:solidFill>
                <a:latin typeface="Calibri"/>
              </a:rPr>
              <a:t>(No “Chapter 1”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Curriculum and instruction needs to do more than present and assess scientific ideas – they need to involve learners in using scientific practices to develop and apply the scientific ideas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2360520" cy="41781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6858000" y="1981080"/>
            <a:ext cx="9428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4114800" y="24382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5105520" y="1828800"/>
            <a:ext cx="16142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rosscutting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3" descr=""/>
          <p:cNvPicPr/>
          <p:nvPr/>
        </p:nvPicPr>
        <p:blipFill>
          <a:blip r:embed="rId1"/>
          <a:stretch/>
        </p:blipFill>
        <p:spPr>
          <a:xfrm>
            <a:off x="530280" y="2176560"/>
            <a:ext cx="831528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682560" y="573120"/>
            <a:ext cx="7553520" cy="110952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3"/>
          <p:cNvSpPr/>
          <p:nvPr/>
        </p:nvSpPr>
        <p:spPr>
          <a:xfrm>
            <a:off x="4869000" y="4627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990720" y="1905120"/>
          <a:ext cx="6781680" cy="4035240"/>
        </p:xfrm>
        <a:graphic>
          <a:graphicData uri="http://schemas.openxmlformats.org/drawingml/2006/table">
            <a:tbl>
              <a:tblPr/>
              <a:tblGrid>
                <a:gridCol w="1828800"/>
                <a:gridCol w="1218960"/>
                <a:gridCol w="1067040"/>
                <a:gridCol w="1295280"/>
                <a:gridCol w="13716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hys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i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th</a:t>
                      </a:r>
                      <a:r>
                        <a:rPr b="0" lang="en-US" sz="2400" spc="-1" strike="noStrike">
                          <a:solidFill>
                            <a:srgbClr val="830013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0013"/>
                          </a:solidFill>
                          <a:latin typeface="Arial"/>
                          <a:ea typeface="Arial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0013"/>
                          </a:solidFill>
                          <a:latin typeface="Arial"/>
                          <a:ea typeface="Arial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0013"/>
                          </a:solidFill>
                          <a:latin typeface="Arial"/>
                          <a:ea typeface="Arial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0013"/>
                          </a:solidFill>
                          <a:latin typeface="Arial"/>
                          <a:ea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ndersta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WordArt 44"/>
          <p:cNvSpPr txBox="1"/>
          <p:nvPr/>
        </p:nvSpPr>
        <p:spPr>
          <a:xfrm rot="21588600">
            <a:off x="3278160" y="5264280"/>
            <a:ext cx="3817800" cy="536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41e99"/>
                  </a:solidFill>
                  <a:miter/>
                </a:ln>
                <a:solidFill>
                  <a:srgbClr val="2c08f4"/>
                </a:solidFill>
                <a:effectLst>
                  <a:outerShdw dist="46745" dir="2116872" blurRad="0" rotWithShape="0">
                    <a:srgbClr val="c0c0c0">
                      <a:alpha val="75000"/>
                    </a:srgbClr>
                  </a:outerShdw>
                </a:effectLst>
                <a:latin typeface="Arial"/>
              </a:rPr>
              <a:t>Little understanding</a:t>
            </a:r>
            <a:endParaRPr b="1" lang="en-US" sz="2000" spc="1" strike="noStrike">
              <a:ln w="9360">
                <a:solidFill>
                  <a:srgbClr val="041e99"/>
                </a:solidFill>
                <a:miter/>
              </a:ln>
              <a:solidFill>
                <a:srgbClr val="2c08f4"/>
              </a:solidFill>
              <a:effectLst>
                <a:outerShdw dist="46745" dir="2116872" blurRad="0" rotWithShape="0">
                  <a:srgbClr val="c0c0c0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365040" y="974880"/>
            <a:ext cx="8425080" cy="9633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"/>
          <p:cNvSpPr/>
          <p:nvPr/>
        </p:nvSpPr>
        <p:spPr>
          <a:xfrm>
            <a:off x="4799160" y="4754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371600" y="1981080"/>
          <a:ext cx="6781680" cy="4013280"/>
        </p:xfrm>
        <a:graphic>
          <a:graphicData uri="http://schemas.openxmlformats.org/drawingml/2006/table">
            <a:tbl>
              <a:tblPr/>
              <a:tblGrid>
                <a:gridCol w="1828800"/>
                <a:gridCol w="1219320"/>
                <a:gridCol w="1066680"/>
                <a:gridCol w="1295280"/>
                <a:gridCol w="13716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hys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i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th</a:t>
                      </a:r>
                      <a:r>
                        <a:rPr b="0" lang="en-US" sz="2400" spc="-1" strike="noStrike">
                          <a:solidFill>
                            <a:srgbClr val="830013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ndersta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7" name="Line 43"/>
          <p:cNvSpPr/>
          <p:nvPr/>
        </p:nvSpPr>
        <p:spPr>
          <a:xfrm>
            <a:off x="3886200" y="2895480"/>
            <a:ext cx="0" cy="2210040"/>
          </a:xfrm>
          <a:prstGeom prst="line">
            <a:avLst/>
          </a:prstGeom>
          <a:ln w="28440">
            <a:solidFill>
              <a:srgbClr val="8300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44"/>
          <p:cNvSpPr txBox="1"/>
          <p:nvPr/>
        </p:nvSpPr>
        <p:spPr>
          <a:xfrm rot="16200000">
            <a:off x="2901960" y="3803760"/>
            <a:ext cx="1355760" cy="30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30013"/>
                </a:solidFill>
                <a:effectLst>
                  <a:outerShdw dist="46745" dir="2116872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Energy&amp; explanation</a:t>
            </a:r>
            <a:endParaRPr b="0" lang="en-US" sz="2000" spc="1" strike="noStrike">
              <a:ln w="0">
                <a:noFill/>
              </a:ln>
              <a:solidFill>
                <a:srgbClr val="830013"/>
              </a:solidFill>
              <a:effectLst>
                <a:outerShdw dist="46745" dir="2116872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2743200" y="3124080"/>
            <a:ext cx="4648320" cy="0"/>
          </a:xfrm>
          <a:prstGeom prst="line">
            <a:avLst/>
          </a:prstGeom>
          <a:ln w="28440">
            <a:solidFill>
              <a:srgbClr val="8300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7"/>
          <p:cNvSpPr/>
          <p:nvPr/>
        </p:nvSpPr>
        <p:spPr>
          <a:xfrm>
            <a:off x="2590920" y="3962520"/>
            <a:ext cx="4724280" cy="0"/>
          </a:xfrm>
          <a:prstGeom prst="line">
            <a:avLst/>
          </a:prstGeom>
          <a:ln w="28440">
            <a:solidFill>
              <a:srgbClr val="8300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48"/>
          <p:cNvSpPr txBox="1"/>
          <p:nvPr/>
        </p:nvSpPr>
        <p:spPr>
          <a:xfrm>
            <a:off x="4038480" y="4603680"/>
            <a:ext cx="1757520" cy="501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30013"/>
                </a:solidFill>
                <a:effectLst>
                  <a:outerShdw dist="46745" dir="2116872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Energy &amp; Explanation </a:t>
            </a:r>
            <a:endParaRPr b="0" lang="en-US" sz="1800" spc="1" strike="noStrike">
              <a:ln w="0">
                <a:noFill/>
              </a:ln>
              <a:solidFill>
                <a:srgbClr val="830013"/>
              </a:solidFill>
              <a:effectLst>
                <a:outerShdw dist="46745" dir="2116872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2" name="Line 49"/>
          <p:cNvSpPr/>
          <p:nvPr/>
        </p:nvSpPr>
        <p:spPr>
          <a:xfrm>
            <a:off x="2743200" y="4800600"/>
            <a:ext cx="4648320" cy="0"/>
          </a:xfrm>
          <a:prstGeom prst="line">
            <a:avLst/>
          </a:prstGeom>
          <a:ln w="28440">
            <a:solidFill>
              <a:srgbClr val="8300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1"/>
          <p:cNvSpPr/>
          <p:nvPr/>
        </p:nvSpPr>
        <p:spPr>
          <a:xfrm>
            <a:off x="4952880" y="2895480"/>
            <a:ext cx="0" cy="2210040"/>
          </a:xfrm>
          <a:prstGeom prst="line">
            <a:avLst/>
          </a:prstGeom>
          <a:ln w="28440">
            <a:solidFill>
              <a:srgbClr val="8300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3"/>
          <p:cNvSpPr/>
          <p:nvPr/>
        </p:nvSpPr>
        <p:spPr>
          <a:xfrm>
            <a:off x="6095880" y="2895480"/>
            <a:ext cx="0" cy="2210040"/>
          </a:xfrm>
          <a:prstGeom prst="line">
            <a:avLst/>
          </a:prstGeom>
          <a:ln w="28440">
            <a:solidFill>
              <a:srgbClr val="8300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5"/>
          <p:cNvSpPr/>
          <p:nvPr/>
        </p:nvSpPr>
        <p:spPr>
          <a:xfrm>
            <a:off x="7391520" y="2895480"/>
            <a:ext cx="0" cy="2210040"/>
          </a:xfrm>
          <a:prstGeom prst="line">
            <a:avLst/>
          </a:prstGeom>
          <a:ln w="28440">
            <a:solidFill>
              <a:srgbClr val="8300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57"/>
          <p:cNvSpPr txBox="1"/>
          <p:nvPr/>
        </p:nvSpPr>
        <p:spPr>
          <a:xfrm rot="21588600">
            <a:off x="3201840" y="5342040"/>
            <a:ext cx="4953240" cy="53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41e99"/>
                  </a:solidFill>
                  <a:miter/>
                </a:ln>
                <a:solidFill>
                  <a:srgbClr val="2c08f4"/>
                </a:solidFill>
                <a:effectLst>
                  <a:outerShdw dist="46745" dir="2116872" blurRad="0" rotWithShape="0">
                    <a:srgbClr val="c0c0c0">
                      <a:alpha val="75000"/>
                    </a:srgbClr>
                  </a:outerShdw>
                </a:effectLst>
                <a:latin typeface="Arial"/>
              </a:rPr>
              <a:t>Integrated, Useful &amp; Meaningful</a:t>
            </a:r>
            <a:endParaRPr b="1" lang="en-US" sz="2000" spc="1" strike="noStrike">
              <a:ln w="9360">
                <a:solidFill>
                  <a:srgbClr val="041e99"/>
                </a:solidFill>
                <a:miter/>
              </a:ln>
              <a:solidFill>
                <a:srgbClr val="2c08f4"/>
              </a:solidFill>
              <a:effectLst>
                <a:outerShdw dist="46745" dir="2116872" blurRad="0" rotWithShape="0">
                  <a:srgbClr val="c0c0c0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7" name="WordArt 48"/>
          <p:cNvSpPr txBox="1"/>
          <p:nvPr/>
        </p:nvSpPr>
        <p:spPr>
          <a:xfrm>
            <a:off x="4038480" y="3048120"/>
            <a:ext cx="1824120" cy="533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30013"/>
                </a:solidFill>
                <a:effectLst>
                  <a:outerShdw dist="46745" dir="2116872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Energy &amp; Explanation </a:t>
            </a:r>
            <a:endParaRPr b="0" lang="en-US" sz="1800" spc="1" strike="noStrike">
              <a:ln w="0">
                <a:noFill/>
              </a:ln>
              <a:solidFill>
                <a:srgbClr val="830013"/>
              </a:solidFill>
              <a:effectLst>
                <a:outerShdw dist="46745" dir="2116872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8" name="WordArt 44"/>
          <p:cNvSpPr txBox="1"/>
          <p:nvPr/>
        </p:nvSpPr>
        <p:spPr>
          <a:xfrm rot="16200000">
            <a:off x="6483240" y="3727440"/>
            <a:ext cx="1355760" cy="30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30013"/>
                </a:solidFill>
                <a:effectLst>
                  <a:outerShdw dist="46745" dir="2116872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Energy&amp; explanation</a:t>
            </a:r>
            <a:endParaRPr b="0" lang="en-US" sz="2000" spc="1" strike="noStrike">
              <a:ln w="0">
                <a:noFill/>
              </a:ln>
              <a:solidFill>
                <a:srgbClr val="830013"/>
              </a:solidFill>
              <a:effectLst>
                <a:outerShdw dist="46745" dir="2116872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Implementation: Aligning Components of the System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Curriculum and instructional materi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re-service preparation of teac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rofessional development for in-service teac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Diversity and Equity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057040" y="2285640"/>
            <a:ext cx="6629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qualizing opportunities to lear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Inclusive science instr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Making diversity visi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Value multiple modes of ex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Guidance for Standards Developers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et rigorous learning goals for all stud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mphasize all 3 dimen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Include performance expect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Be organized as progressions that support learning over multiple gra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ttend to issues of diversity and equ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Key Areas of Research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676520" y="1676160"/>
            <a:ext cx="670536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</a:rPr>
              <a:t>Learning progress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</a:rPr>
              <a:t>Scientific and engineering practi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</a:rPr>
              <a:t>Curricular and instructional materia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</a:rPr>
              <a:t>Assessmen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</a:rPr>
              <a:t>Supporting teachers</a:t>
            </a:r>
            <a:r>
              <a:rPr b="0" lang="ja-JP" sz="2200" spc="-1" strike="noStrike">
                <a:solidFill>
                  <a:srgbClr val="333399"/>
                </a:solidFill>
                <a:latin typeface="Calibri"/>
                <a:ea typeface="HGP明朝E"/>
              </a:rPr>
              <a:t>’</a:t>
            </a: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HGP明朝E"/>
              </a:rPr>
              <a:t> learn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</a:rPr>
              <a:t>Evaluation of the impact of standar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  <a:ea typeface="Arial"/>
              </a:rPr>
              <a:t>Next Step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14400" y="167652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Outreach and dissemination of the framework by the NR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ate-led development of Next Generation Science Standards, coordinated by Achie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rogress on critical steps toward implem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lanning meeting to explore behavioral and social sciences in K-12 edu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23619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Thanks to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The Committe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rategic partners (NSTA, AAAS, Achiev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ll those who commented on the draft framewor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Numerous external consulta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NRC Staf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xpert review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3716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Free PDF version of </a:t>
            </a:r>
            <a:r>
              <a:rPr b="0" i="1" lang="en-US" sz="3200" spc="-1" strike="noStrike">
                <a:solidFill>
                  <a:srgbClr val="333399"/>
                </a:solidFill>
                <a:latin typeface="Calibri"/>
              </a:rPr>
              <a:t>A Framework for K-12 Science Education </a:t>
            </a: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is available at:</a:t>
            </a:r>
            <a:br>
              <a:rPr sz="3200"/>
            </a:br>
            <a:r>
              <a:rPr b="0" lang="en-US" sz="28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http://www.nap.edu/catalog.php?record_id=13165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tle 1"/>
          <p:cNvSpPr/>
          <p:nvPr/>
        </p:nvSpPr>
        <p:spPr>
          <a:xfrm>
            <a:off x="380880" y="990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Science for Al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tent Placeholder 2"/>
          <p:cNvSpPr/>
          <p:nvPr/>
        </p:nvSpPr>
        <p:spPr>
          <a:xfrm>
            <a:off x="1143000" y="1752480"/>
            <a:ext cx="7162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333399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cience, engineering and technology are cultural achievements and a shared good of humank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333399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cience, engineering and technology permeate modern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333399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Understanding of science and engineering is critical to participation in public policy and good decision-ma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333399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More and more careers require knowledge of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Why is a K-12 science framework needed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Improved knowledge about learning and teaching sc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Opportunities to improve current teaching pract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dvances in scientific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5"/>
          <p:cNvGrpSpPr/>
          <p:nvPr/>
        </p:nvGrpSpPr>
        <p:grpSpPr>
          <a:xfrm>
            <a:off x="838080" y="1600200"/>
            <a:ext cx="6934320" cy="3352680"/>
            <a:chOff x="838080" y="1600200"/>
            <a:chExt cx="6934320" cy="3352680"/>
          </a:xfrm>
        </p:grpSpPr>
        <p:sp>
          <p:nvSpPr>
            <p:cNvPr id="213" name="Rounded Rectangle 19"/>
            <p:cNvSpPr/>
            <p:nvPr/>
          </p:nvSpPr>
          <p:spPr>
            <a:xfrm>
              <a:off x="838080" y="2971800"/>
              <a:ext cx="1600200" cy="53352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Frame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ounded Rectangle 20"/>
            <p:cNvSpPr/>
            <p:nvPr/>
          </p:nvSpPr>
          <p:spPr>
            <a:xfrm>
              <a:off x="3505320" y="2971800"/>
              <a:ext cx="1523880" cy="53352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Standa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ounded Rectangle 21"/>
            <p:cNvSpPr/>
            <p:nvPr/>
          </p:nvSpPr>
          <p:spPr>
            <a:xfrm>
              <a:off x="6019920" y="3276720"/>
              <a:ext cx="1676160" cy="45720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ounded Rectangle 22"/>
            <p:cNvSpPr/>
            <p:nvPr/>
          </p:nvSpPr>
          <p:spPr>
            <a:xfrm>
              <a:off x="6019920" y="2438280"/>
              <a:ext cx="1676160" cy="45720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Curricu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ounded Rectangle 23"/>
            <p:cNvSpPr/>
            <p:nvPr/>
          </p:nvSpPr>
          <p:spPr>
            <a:xfrm>
              <a:off x="6019920" y="1600200"/>
              <a:ext cx="1676160" cy="45720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Assess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5"/>
            <p:cNvSpPr/>
            <p:nvPr/>
          </p:nvSpPr>
          <p:spPr>
            <a:xfrm>
              <a:off x="6019920" y="4114800"/>
              <a:ext cx="1752480" cy="83808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eacher develop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ight Arrow 26"/>
            <p:cNvSpPr/>
            <p:nvPr/>
          </p:nvSpPr>
          <p:spPr>
            <a:xfrm>
              <a:off x="2666880" y="3124080"/>
              <a:ext cx="685800" cy="304920"/>
            </a:xfrm>
            <a:prstGeom prst="rightArrow">
              <a:avLst>
                <a:gd name="adj1" fmla="val 50000"/>
                <a:gd name="adj2" fmla="val 49980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ight Arrow 31"/>
            <p:cNvSpPr/>
            <p:nvPr/>
          </p:nvSpPr>
          <p:spPr>
            <a:xfrm rot="18906000">
              <a:off x="5101920" y="2280960"/>
              <a:ext cx="762120" cy="304560"/>
            </a:xfrm>
            <a:prstGeom prst="rightArrow">
              <a:avLst>
                <a:gd name="adj1" fmla="val 50000"/>
                <a:gd name="adj2" fmla="val 5004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ight Arrow 32"/>
            <p:cNvSpPr/>
            <p:nvPr/>
          </p:nvSpPr>
          <p:spPr>
            <a:xfrm rot="20365200">
              <a:off x="5205240" y="2746080"/>
              <a:ext cx="762120" cy="304560"/>
            </a:xfrm>
            <a:prstGeom prst="rightArrow">
              <a:avLst>
                <a:gd name="adj1" fmla="val 50000"/>
                <a:gd name="adj2" fmla="val 5004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ight Arrow 33"/>
            <p:cNvSpPr/>
            <p:nvPr/>
          </p:nvSpPr>
          <p:spPr>
            <a:xfrm rot="954000">
              <a:off x="5181120" y="3276360"/>
              <a:ext cx="762120" cy="304560"/>
            </a:xfrm>
            <a:prstGeom prst="rightArrow">
              <a:avLst>
                <a:gd name="adj1" fmla="val 50000"/>
                <a:gd name="adj2" fmla="val 5004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ight Arrow 34"/>
            <p:cNvSpPr/>
            <p:nvPr/>
          </p:nvSpPr>
          <p:spPr>
            <a:xfrm rot="1815000">
              <a:off x="5054400" y="3828960"/>
              <a:ext cx="761760" cy="304920"/>
            </a:xfrm>
            <a:prstGeom prst="rightArrow">
              <a:avLst>
                <a:gd name="adj1" fmla="val 50000"/>
                <a:gd name="adj2" fmla="val 49964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0773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Committee Members</a:t>
            </a:r>
            <a:br>
              <a:rPr sz="2900"/>
            </a:br>
            <a:r>
              <a:rPr b="0" lang="en-US" sz="2900" spc="-1" strike="noStrike">
                <a:solidFill>
                  <a:srgbClr val="009dd9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52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Helen Quinn, Chair Stanford University (Physic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Wyatt Anderson, University of Georgia (Biology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Tanya Atwater, UC Santa Barbara (Earth Science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Philip Bell, University of Washington (Learning Science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Thomas Corcoran, Center for Policy Research in Education, Columbia Teachers Colleg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Rodolfo Dirzo, Stanford University (Biology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Phillip Griffiths, Institute for Advanced Study, Princeton (Mathematic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Dudley Herschbach, Harvard University (Chemistry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Linda Katehi, UC Davis (Engineering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John Mather, NASA (Astrophysic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479840" y="1717560"/>
            <a:ext cx="329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4724280" y="1295280"/>
            <a:ext cx="4114800" cy="44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Brett Moulding, Educator, Ut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Jonathan Osborne, Stanford University (Science Edu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James Pellegrino, University of Illinois at Chicago (Learning Scien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Stephen L. Pruitt, GA Department of Education (until June, 20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Brian Reiser, Northwestern University (Learning Scien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Rebecca Richards-Kortum, Rice University (Enginee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Walter Secada, University of Miami  (Mathematics Edu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Deborah Smith, Pennsylvania State University (Elementary Edu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Design Tea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3772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</a:rPr>
              <a:t>Earth and Space Scien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Michael Wysession (Lead), Department of Earth and Planetary Sciences, Washington University in Saint Loui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Scott Linneman, Geology Department, Western Washington University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Eric Pyle, Department of Geology &amp; Environmental Science, James Madison Univers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Dennis Schatz, Pacific Science Cent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Don Duggan-Haas, Paleontological Research Institution and its Museum of the Earth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</a:rPr>
              <a:t>Life Scien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Rodger Bybee (Lead), BSC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Bruce Fuchs, National Institutes of Health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Kathy Comfort, WestE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Danine Ezell, San Diego County Office of Educa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57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</a:rPr>
              <a:t>Physical Scien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Joseph Krajcik </a:t>
            </a:r>
            <a:r>
              <a:rPr b="0" i="1" lang="en-US" sz="1600" spc="-1" strike="noStrike">
                <a:solidFill>
                  <a:srgbClr val="333399"/>
                </a:solidFill>
                <a:latin typeface="Calibri"/>
              </a:rPr>
              <a:t>(Lead)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, School of Education, University of Michiga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Shawn Stevens, School of Education, University of Michiga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Sophia Gershman, Watchung Hills Regional High Schoo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Arthur Eisenkraft, Graduate College of Education, University of Massachusett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Angelica Stacy, Department of Chemistry, University of California, Berkele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</a:rPr>
              <a:t>Engineering,Technology and Applications of Scien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Cary Sneider </a:t>
            </a:r>
            <a:r>
              <a:rPr b="0" i="1" lang="en-US" sz="1600" spc="-1" strike="noStrike">
                <a:solidFill>
                  <a:srgbClr val="333399"/>
                </a:solidFill>
                <a:latin typeface="Calibri"/>
              </a:rPr>
              <a:t>(Lead)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, Center for Education, Portland State Univers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Rodney L. Custer, Department of Technology, Illinois State Univers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Jacob Foster, Mass. Department of Elementary and Secondary Educa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Yvonne Spicer, Nat</a:t>
            </a:r>
            <a:r>
              <a:rPr b="0" lang="ja-JP" sz="1600" spc="-1" strike="noStrike">
                <a:solidFill>
                  <a:srgbClr val="333399"/>
                </a:solidFill>
                <a:latin typeface="Calibri"/>
                <a:ea typeface="HGP明朝E"/>
              </a:rPr>
              <a:t>’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  <a:ea typeface="HGP明朝E"/>
              </a:rPr>
              <a:t>l Center for Technological Literacy, Museum of Science, Bost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Maurice Frazier, Chesapeake Public School System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Goals of the Framewor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447920" y="2285640"/>
            <a:ext cx="6858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Coherent investigation of core ideas across multiple years of scho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More seamless blending of practices with core ideas and crosscutting concep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Learning Develops Over Tim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37720" y="15998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More expert knowledge is structured around conceptual framewor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Guide how they solve problems, make observations, and organized and structure new inform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Learning unfolds over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Learning difficult ideas takes time and often come together as students work on a task that forces them to synthesize idea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Learning is facilitated when new and existing knowledge is structured around the core ide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Developing understanding is dependent on instr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20:05:52Z</dcterms:created>
  <dc:creator>dsprunge</dc:creator>
  <dc:description/>
  <dc:language>en-US</dc:language>
  <cp:lastModifiedBy>hschweingruber</cp:lastModifiedBy>
  <dcterms:modified xsi:type="dcterms:W3CDTF">2011-09-06T18:54:19Z</dcterms:modified>
  <cp:revision>64</cp:revision>
  <dc:subject/>
  <dc:title>Slide 1</dc:title>
</cp:coreProperties>
</file>