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263-2F59-4D2F-B980-9C5E0705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941-BBDD-4A33-BE27-58474F04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2F1-71F6-44CF-BC77-402C3051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85A-1877-4350-8E4B-09EC90D5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C165-594E-4C36-AC0C-4AE4A4A9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B12A-EE4B-4828-BFFE-5EE74583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A8F0-23AE-4D55-B083-69963242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D3DC-9171-495A-9F0B-FF220C10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01EB-C9EC-45A7-8E9F-E1121CF8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EB4E-9CAD-4289-BF7E-5767D96C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B532-DB8D-4BB7-A45E-E313C0E4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410-A049-4C9C-80E9-D06CDA99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18D6-5824-4496-A08F-110FBA92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4F13-79F5-46AC-9081-57D75F6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D1EA-BBBE-411D-90AB-26D1558D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CC8D-1C44-4EFE-B3E1-0185EB67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C67D-4B63-419F-8730-6B3E34D3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FAF-3324-4D88-83E8-1F8B0B3B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314-E8CF-4CF6-8955-75D81BE7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E6F-DDDD-4AC2-A6F8-F0E1A926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98E-72E6-49FD-9E82-1AE7BD9B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DD0-2A43-4FEF-9C14-9A059E9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255-06FB-4AE0-806A-E547AA4A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E01-94F4-49DA-A1D6-E593DC69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466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B6A6-4A0C-4132-9A2D-0462F0AD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466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746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C298-2348-48DA-90C8-A895F529B1D8}" type="slidenum">
              <a:rPr b="0" lang="en-US" sz="1400" spc="-1" strike="noStrike">
                <a:solidFill>
                  <a:srgbClr val="17466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4668"/>
                </a:solidFill>
                <a:latin typeface="Times New Roman"/>
              </a:rPr>
              <a:t>BSCS Curriculum Development</a:t>
            </a: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rriculum design informed b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c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derstanding By Desig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ggins &amp; McTighe,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on malleable factors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People Learn, NA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fidelity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er-support materials of equal focus to that of the student 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to increase content and pedagog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to maximize fide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erative design with field-tes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4668"/>
                </a:solidFill>
                <a:latin typeface="Times New Roman"/>
              </a:rPr>
              <a:t>Fidelity in a Development Project</a:t>
            </a: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sk if it feasib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eachers of various expertise levels and contexts (geographic, demographic) to teach the program with sufficient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fidel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not, what professional development is necessar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gram features to be taught with sufficient fidelity, e.g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SCS 5Es (Engage, Explore, Explain, Elaborate, Evalu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in each, e.g.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laborative Lear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tacogni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nse-M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4668"/>
                </a:solidFill>
                <a:latin typeface="Times New Roman"/>
              </a:rPr>
              <a:t>Fidelity in Efficacy Trials</a:t>
            </a: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tistical conclusion valid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Unreliability of Treatment Implementation (Shadish et al., 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of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chieved relative treatment streng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Hulleman and Cordray,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ful for secondary, exploratory analyses (e.g., treatment on the treat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ur efficacy trial, we had external consultants observe (live) and measure fidelity (8 times/yr) following training and calibration at BS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lly observers would be blind to treatment condition but we couldn’t ensure this in our study of curriculum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rect (correlated) measures of fidelity – RTOP (Sawada et al., 2002) allows for comparisons across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22:09:44Z</dcterms:created>
  <dc:creator>Joe Taylor</dc:creator>
  <dc:description/>
  <dc:language>en-US</dc:language>
  <cp:lastModifiedBy> </cp:lastModifiedBy>
  <dcterms:modified xsi:type="dcterms:W3CDTF">2011-09-06T14:32:43Z</dcterms:modified>
  <cp:revision>8</cp:revision>
  <dc:subject/>
  <dc:title>PowerPoint Presentation</dc:title>
</cp:coreProperties>
</file>