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437-80F7-4810-B2F3-3FC2EAB2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349-6FA0-4B12-AF66-687426A7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B10-3498-4EA5-9CB5-F1D2109C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F7E-44BE-4E51-ACA0-07A29FA2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40D7-39C5-49CD-84FF-354AB9FF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5010-A18E-4FFB-86F3-CBB34B76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F61C-9369-40CC-BF36-746853E3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2A39-1E49-43F3-A5CC-18CFC9D1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D54C-2A2E-4963-963F-A09B3A9A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5F57-8C4C-4711-AECD-F1684E44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91AC-6340-487D-8BED-08D2E93F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306-C747-4261-AB43-6F35A725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6CD6-4D73-4202-9E89-6E1E033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B2E7-9F8A-44B0-B174-C88BB190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9946-AC53-49B1-86FA-135A0A4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67CE-0A95-4A2F-8311-17AD86A6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07BE-D2EA-4D22-8363-610322BD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064-2E2B-4D1C-B6AE-31768734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ABA-0749-4242-A672-D1F0664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EDB-F34D-4FE1-BD96-6D769E2A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C7E-E34B-4DF4-96D6-C6EF6D06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07C-0038-4114-966D-E10C2B8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6BE-1653-4666-A074-8FBA8391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EE2-D59C-4AD0-B7ED-BF949193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261C-A2CE-4115-9BFF-D8684023E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746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2B4A-E8DF-4BAF-B570-7B9982711756}" type="slidenum">
              <a:rPr b="0" lang="en-US" sz="1400" spc="-1" strike="noStrike">
                <a:solidFill>
                  <a:srgbClr val="17466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BSCS Curriculum Development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rriculum design informed b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c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derstanding By Desig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ggins &amp; McTighe,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on malleable factors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People Learn, NA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fidelity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-support materials of equal focus to that of the student 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increase content and pedagog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maximize fide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erative design with field-tes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Fidelity in a Development Project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sk if it feasib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eachers of various expertise levels and contexts (geographic, demographic) to teach the program with sufficient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fidel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not, what professional development is necessar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gram features to be taught with sufficient fidelity, e.g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SCS 5Es (Engage, Explore, Explain, Elaborate, Evalu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in each, e.g.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laborative Lear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tacogni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nse-M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4668"/>
                </a:solidFill>
                <a:latin typeface="Times New Roman"/>
              </a:rPr>
              <a:t>Fidelity in Efficacy Trials</a:t>
            </a:r>
            <a:endParaRPr b="0" lang="en-US" sz="3600" spc="-1" strike="noStrike">
              <a:solidFill>
                <a:srgbClr val="174668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tistical conclusion valid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Unreliability of Treatment Implementation (Shadish et al., 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of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chieved relative treatment streng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Hulleman and Cordray,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for secondary, exploratory analyses (e.g., treatment on the treat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ur efficacy trial, we had external consultants observe (live) and measure fidelity (8 times/yr) following training and calibration at BS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lly observers would be blind to treatment condition but we couldn’t ensure this in our study of curriculum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rect (correlated) measures of fidelity – RTOP (Sawada et al., 2002) allows for comparisons across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22:09:44Z</dcterms:created>
  <dc:creator>Joe Taylor</dc:creator>
  <dc:description/>
  <dc:language>en-US</dc:language>
  <cp:lastModifiedBy> </cp:lastModifiedBy>
  <dcterms:modified xsi:type="dcterms:W3CDTF">2011-09-06T14:32:43Z</dcterms:modified>
  <cp:revision>8</cp:revision>
  <dc:subject/>
  <dc:title>PowerPoint Presentation</dc:title>
</cp:coreProperties>
</file>