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notesSlide5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5.xml" ContentType="application/vnd.openxmlformats-officedocument.presentationml.notesSlide+xml"/>
  <Override PartName="/ppt/_rels/presentation.xml.rels" ContentType="application/vnd.openxmlformats-package.relationships+xml"/>
  <Override PartName="/ppt/media/image29.wmf" ContentType="image/x-wmf"/>
  <Override PartName="/ppt/media/image31.png" ContentType="image/png"/>
  <Override PartName="/ppt/media/image27.wmf" ContentType="image/x-wmf"/>
  <Override PartName="/ppt/media/image26.wmf" ContentType="image/x-wmf"/>
  <Override PartName="/ppt/media/image24.wmf" ContentType="image/x-wmf"/>
  <Override PartName="/ppt/media/image23.png" ContentType="image/png"/>
  <Override PartName="/ppt/media/image22.png" ContentType="image/png"/>
  <Override PartName="/ppt/media/image21.wmf" ContentType="image/x-wmf"/>
  <Override PartName="/ppt/media/image18.png" ContentType="image/png"/>
  <Override PartName="/ppt/media/image6.jpeg" ContentType="image/jpeg"/>
  <Override PartName="/ppt/media/image19.png" ContentType="image/png"/>
  <Override PartName="/ppt/media/image20.png" ContentType="image/png"/>
  <Override PartName="/ppt/media/image2.jpeg" ContentType="image/jpeg"/>
  <Override PartName="/ppt/media/image17.png" ContentType="image/png"/>
  <Override PartName="/ppt/media/image14.png" ContentType="image/png"/>
  <Override PartName="/ppt/media/image25.wmf" ContentType="image/x-wmf"/>
  <Override PartName="/ppt/media/image3.png" ContentType="image/png"/>
  <Override PartName="/ppt/media/image33.png" ContentType="image/png"/>
  <Override PartName="/ppt/media/image41.png" ContentType="image/png"/>
  <Override PartName="/ppt/media/image35.png" ContentType="image/png"/>
  <Override PartName="/ppt/media/image36.png" ContentType="image/png"/>
  <Override PartName="/ppt/media/image40.png" ContentType="image/png"/>
  <Override PartName="/ppt/media/image11.jpeg" ContentType="image/jpeg"/>
  <Override PartName="/ppt/media/image42.png" ContentType="image/png"/>
  <Override PartName="/ppt/media/image32.png" ContentType="image/png"/>
  <Override PartName="/ppt/media/image15.wmf" ContentType="image/x-wmf"/>
  <Override PartName="/ppt/media/image44.png" ContentType="image/png"/>
  <Override PartName="/ppt/media/image45.png" ContentType="image/png"/>
  <Override PartName="/ppt/media/image30.wmf" ContentType="image/x-wmf"/>
  <Override PartName="/ppt/media/image5.wmf" ContentType="image/x-wmf"/>
  <Override PartName="/ppt/media/image1.jpeg" ContentType="image/jpeg"/>
  <Override PartName="/ppt/media/image10.png" ContentType="image/png"/>
  <Override PartName="/ppt/media/image28.wmf" ContentType="image/x-wmf"/>
  <Override PartName="/ppt/media/image46.png" ContentType="image/png"/>
  <Override PartName="/ppt/media/image43.png" ContentType="image/png"/>
  <Override PartName="/ppt/media/image47.jpeg" ContentType="image/jpeg"/>
  <Override PartName="/ppt/media/image39.png" ContentType="image/png"/>
  <Override PartName="/ppt/media/image9.png" ContentType="image/png"/>
  <Override PartName="/ppt/media/image4.png" ContentType="image/png"/>
  <Override PartName="/ppt/media/image34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38.png" ContentType="image/png"/>
  <Override PartName="/ppt/media/image8.png" ContentType="image/png"/>
  <Override PartName="/ppt/media/image1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47C1A-02FF-4128-B7F5-B9A0BA6939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00: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43219-C763-4E00-929F-9F2141808F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16: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C352B-C654-4D9A-9964-ABB018989D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17: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A6581-6D74-4984-A59E-EA845AAF80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18: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99AF3-9856-4CED-A012-E279E6E8D9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19: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9DE81-1E7C-4185-A76B-1948EEE4FA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19: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3F9A9-63A0-481C-8E67-B0202AD43F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19: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3067B-0CA1-4833-98FA-DF806C06A4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20: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45BAD-AFB3-4BB9-AF94-F892965E1F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21: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7C675-6AAD-4595-A250-4E613D07C6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25: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CF4FD-EA82-46D0-ADC6-7B9CF51D6C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26: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0881A-F5CF-4A3C-B458-A17B548C4A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00: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A92E9-F86A-47D1-9185-48AF9DCCCE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28: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E8225-B2A6-4686-8EA9-8115C5BE44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30: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35DB5-664E-4392-B80B-E62FEB4E92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31: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F2923-8B6A-4FA9-AC24-4D3A34E024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33: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649C5-6F34-4824-8989-17578C2198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33: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E0787-DAEB-44CA-ACDA-996DE0AD26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34: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F1F09-3E1D-4554-899A-23241E582E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35: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AB01A-D45F-45F4-A3C6-CCEF93621A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35: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3E90C-DA85-4A18-9FE7-748AD80B9F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37: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3550D-2FA0-4005-AD75-3E53F7A4EB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38: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9B097-0F2B-4DAD-A40F-BBE8DB9563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03: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2FACD-4614-4AC3-A466-4E800F8206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39: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95058-9DFF-4CF2-9548-E1B7F82B9D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40: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9E6E3-29FF-462D-A53C-18CFFF7D41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40: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D2849-12FF-4D7E-996C-952038DEE4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42: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6EDCC-9D0E-42F0-A516-78530ABF9D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44: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F357E-BF62-46AC-8FC7-97E1D87A18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46: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F539F-0D05-42C9-8F05-D1EE2527CA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49: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0C94F-2E89-4667-AE11-BCDE29E5AD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52: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069E1-8917-4A5F-A291-5CF30113B0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55: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D5B43-1C9B-4468-9B7B-5DE5C47F55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57: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17FFC-BEE7-4173-86E7-7BEE05BCF3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06: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F991B-5A14-4272-B659-9AEF91A16B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58: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9E8D2-F903-429C-BA17-A6C45B9318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60: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FB023-9A26-464A-935A-AD89CA16AE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61: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91BB8-F053-4CD3-B474-3785F92BF6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61: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9AEF5-C031-49F5-B448-5195715E29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62: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B335F-F437-40BC-BAB1-B54F73EC53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64: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FB9C8-EC5B-47B9-B7DE-9C19E72EBC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65: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F5B3A-1A35-4B43-A96E-17F2A6FFD5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67: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04BED-D0C8-4BD4-83BA-7C000B734B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70: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2478B-BE22-4CFC-91DA-D2F920B3AF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73: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7BDB3-D266-498D-AD8A-DD2F63DD5C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10: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56CCC-5327-4153-BA2B-0B3E63B451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73: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9AB5D-7E93-4752-95B8-D2E842A4DE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75: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6F44B-269C-487F-B90E-6D6E041846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77: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85221-E96A-43F3-9252-643D67E9A3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79: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4BB37-457D-4DE0-9011-5948081CA8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80: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2B14D-B6AB-4BF6-A443-C472B881FE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81: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3B003-C72D-4BD9-85B1-4C485AC677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81: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DBC53-9119-4ECC-BE08-AA21ED0EBC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81: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21931-E197-4483-8177-5D40F544AA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82: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3BD98-50B9-4AAB-927A-0E43DF5F4D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83: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10D30-51DC-432E-8C48-4678B96CA3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11: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71BBB-5C72-446F-84B4-0B660043A5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F2D97-1AEC-4783-8DEC-8BAEE9AD59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86: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13: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897A7-D323-401B-BA3F-E291B5E57E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14: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76C40-2213-4349-9539-05987DB7CE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15: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DA398-693C-43D3-ACBF-71A996C711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990720" y="41940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7340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90720" y="41940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973400" y="41940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618720" y="14475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46360" y="14475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990720" y="41940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618720" y="41940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46360" y="41940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73400" y="14475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990720" y="3808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73400" y="14475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990720" y="41940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7340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73400" y="41940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340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90720" y="41940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990720" y="41940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340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90720" y="41940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73400" y="41940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18720" y="14475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46360" y="14475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990720" y="41940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18720" y="41940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46360" y="41940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973400" y="14475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990720" y="3808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3400" y="14475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990720" y="41940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7340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73400" y="41940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7340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90720" y="41940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PP_2contentBKGD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Line 5"/>
          <p:cNvSpPr/>
          <p:nvPr/>
        </p:nvSpPr>
        <p:spPr>
          <a:xfrm>
            <a:off x="1066680" y="1295280"/>
            <a:ext cx="8077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2" descr="PP_2contentBKGD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" name="Line 5"/>
          <p:cNvSpPr/>
          <p:nvPr/>
        </p:nvSpPr>
        <p:spPr>
          <a:xfrm>
            <a:off x="1066680" y="1295280"/>
            <a:ext cx="8077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6" descr="CYFS identity - center"/>
          <p:cNvPicPr/>
          <p:nvPr/>
        </p:nvPicPr>
        <p:blipFill>
          <a:blip r:embed="rId3"/>
          <a:stretch/>
        </p:blipFill>
        <p:spPr>
          <a:xfrm>
            <a:off x="457200" y="0"/>
            <a:ext cx="3048120" cy="12222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1"/>
          </p:nvPr>
        </p:nvSpPr>
        <p:spPr>
          <a:xfrm>
            <a:off x="1523520" y="6536880"/>
            <a:ext cx="7620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5183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51837"/>
                </a:solidFill>
                <a:latin typeface="Times New Roman"/>
              </a:rPr>
              <a:t>Originally presented on 8/8/08 by the </a:t>
            </a:r>
            <a:r>
              <a:rPr b="0" i="1" lang="en-US" sz="1400" spc="-1" strike="noStrike">
                <a:solidFill>
                  <a:srgbClr val="e51837"/>
                </a:solidFill>
                <a:latin typeface="Times New Roman"/>
              </a:rPr>
              <a:t>Statistics &amp; Research Methodology Un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image" Target="../media/image6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36.png"/><Relationship Id="rId6" Type="http://schemas.openxmlformats.org/officeDocument/2006/relationships/image" Target="../media/image3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hyperlink" Target="mailto:jbovaird2@unl.edu" TargetMode="External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60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1523880" y="6537240"/>
            <a:ext cx="7620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51837"/>
                </a:solidFill>
                <a:latin typeface="Arial"/>
              </a:rPr>
              <a:t>10/7/11 – NCSER Meetin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Not All Students Need to be Assessed: </a:t>
            </a:r>
            <a:br>
              <a:rPr sz="2600"/>
            </a:br>
            <a:br>
              <a:rPr sz="1300"/>
            </a:b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Research Designs Where Data are Intentionally Missing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240" y="4114800"/>
            <a:ext cx="71629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James A. Bovaird, Ph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Associate Professor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of Educational Psych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Director of Statistics &amp; Research Methodology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, Nebraska Center for Research on Children, Youth, Families and Sch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Co-Director for Statistics &amp; Research Methodology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, National Center for Research on Rural Education (R</a:t>
            </a:r>
            <a:r>
              <a:rPr b="0" lang="en-US" sz="16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 6" descr="identity"/>
          <p:cNvPicPr/>
          <p:nvPr/>
        </p:nvPicPr>
        <p:blipFill>
          <a:blip r:embed="rId1"/>
          <a:stretch/>
        </p:blipFill>
        <p:spPr>
          <a:xfrm>
            <a:off x="5715000" y="228600"/>
            <a:ext cx="3152880" cy="9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What Can We Tell From Our Data?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 have access to what is measured/observed for each variable in our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 can test (reject) MC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 is not testable (Potthof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t 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2006)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 cannot distinguish between MAR and MNAR because we would need values of the missing data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do so would require knowledge of what was not measu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In the case of a 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planned missing data design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, we (the experimenter) are the mechanism (Z) leading to the probability of missing data (R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As long as the selection process is non-systematic, then we meet the MCAR assump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Missing Data Technique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st assume MAR or M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ditional techniq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air-wi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amp;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List-wise Dele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mple-wise &amp; Case-wis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ean Substit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ression Imputation w/ Focal or Full Item P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chastic Regression Impu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-group S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rn techniq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ull Information Maximum Likelihoo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FIM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ltiple Imput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M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Deletion Approache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8145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ist-wise Dele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a single data point is missing, delete c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 is uniform but sma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cceptable only if power is not an issue and the incomplete data is at least M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ased estimates under MAR and MN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riances biased, means bias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4" descr="missing4"/>
          <p:cNvPicPr/>
          <p:nvPr/>
        </p:nvPicPr>
        <p:blipFill>
          <a:blip r:embed="rId1"/>
          <a:stretch/>
        </p:blipFill>
        <p:spPr>
          <a:xfrm>
            <a:off x="4952880" y="1905120"/>
            <a:ext cx="3814920" cy="460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Deletion Approache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8145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ist-wise Dele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his is the default in most pack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We don’t want to delete cases (Ss) if we intentionally did not collect data on some measur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Picture 4" descr="missing4"/>
          <p:cNvPicPr/>
          <p:nvPr/>
        </p:nvPicPr>
        <p:blipFill>
          <a:blip r:embed="rId1"/>
          <a:stretch/>
        </p:blipFill>
        <p:spPr>
          <a:xfrm>
            <a:off x="4952880" y="1905120"/>
            <a:ext cx="3814920" cy="46908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5" descr="missing4"/>
          <p:cNvPicPr/>
          <p:nvPr/>
        </p:nvPicPr>
        <p:blipFill>
          <a:blip r:embed="rId2"/>
          <a:stretch/>
        </p:blipFill>
        <p:spPr>
          <a:xfrm>
            <a:off x="4952880" y="1905120"/>
            <a:ext cx="3814920" cy="46908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missing4"/>
          <p:cNvPicPr/>
          <p:nvPr/>
        </p:nvPicPr>
        <p:blipFill>
          <a:blip r:embed="rId3"/>
          <a:stretch/>
        </p:blipFill>
        <p:spPr>
          <a:xfrm>
            <a:off x="4952880" y="1905120"/>
            <a:ext cx="3814920" cy="46908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3" descr="missing4"/>
          <p:cNvPicPr/>
          <p:nvPr/>
        </p:nvPicPr>
        <p:blipFill>
          <a:blip r:embed="rId4"/>
          <a:stretch/>
        </p:blipFill>
        <p:spPr>
          <a:xfrm>
            <a:off x="4952880" y="1905120"/>
            <a:ext cx="3814920" cy="46908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33" descr="missing4"/>
          <p:cNvPicPr/>
          <p:nvPr/>
        </p:nvPicPr>
        <p:blipFill>
          <a:blip r:embed="rId5"/>
          <a:stretch/>
        </p:blipFill>
        <p:spPr>
          <a:xfrm>
            <a:off x="4952880" y="1905120"/>
            <a:ext cx="3814920" cy="4690800"/>
          </a:xfrm>
          <a:prstGeom prst="rect">
            <a:avLst/>
          </a:prstGeom>
          <a:ln w="0">
            <a:noFill/>
          </a:ln>
        </p:spPr>
      </p:pic>
      <p:grpSp>
        <p:nvGrpSpPr>
          <p:cNvPr id="163" name="Group 34"/>
          <p:cNvGrpSpPr/>
          <p:nvPr/>
        </p:nvGrpSpPr>
        <p:grpSpPr>
          <a:xfrm>
            <a:off x="5029200" y="3276720"/>
            <a:ext cx="3429000" cy="182520"/>
            <a:chOff x="5029200" y="3276720"/>
            <a:chExt cx="3429000" cy="182520"/>
          </a:xfrm>
        </p:grpSpPr>
        <p:sp>
          <p:nvSpPr>
            <p:cNvPr id="164" name="Rectangle 35"/>
            <p:cNvSpPr/>
            <p:nvPr/>
          </p:nvSpPr>
          <p:spPr>
            <a:xfrm>
              <a:off x="5029200" y="3276720"/>
              <a:ext cx="3429000" cy="182520"/>
            </a:xfrm>
            <a:prstGeom prst="rect">
              <a:avLst/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Line 36"/>
            <p:cNvSpPr/>
            <p:nvPr/>
          </p:nvSpPr>
          <p:spPr>
            <a:xfrm>
              <a:off x="5105160" y="3353040"/>
              <a:ext cx="32004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Group 37"/>
          <p:cNvGrpSpPr/>
          <p:nvPr/>
        </p:nvGrpSpPr>
        <p:grpSpPr>
          <a:xfrm>
            <a:off x="5029200" y="5075280"/>
            <a:ext cx="3429000" cy="182520"/>
            <a:chOff x="5029200" y="5075280"/>
            <a:chExt cx="3429000" cy="182520"/>
          </a:xfrm>
        </p:grpSpPr>
        <p:sp>
          <p:nvSpPr>
            <p:cNvPr id="167" name="Rectangle 38"/>
            <p:cNvSpPr/>
            <p:nvPr/>
          </p:nvSpPr>
          <p:spPr>
            <a:xfrm>
              <a:off x="5029200" y="5075280"/>
              <a:ext cx="3429000" cy="182520"/>
            </a:xfrm>
            <a:prstGeom prst="rect">
              <a:avLst/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39"/>
            <p:cNvSpPr/>
            <p:nvPr/>
          </p:nvSpPr>
          <p:spPr>
            <a:xfrm>
              <a:off x="5105160" y="5151600"/>
              <a:ext cx="32004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" name="Group 54"/>
          <p:cNvGrpSpPr/>
          <p:nvPr/>
        </p:nvGrpSpPr>
        <p:grpSpPr>
          <a:xfrm>
            <a:off x="4952880" y="1862280"/>
            <a:ext cx="3814920" cy="4690800"/>
            <a:chOff x="4952880" y="1862280"/>
            <a:chExt cx="3814920" cy="4690800"/>
          </a:xfrm>
        </p:grpSpPr>
        <p:pic>
          <p:nvPicPr>
            <p:cNvPr id="170" name="Picture 47" descr="missing4"/>
            <p:cNvPicPr/>
            <p:nvPr/>
          </p:nvPicPr>
          <p:blipFill>
            <a:blip r:embed="rId6"/>
            <a:stretch/>
          </p:blipFill>
          <p:spPr>
            <a:xfrm>
              <a:off x="4952880" y="1862280"/>
              <a:ext cx="3814920" cy="4690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71" name="Group 48"/>
            <p:cNvGrpSpPr/>
            <p:nvPr/>
          </p:nvGrpSpPr>
          <p:grpSpPr>
            <a:xfrm>
              <a:off x="5029200" y="3233880"/>
              <a:ext cx="3429000" cy="182520"/>
              <a:chOff x="5029200" y="3233880"/>
              <a:chExt cx="3429000" cy="182520"/>
            </a:xfrm>
          </p:grpSpPr>
          <p:sp>
            <p:nvSpPr>
              <p:cNvPr id="172" name="Rectangle 49"/>
              <p:cNvSpPr/>
              <p:nvPr/>
            </p:nvSpPr>
            <p:spPr>
              <a:xfrm>
                <a:off x="5029200" y="3233880"/>
                <a:ext cx="3429000" cy="182520"/>
              </a:xfrm>
              <a:prstGeom prst="rect">
                <a:avLst/>
              </a:prstGeom>
              <a:noFill/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Line 50"/>
              <p:cNvSpPr/>
              <p:nvPr/>
            </p:nvSpPr>
            <p:spPr>
              <a:xfrm>
                <a:off x="5105160" y="3310200"/>
                <a:ext cx="320040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4" name="Group 51"/>
            <p:cNvGrpSpPr/>
            <p:nvPr/>
          </p:nvGrpSpPr>
          <p:grpSpPr>
            <a:xfrm>
              <a:off x="5029200" y="5032440"/>
              <a:ext cx="3429000" cy="182520"/>
              <a:chOff x="5029200" y="5032440"/>
              <a:chExt cx="3429000" cy="182520"/>
            </a:xfrm>
          </p:grpSpPr>
          <p:sp>
            <p:nvSpPr>
              <p:cNvPr id="175" name="Rectangle 52"/>
              <p:cNvSpPr/>
              <p:nvPr/>
            </p:nvSpPr>
            <p:spPr>
              <a:xfrm>
                <a:off x="5029200" y="5032440"/>
                <a:ext cx="3429000" cy="182520"/>
              </a:xfrm>
              <a:prstGeom prst="rect">
                <a:avLst/>
              </a:prstGeom>
              <a:noFill/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Line 53"/>
              <p:cNvSpPr/>
              <p:nvPr/>
            </p:nvSpPr>
            <p:spPr>
              <a:xfrm>
                <a:off x="5105160" y="5108760"/>
                <a:ext cx="320040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Deletion Approache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8145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air-wise Dele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a data point is missing, delete cases on an analysis-by-analysis ba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 varies per analysis (e.g., correlation, ANOV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biased estimates only under MC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riances, means, SEs biased under MAR and MN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rrelation/covariance matrices often non-positive definite (NP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Picture 4" descr="missing4"/>
          <p:cNvPicPr/>
          <p:nvPr/>
        </p:nvPicPr>
        <p:blipFill>
          <a:blip r:embed="rId1"/>
          <a:stretch/>
        </p:blipFill>
        <p:spPr>
          <a:xfrm>
            <a:off x="4948200" y="1890720"/>
            <a:ext cx="3814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Deletion Approache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8145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air-wise Dele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ommonly available in most packages, but not as the defaul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gain, we don’t want to delete cases (Ss) if we intentionally did not collect data on some meas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ay be OK for pair-wise univariate comparisons but not for omnibus multivariate analyses (NPD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Picture 4" descr="missing4"/>
          <p:cNvPicPr/>
          <p:nvPr/>
        </p:nvPicPr>
        <p:blipFill>
          <a:blip r:embed="rId1"/>
          <a:stretch/>
        </p:blipFill>
        <p:spPr>
          <a:xfrm>
            <a:off x="4952880" y="1981080"/>
            <a:ext cx="3814920" cy="4426200"/>
          </a:xfrm>
          <a:prstGeom prst="rect">
            <a:avLst/>
          </a:prstGeom>
          <a:ln w="0">
            <a:noFill/>
          </a:ln>
        </p:spPr>
      </p:pic>
      <p:sp>
        <p:nvSpPr>
          <p:cNvPr id="183" name="Rectangle 5"/>
          <p:cNvSpPr/>
          <p:nvPr/>
        </p:nvSpPr>
        <p:spPr>
          <a:xfrm>
            <a:off x="6477120" y="1905120"/>
            <a:ext cx="457200" cy="419076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6"/>
          <p:cNvSpPr/>
          <p:nvPr/>
        </p:nvSpPr>
        <p:spPr>
          <a:xfrm>
            <a:off x="7772400" y="1905120"/>
            <a:ext cx="457200" cy="419076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7"/>
          <p:cNvSpPr/>
          <p:nvPr/>
        </p:nvSpPr>
        <p:spPr>
          <a:xfrm>
            <a:off x="6553080" y="502920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8"/>
          <p:cNvSpPr/>
          <p:nvPr/>
        </p:nvSpPr>
        <p:spPr>
          <a:xfrm>
            <a:off x="6553080" y="335268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9"/>
          <p:cNvSpPr/>
          <p:nvPr/>
        </p:nvSpPr>
        <p:spPr>
          <a:xfrm>
            <a:off x="7848720" y="502920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10"/>
          <p:cNvSpPr/>
          <p:nvPr/>
        </p:nvSpPr>
        <p:spPr>
          <a:xfrm>
            <a:off x="7848720" y="335268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1"/>
          <p:cNvSpPr/>
          <p:nvPr/>
        </p:nvSpPr>
        <p:spPr>
          <a:xfrm>
            <a:off x="6400800" y="312408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12"/>
          <p:cNvSpPr/>
          <p:nvPr/>
        </p:nvSpPr>
        <p:spPr>
          <a:xfrm>
            <a:off x="6400800" y="480060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13"/>
          <p:cNvSpPr/>
          <p:nvPr/>
        </p:nvSpPr>
        <p:spPr>
          <a:xfrm>
            <a:off x="7696080" y="312408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14"/>
          <p:cNvSpPr/>
          <p:nvPr/>
        </p:nvSpPr>
        <p:spPr>
          <a:xfrm>
            <a:off x="7696080" y="480060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15"/>
          <p:cNvSpPr/>
          <p:nvPr/>
        </p:nvSpPr>
        <p:spPr>
          <a:xfrm>
            <a:off x="6400800" y="480060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6"/>
          <p:cNvSpPr/>
          <p:nvPr/>
        </p:nvSpPr>
        <p:spPr>
          <a:xfrm>
            <a:off x="7696080" y="480060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17"/>
          <p:cNvSpPr/>
          <p:nvPr/>
        </p:nvSpPr>
        <p:spPr>
          <a:xfrm>
            <a:off x="6553080" y="502920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8"/>
          <p:cNvSpPr/>
          <p:nvPr/>
        </p:nvSpPr>
        <p:spPr>
          <a:xfrm>
            <a:off x="6400800" y="480060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19"/>
          <p:cNvSpPr/>
          <p:nvPr/>
        </p:nvSpPr>
        <p:spPr>
          <a:xfrm>
            <a:off x="7696080" y="480060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20"/>
          <p:cNvSpPr/>
          <p:nvPr/>
        </p:nvSpPr>
        <p:spPr>
          <a:xfrm>
            <a:off x="7848720" y="502920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21"/>
          <p:cNvSpPr/>
          <p:nvPr/>
        </p:nvSpPr>
        <p:spPr>
          <a:xfrm>
            <a:off x="6553080" y="502920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22"/>
          <p:cNvSpPr/>
          <p:nvPr/>
        </p:nvSpPr>
        <p:spPr>
          <a:xfrm>
            <a:off x="6400800" y="480060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23"/>
          <p:cNvSpPr/>
          <p:nvPr/>
        </p:nvSpPr>
        <p:spPr>
          <a:xfrm>
            <a:off x="7696080" y="480060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24"/>
          <p:cNvSpPr/>
          <p:nvPr/>
        </p:nvSpPr>
        <p:spPr>
          <a:xfrm>
            <a:off x="7848720" y="335268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25"/>
          <p:cNvSpPr/>
          <p:nvPr/>
        </p:nvSpPr>
        <p:spPr>
          <a:xfrm>
            <a:off x="7848720" y="502920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26"/>
          <p:cNvSpPr/>
          <p:nvPr/>
        </p:nvSpPr>
        <p:spPr>
          <a:xfrm>
            <a:off x="6553080" y="502920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27"/>
          <p:cNvSpPr/>
          <p:nvPr/>
        </p:nvSpPr>
        <p:spPr>
          <a:xfrm>
            <a:off x="6400800" y="480060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28"/>
          <p:cNvSpPr/>
          <p:nvPr/>
        </p:nvSpPr>
        <p:spPr>
          <a:xfrm>
            <a:off x="7696080" y="480060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29"/>
          <p:cNvSpPr/>
          <p:nvPr/>
        </p:nvSpPr>
        <p:spPr>
          <a:xfrm>
            <a:off x="6553080" y="335268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30"/>
          <p:cNvSpPr/>
          <p:nvPr/>
        </p:nvSpPr>
        <p:spPr>
          <a:xfrm>
            <a:off x="7848720" y="335268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31"/>
          <p:cNvSpPr/>
          <p:nvPr/>
        </p:nvSpPr>
        <p:spPr>
          <a:xfrm>
            <a:off x="7848720" y="502920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32"/>
          <p:cNvSpPr/>
          <p:nvPr/>
        </p:nvSpPr>
        <p:spPr>
          <a:xfrm>
            <a:off x="6553080" y="502920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33"/>
          <p:cNvSpPr/>
          <p:nvPr/>
        </p:nvSpPr>
        <p:spPr>
          <a:xfrm>
            <a:off x="6400800" y="480060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34"/>
          <p:cNvSpPr/>
          <p:nvPr/>
        </p:nvSpPr>
        <p:spPr>
          <a:xfrm>
            <a:off x="7696080" y="480060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35"/>
          <p:cNvSpPr/>
          <p:nvPr/>
        </p:nvSpPr>
        <p:spPr>
          <a:xfrm>
            <a:off x="6400800" y="312408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36"/>
          <p:cNvSpPr/>
          <p:nvPr/>
        </p:nvSpPr>
        <p:spPr>
          <a:xfrm>
            <a:off x="6553080" y="335268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37"/>
          <p:cNvSpPr/>
          <p:nvPr/>
        </p:nvSpPr>
        <p:spPr>
          <a:xfrm>
            <a:off x="7848720" y="335268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38"/>
          <p:cNvSpPr/>
          <p:nvPr/>
        </p:nvSpPr>
        <p:spPr>
          <a:xfrm>
            <a:off x="7848720" y="502920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39"/>
          <p:cNvSpPr/>
          <p:nvPr/>
        </p:nvSpPr>
        <p:spPr>
          <a:xfrm>
            <a:off x="6553080" y="502920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40"/>
          <p:cNvSpPr/>
          <p:nvPr/>
        </p:nvSpPr>
        <p:spPr>
          <a:xfrm>
            <a:off x="6400800" y="480060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41"/>
          <p:cNvSpPr/>
          <p:nvPr/>
        </p:nvSpPr>
        <p:spPr>
          <a:xfrm>
            <a:off x="7696080" y="480060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42"/>
          <p:cNvSpPr/>
          <p:nvPr/>
        </p:nvSpPr>
        <p:spPr>
          <a:xfrm>
            <a:off x="7696080" y="312408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43"/>
          <p:cNvSpPr/>
          <p:nvPr/>
        </p:nvSpPr>
        <p:spPr>
          <a:xfrm>
            <a:off x="6400800" y="312408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44"/>
          <p:cNvSpPr/>
          <p:nvPr/>
        </p:nvSpPr>
        <p:spPr>
          <a:xfrm>
            <a:off x="6553080" y="335268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45"/>
          <p:cNvSpPr/>
          <p:nvPr/>
        </p:nvSpPr>
        <p:spPr>
          <a:xfrm>
            <a:off x="7848720" y="335268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46"/>
          <p:cNvSpPr/>
          <p:nvPr/>
        </p:nvSpPr>
        <p:spPr>
          <a:xfrm>
            <a:off x="7848720" y="502920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47"/>
          <p:cNvSpPr/>
          <p:nvPr/>
        </p:nvSpPr>
        <p:spPr>
          <a:xfrm>
            <a:off x="6553080" y="502920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48"/>
          <p:cNvSpPr/>
          <p:nvPr/>
        </p:nvSpPr>
        <p:spPr>
          <a:xfrm>
            <a:off x="6400800" y="480060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49"/>
          <p:cNvSpPr/>
          <p:nvPr/>
        </p:nvSpPr>
        <p:spPr>
          <a:xfrm>
            <a:off x="7696080" y="480060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50"/>
          <p:cNvSpPr/>
          <p:nvPr/>
        </p:nvSpPr>
        <p:spPr>
          <a:xfrm>
            <a:off x="7772400" y="1905120"/>
            <a:ext cx="457200" cy="419076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51"/>
          <p:cNvSpPr/>
          <p:nvPr/>
        </p:nvSpPr>
        <p:spPr>
          <a:xfrm>
            <a:off x="7696080" y="312408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52"/>
          <p:cNvSpPr/>
          <p:nvPr/>
        </p:nvSpPr>
        <p:spPr>
          <a:xfrm>
            <a:off x="6400800" y="312408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53"/>
          <p:cNvSpPr/>
          <p:nvPr/>
        </p:nvSpPr>
        <p:spPr>
          <a:xfrm>
            <a:off x="6553080" y="335268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54"/>
          <p:cNvSpPr/>
          <p:nvPr/>
        </p:nvSpPr>
        <p:spPr>
          <a:xfrm>
            <a:off x="7848720" y="335268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55"/>
          <p:cNvSpPr/>
          <p:nvPr/>
        </p:nvSpPr>
        <p:spPr>
          <a:xfrm>
            <a:off x="7848720" y="502920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56"/>
          <p:cNvSpPr/>
          <p:nvPr/>
        </p:nvSpPr>
        <p:spPr>
          <a:xfrm>
            <a:off x="6553080" y="502920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57"/>
          <p:cNvSpPr/>
          <p:nvPr/>
        </p:nvSpPr>
        <p:spPr>
          <a:xfrm>
            <a:off x="6400800" y="480060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58"/>
          <p:cNvSpPr/>
          <p:nvPr/>
        </p:nvSpPr>
        <p:spPr>
          <a:xfrm>
            <a:off x="7696080" y="480060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59"/>
          <p:cNvSpPr/>
          <p:nvPr/>
        </p:nvSpPr>
        <p:spPr>
          <a:xfrm>
            <a:off x="6477120" y="1905120"/>
            <a:ext cx="457200" cy="419076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60"/>
          <p:cNvSpPr/>
          <p:nvPr/>
        </p:nvSpPr>
        <p:spPr>
          <a:xfrm>
            <a:off x="7772400" y="1905120"/>
            <a:ext cx="457200" cy="419076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61"/>
          <p:cNvSpPr/>
          <p:nvPr/>
        </p:nvSpPr>
        <p:spPr>
          <a:xfrm>
            <a:off x="7696080" y="312408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62"/>
          <p:cNvSpPr/>
          <p:nvPr/>
        </p:nvSpPr>
        <p:spPr>
          <a:xfrm>
            <a:off x="6400800" y="312408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63"/>
          <p:cNvSpPr/>
          <p:nvPr/>
        </p:nvSpPr>
        <p:spPr>
          <a:xfrm>
            <a:off x="6553080" y="335268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64"/>
          <p:cNvSpPr/>
          <p:nvPr/>
        </p:nvSpPr>
        <p:spPr>
          <a:xfrm>
            <a:off x="7848720" y="335268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65"/>
          <p:cNvSpPr/>
          <p:nvPr/>
        </p:nvSpPr>
        <p:spPr>
          <a:xfrm>
            <a:off x="7848720" y="502920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66"/>
          <p:cNvSpPr/>
          <p:nvPr/>
        </p:nvSpPr>
        <p:spPr>
          <a:xfrm>
            <a:off x="6553080" y="502920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67"/>
          <p:cNvSpPr/>
          <p:nvPr/>
        </p:nvSpPr>
        <p:spPr>
          <a:xfrm>
            <a:off x="6400800" y="480060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68"/>
          <p:cNvSpPr/>
          <p:nvPr/>
        </p:nvSpPr>
        <p:spPr>
          <a:xfrm>
            <a:off x="7696080" y="480060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7" name="Group 80"/>
          <p:cNvGrpSpPr/>
          <p:nvPr/>
        </p:nvGrpSpPr>
        <p:grpSpPr>
          <a:xfrm>
            <a:off x="4952880" y="1905120"/>
            <a:ext cx="3814920" cy="4502160"/>
            <a:chOff x="4952880" y="1905120"/>
            <a:chExt cx="3814920" cy="4502160"/>
          </a:xfrm>
        </p:grpSpPr>
        <p:pic>
          <p:nvPicPr>
            <p:cNvPr id="248" name="Picture 69" descr="missing4"/>
            <p:cNvPicPr/>
            <p:nvPr/>
          </p:nvPicPr>
          <p:blipFill>
            <a:blip r:embed="rId2"/>
            <a:stretch/>
          </p:blipFill>
          <p:spPr>
            <a:xfrm>
              <a:off x="4952880" y="1981080"/>
              <a:ext cx="3814920" cy="442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" name="Rectangle 70"/>
            <p:cNvSpPr/>
            <p:nvPr/>
          </p:nvSpPr>
          <p:spPr>
            <a:xfrm>
              <a:off x="6477120" y="1905120"/>
              <a:ext cx="457200" cy="4190760"/>
            </a:xfrm>
            <a:prstGeom prst="rect">
              <a:avLst/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Rectangle 71"/>
            <p:cNvSpPr/>
            <p:nvPr/>
          </p:nvSpPr>
          <p:spPr>
            <a:xfrm>
              <a:off x="7772400" y="1905120"/>
              <a:ext cx="457200" cy="4190760"/>
            </a:xfrm>
            <a:prstGeom prst="rect">
              <a:avLst/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Rectangle 72"/>
            <p:cNvSpPr/>
            <p:nvPr/>
          </p:nvSpPr>
          <p:spPr>
            <a:xfrm>
              <a:off x="7696080" y="3124080"/>
              <a:ext cx="609840" cy="457200"/>
            </a:xfrm>
            <a:prstGeom prst="rect">
              <a:avLst/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Rectangle 73"/>
            <p:cNvSpPr/>
            <p:nvPr/>
          </p:nvSpPr>
          <p:spPr>
            <a:xfrm>
              <a:off x="6400800" y="3124080"/>
              <a:ext cx="609480" cy="457200"/>
            </a:xfrm>
            <a:prstGeom prst="rect">
              <a:avLst/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Line 74"/>
            <p:cNvSpPr/>
            <p:nvPr/>
          </p:nvSpPr>
          <p:spPr>
            <a:xfrm>
              <a:off x="6553080" y="3352680"/>
              <a:ext cx="3049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Line 75"/>
            <p:cNvSpPr/>
            <p:nvPr/>
          </p:nvSpPr>
          <p:spPr>
            <a:xfrm>
              <a:off x="7848720" y="3352680"/>
              <a:ext cx="3045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Line 76"/>
            <p:cNvSpPr/>
            <p:nvPr/>
          </p:nvSpPr>
          <p:spPr>
            <a:xfrm>
              <a:off x="7848720" y="5029200"/>
              <a:ext cx="3045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Line 77"/>
            <p:cNvSpPr/>
            <p:nvPr/>
          </p:nvSpPr>
          <p:spPr>
            <a:xfrm>
              <a:off x="6553080" y="5029200"/>
              <a:ext cx="3049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Rectangle 78"/>
            <p:cNvSpPr/>
            <p:nvPr/>
          </p:nvSpPr>
          <p:spPr>
            <a:xfrm>
              <a:off x="6400800" y="4800600"/>
              <a:ext cx="609480" cy="457200"/>
            </a:xfrm>
            <a:prstGeom prst="rect">
              <a:avLst/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Rectangle 79"/>
            <p:cNvSpPr/>
            <p:nvPr/>
          </p:nvSpPr>
          <p:spPr>
            <a:xfrm>
              <a:off x="7696080" y="4800600"/>
              <a:ext cx="609840" cy="457200"/>
            </a:xfrm>
            <a:prstGeom prst="rect">
              <a:avLst/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Mean-Substitution Approaches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25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e the mean of the sample (sample-wise) or the mean score of other items (case-wise) for any missing 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riances and correlations/covariances truncated/bias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nbiased means under MCAR, MAR, or MN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1" name="Group 13"/>
          <p:cNvGrpSpPr/>
          <p:nvPr/>
        </p:nvGrpSpPr>
        <p:grpSpPr>
          <a:xfrm>
            <a:off x="1600200" y="2743200"/>
            <a:ext cx="7238520" cy="3962160"/>
            <a:chOff x="1600200" y="2743200"/>
            <a:chExt cx="7238520" cy="3962160"/>
          </a:xfrm>
        </p:grpSpPr>
        <p:sp>
          <p:nvSpPr>
            <p:cNvPr id="262" name="Text Box 14"/>
            <p:cNvSpPr/>
            <p:nvPr/>
          </p:nvSpPr>
          <p:spPr>
            <a:xfrm>
              <a:off x="1743120" y="4467600"/>
              <a:ext cx="319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e51837"/>
                  </a:solidFill>
                  <a:latin typeface="Garamond"/>
                </a:rPr>
                <a:t>We’d like to obtain…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Text Box 15"/>
            <p:cNvSpPr/>
            <p:nvPr/>
          </p:nvSpPr>
          <p:spPr>
            <a:xfrm>
              <a:off x="5575680" y="4456440"/>
              <a:ext cx="319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e51837"/>
                  </a:solidFill>
                  <a:latin typeface="Garamond"/>
                </a:rPr>
                <a:t>But instead we get…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64" name="Picture 16" descr=""/>
            <p:cNvPicPr/>
            <p:nvPr/>
          </p:nvPicPr>
          <p:blipFill>
            <a:blip r:embed="rId1"/>
            <a:stretch/>
          </p:blipFill>
          <p:spPr>
            <a:xfrm>
              <a:off x="5645160" y="4739040"/>
              <a:ext cx="2805840" cy="196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5" name="Picture 17" descr=""/>
            <p:cNvPicPr/>
            <p:nvPr/>
          </p:nvPicPr>
          <p:blipFill>
            <a:blip r:embed="rId2"/>
            <a:stretch/>
          </p:blipFill>
          <p:spPr>
            <a:xfrm>
              <a:off x="2025720" y="4739040"/>
              <a:ext cx="2774880" cy="196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6" name="Picture 18" descr=""/>
            <p:cNvPicPr/>
            <p:nvPr/>
          </p:nvPicPr>
          <p:blipFill>
            <a:blip r:embed="rId3"/>
            <a:stretch/>
          </p:blipFill>
          <p:spPr>
            <a:xfrm>
              <a:off x="5290200" y="2743200"/>
              <a:ext cx="3548520" cy="1653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7" name="Picture 19" descr=""/>
            <p:cNvPicPr/>
            <p:nvPr/>
          </p:nvPicPr>
          <p:blipFill>
            <a:blip r:embed="rId4"/>
            <a:stretch/>
          </p:blipFill>
          <p:spPr>
            <a:xfrm>
              <a:off x="1600200" y="2743200"/>
              <a:ext cx="3548160" cy="16545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Modern Model-Based Approaches 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ultiple Imputation (MI) – </a:t>
            </a:r>
            <a:r>
              <a:rPr b="1" i="1" lang="en-US" sz="1800" spc="-1" strike="noStrike">
                <a:solidFill>
                  <a:srgbClr val="e51837"/>
                </a:solidFill>
                <a:latin typeface="Times New Roman"/>
              </a:rPr>
              <a:t>3 ste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ate several complete data sets by imputing missing values (similar to plausible valu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e51837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51837"/>
                </a:solidFill>
                <a:latin typeface="Times New Roman"/>
              </a:rPr>
              <a:t>CAUTION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= 5 may not be enough (see Graham et al, 2007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S PROC MI, NORM, oth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alyze each data set using standard “complete case” metho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 GLIMMIX, M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plu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SPSS ANOVA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bine results into a single result using Rubin’s R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S PROC MIANALYZE, MS Excel, oth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ll Information Maximum Likelihood (FIML) - </a:t>
            </a:r>
            <a:r>
              <a:rPr b="1" i="1" lang="en-US" sz="1800" spc="-1" strike="noStrike">
                <a:solidFill>
                  <a:srgbClr val="e51837"/>
                </a:solidFill>
                <a:latin typeface="Times New Roman"/>
              </a:rPr>
              <a:t>simulta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ditional upon endogenous (Y-side) variabl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lated in principle to the use of multiple group S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fficient statistics (means (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µ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and variances/covariances (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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) are estimated from the raw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incomplete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ose estimates then serve as the start values for the ML model estimatio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Available in most SEM &amp; HLM progra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Missing Data Resource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90360" y="1447560"/>
            <a:ext cx="79246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extboo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ders (201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ittle &amp; Rubin (2002) [2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edition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eer Reviewed Artic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Collins, L. M., Schafer, J. L., &amp; Kam, C. M. (2001). A comparison of inclusive and restrictive strategies in modern missing data procedures. </a:t>
            </a: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Psychological Methods, 6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, 33-351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Graham, J.W. (2003). Adding missing-data-relevant variables to FIML-based structural equation models. </a:t>
            </a: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Structural Equation Modeling: A Multidisciplinary Journal, 10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, 80–100.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Graham, J.W., Olchowski, A.E., &amp; Gilreath, T.D. (2007). How many imputations are really needed? Some practical clarifications of multiple imputation theory. </a:t>
            </a: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Prevention Science, 8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, 206-213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Graham, J.W., Taylor, B.J., Olchowski, A.E., &amp; Cumsille, P.E. (2006). Planned missing data designs in psychological research. </a:t>
            </a: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Psychological Methods, 11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, 323-343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Rubin, D.B. (1976) Inference and missing data. </a:t>
            </a: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Biometrika, 63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, 581-592.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Schafer , J.L., &amp; Graham, J.W. (2002). Missing data: Our view of the state of the art. </a:t>
            </a: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Psychological Methods, 7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, 147-177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Handbook of Psychology: Research Methods in Psychology (Volume 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raham, Cumsille, &amp; Elek-Fisk (200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is list is NOT exhaustive, just the ones I have found to be the most useful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Language and Reading Research Consortium (LARRC)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ading for Understanding Research Initia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Ohio State University (lead) – PI: Laura Just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izona State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versity of Kans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ncaster University (UK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versity of Nebraska-Lincol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udy 1: Assessment Pan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-K through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gra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sectional aim for Year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to inform Studies 2-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ngitudinal aims for years 1-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4" name="Picture 4" descr="LARRClogoFINAL-wbook"/>
          <p:cNvPicPr/>
          <p:nvPr/>
        </p:nvPicPr>
        <p:blipFill>
          <a:blip r:embed="rId1"/>
          <a:stretch/>
        </p:blipFill>
        <p:spPr>
          <a:xfrm>
            <a:off x="5791320" y="2743200"/>
            <a:ext cx="32004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Does Every Student Need to Take Every Assessment in My Study?”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ick answ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treated as a missing data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olu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lenty of examples in the litera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e51837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51837"/>
                </a:solidFill>
                <a:latin typeface="Times New Roman"/>
              </a:rPr>
              <a:t>Accelerated longitudinal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e51837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51837"/>
                </a:solidFill>
                <a:latin typeface="Times New Roman"/>
              </a:rPr>
              <a:t>Planned missing data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fficiency-of-measurement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e51837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51837"/>
                </a:solidFill>
                <a:latin typeface="Times New Roman"/>
              </a:rPr>
              <a:t>Measurement applic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trix sampl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aptive tes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e51837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51837"/>
                </a:solidFill>
                <a:latin typeface="Times New Roman"/>
              </a:rPr>
              <a:t>Sequentially designed experi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LARRC Study 1: 5-Year Assessment Panel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Originally proposed N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1,200 PK to G3 in Year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400 PK, 200 K, 200 G1, 200 G2, 200 G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sted annually within a set window over multiple test sess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ildren are followed until they reach G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dified cohort sequential design (more later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iginally proposed 4-hr battery was expanded to a 6-hr battery for the PK and K children and a 7-hr battery for G1-G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lot of constructs + at least 3 measures/construct = a lot of meas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anded testing window from 8-12 wee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ed testing outside of school hours (nights, weekends, etc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LARRC Study 1: 5-Year Assessment Panel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278" name="Picture 10" descr=""/>
          <p:cNvPicPr/>
          <p:nvPr/>
        </p:nvPicPr>
        <p:blipFill>
          <a:blip r:embed="rId1"/>
          <a:stretch/>
        </p:blipFill>
        <p:spPr>
          <a:xfrm>
            <a:off x="2843280" y="1490760"/>
            <a:ext cx="4067280" cy="51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LARRC Study 1: 5-Year Assessment Panel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ce we realized the problem, some sites were already well underway with assess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me sites felt they could collect the entire planned sample, others not so sure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cision factors were not easy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” measurement solutions vs. complex modeling need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 just multiple items on a unidimensional constru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t multiple measures as part of a comprehensive batte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anted to be as “experimental” as possible – protocol driven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ral measures are new, modified, translated, or otherwise experimen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ngitudinal aims require more data to test/insure measurement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ll-thought out battery (we’re really attached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lt we were “over-powered” to begin wi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LARRC Study 1: 5-Year Assessment Panel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ected to maximize between-measure information by making use of previous design decisions and initial over-samp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5183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51837"/>
                </a:solidFill>
                <a:latin typeface="Times New Roman"/>
              </a:rPr>
              <a:t>Considere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ropping measures or administering certain measures to subs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5183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51837"/>
                </a:solidFill>
                <a:latin typeface="Times New Roman"/>
              </a:rPr>
              <a:t>Decid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reduce the s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LARRC vs. RfU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284" name="Picture 7" descr=""/>
          <p:cNvPicPr/>
          <p:nvPr/>
        </p:nvPicPr>
        <p:blipFill>
          <a:blip r:embed="rId1"/>
          <a:stretch/>
        </p:blipFill>
        <p:spPr>
          <a:xfrm>
            <a:off x="990720" y="1447920"/>
            <a:ext cx="4038480" cy="290340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8" descr=""/>
          <p:cNvPicPr/>
          <p:nvPr/>
        </p:nvPicPr>
        <p:blipFill>
          <a:blip r:embed="rId2"/>
          <a:stretch/>
        </p:blipFill>
        <p:spPr>
          <a:xfrm>
            <a:off x="4114800" y="3828960"/>
            <a:ext cx="4800600" cy="2860920"/>
          </a:xfrm>
          <a:prstGeom prst="rect">
            <a:avLst/>
          </a:prstGeom>
          <a:ln w="0">
            <a:noFill/>
          </a:ln>
        </p:spPr>
      </p:pic>
      <p:sp>
        <p:nvSpPr>
          <p:cNvPr id="286" name="Text Box 9"/>
          <p:cNvSpPr/>
          <p:nvPr/>
        </p:nvSpPr>
        <p:spPr>
          <a:xfrm>
            <a:off x="5410080" y="1860480"/>
            <a:ext cx="25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RRC is still not collecting all data on all 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10"/>
          <p:cNvSpPr/>
          <p:nvPr/>
        </p:nvSpPr>
        <p:spPr>
          <a:xfrm>
            <a:off x="2057400" y="4635360"/>
            <a:ext cx="1905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fU panels are not all assessing at all grade levels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All Ss are assessed, but not assessed on all instrument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Accelerated Longitudinal Design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vergence desig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ll (195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oss-sequential desig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aie (196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hort-sequential de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sselroade &amp; Baltes (1979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elerated longitudinal desig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nry, Ohlin, &amp; Farrington (1991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What Does Accelerated Mean?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25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verlapping ‘Cohorts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 cohort is a group of participants that begin a study at a common age or grade in scho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cked for a limited number of measurement occa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roups are linked at their overlapping time points to approximate the true longitudinal curve/traj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4" name="Picture 5" descr=""/>
          <p:cNvPicPr/>
          <p:nvPr/>
        </p:nvPicPr>
        <p:blipFill>
          <a:blip r:embed="rId1"/>
          <a:stretch/>
        </p:blipFill>
        <p:spPr>
          <a:xfrm>
            <a:off x="2209680" y="3505320"/>
            <a:ext cx="563904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Accelerated Longitudinal Design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vanta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lows for assessment of intra-individual chan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akes less time than a purely longitudinal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ject attrition and cumulative testing effects are not as preval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sible 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y longitudinal research set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velopmental resear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ducational or Classroom stud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erontology or aging resear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Important Design Feature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25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y require relatively large sample siz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 universally accepted sample size recommendations, but typically at least 150 subjects (total) are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rtly depends on analytic method (i.e. ML vs. OLS estim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ufficiency of overl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t least two points of overlap are required to test for differences in linear slopes between adjacent 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ore than two if higher order trends are expected (e.g., quadratic, cubi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9" name="Object 7"/>
          <p:cNvGraphicFramePr/>
          <p:nvPr/>
        </p:nvGraphicFramePr>
        <p:xfrm>
          <a:off x="1523880" y="3833640"/>
          <a:ext cx="7010640" cy="3024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00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3833640"/>
                    <a:ext cx="7010640" cy="302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1" name="Text Box 8"/>
          <p:cNvSpPr/>
          <p:nvPr/>
        </p:nvSpPr>
        <p:spPr>
          <a:xfrm>
            <a:off x="5486400" y="64008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 from Miyazaki &amp; Raudenbush (2000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Outline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tivating contex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ploration stud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eld-based randomized control t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ypes of Missing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thods for Missing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l Ss are assessed, but not assessed on all instru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ckground – Reading for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ccelerated Longitudinal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nned Missing Data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puterized Adaptive Tes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l instruments are delivered to those who are assessed, but not all Ss are assesse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ckground – CYFS randomized control trial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quentially Designed Experi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Analytic Models: </a:t>
            </a:r>
            <a:br>
              <a:rPr sz="2600"/>
            </a:br>
            <a:r>
              <a:rPr b="1" lang="en-US" sz="1800" spc="-1" strike="noStrike">
                <a:solidFill>
                  <a:srgbClr val="e51837"/>
                </a:solidFill>
                <a:latin typeface="Verdana"/>
              </a:rPr>
              <a:t>Planned Missingness or Individually-Varying Occasions</a:t>
            </a:r>
            <a:endParaRPr b="1" lang="en-US" sz="18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303" name="Picture 3" descr=""/>
          <p:cNvPicPr/>
          <p:nvPr/>
        </p:nvPicPr>
        <p:blipFill>
          <a:blip r:embed="rId1"/>
          <a:stretch/>
        </p:blipFill>
        <p:spPr>
          <a:xfrm>
            <a:off x="4948200" y="4165560"/>
            <a:ext cx="3814920" cy="254016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4" descr=""/>
          <p:cNvPicPr/>
          <p:nvPr/>
        </p:nvPicPr>
        <p:blipFill>
          <a:blip r:embed="rId2"/>
          <a:stretch/>
        </p:blipFill>
        <p:spPr>
          <a:xfrm>
            <a:off x="1447920" y="1447920"/>
            <a:ext cx="1622160" cy="525780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5" descr=""/>
          <p:cNvPicPr/>
          <p:nvPr/>
        </p:nvPicPr>
        <p:blipFill>
          <a:blip r:embed="rId3"/>
          <a:stretch/>
        </p:blipFill>
        <p:spPr>
          <a:xfrm>
            <a:off x="4952880" y="1447920"/>
            <a:ext cx="3814920" cy="2539800"/>
          </a:xfrm>
          <a:prstGeom prst="rect">
            <a:avLst/>
          </a:prstGeom>
          <a:ln w="0">
            <a:noFill/>
          </a:ln>
        </p:spPr>
      </p:pic>
      <p:sp>
        <p:nvSpPr>
          <p:cNvPr id="306" name="Text Box 6"/>
          <p:cNvSpPr/>
          <p:nvPr/>
        </p:nvSpPr>
        <p:spPr>
          <a:xfrm>
            <a:off x="609480" y="2894040"/>
            <a:ext cx="114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ultiple Group SE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7"/>
          <p:cNvSpPr/>
          <p:nvPr/>
        </p:nvSpPr>
        <p:spPr>
          <a:xfrm>
            <a:off x="4191120" y="2286000"/>
            <a:ext cx="1371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ge as a time-invariant covariat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8"/>
          <p:cNvSpPr/>
          <p:nvPr/>
        </p:nvSpPr>
        <p:spPr>
          <a:xfrm>
            <a:off x="4114800" y="438768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issing By Desig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Analytic Models: </a:t>
            </a:r>
            <a:br>
              <a:rPr sz="2600"/>
            </a:br>
            <a:r>
              <a:rPr b="1" lang="en-US" sz="1800" spc="-1" strike="noStrike">
                <a:solidFill>
                  <a:srgbClr val="e51837"/>
                </a:solidFill>
                <a:latin typeface="Verdana"/>
              </a:rPr>
              <a:t>Planned Missingness or Individually-Varying Occasions</a:t>
            </a:r>
            <a:endParaRPr b="1" lang="en-US" sz="18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310" name="Picture 3" descr=""/>
          <p:cNvPicPr/>
          <p:nvPr/>
        </p:nvPicPr>
        <p:blipFill>
          <a:blip r:embed="rId1"/>
          <a:stretch/>
        </p:blipFill>
        <p:spPr>
          <a:xfrm>
            <a:off x="1454040" y="2935440"/>
            <a:ext cx="2887920" cy="2282760"/>
          </a:xfrm>
          <a:prstGeom prst="rect">
            <a:avLst/>
          </a:prstGeom>
          <a:ln w="0">
            <a:noFill/>
          </a:ln>
        </p:spPr>
      </p:pic>
      <p:sp>
        <p:nvSpPr>
          <p:cNvPr id="311" name="Text Box 4"/>
          <p:cNvSpPr/>
          <p:nvPr/>
        </p:nvSpPr>
        <p:spPr>
          <a:xfrm>
            <a:off x="1066680" y="167652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dividually Varying Timepoin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5"/>
          <p:cNvSpPr/>
          <p:nvPr/>
        </p:nvSpPr>
        <p:spPr>
          <a:xfrm>
            <a:off x="7315200" y="5835600"/>
            <a:ext cx="137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ndom Coefficien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Picture 6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3359160" cy="433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Planned Missing Data Designs (PMDDs)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fficiency-of-measurement design” (Graham, Taylor, Olchowski, &amp; Cumsille, 2006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timal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e Allison, Allison, Faith, Paultre, &amp; Pi-Sunyer (1997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lance cost ($) with statistical pow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actional Factorial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e Box, Hunter, &amp; Hunter (2005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efully chosen subset of cells from a factorial design focus “information” on most important conditions while minimizing re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 so different from adaptive testing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asurement Mod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Measurement PMDD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990360" y="1447560"/>
            <a:ext cx="38098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mple matrix sampling (Shoemaker, 197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eful for means, but not correl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actional block design (McArdle, 1994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lows means + SOME correl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quires multiple-group SEM for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lanced incomplete blocks (spiral) designs (Johnson, 199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ans &amp; correlations avail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me number of Ss respond to each i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8" name="Picture 6" descr=""/>
          <p:cNvPicPr/>
          <p:nvPr/>
        </p:nvPicPr>
        <p:blipFill>
          <a:blip r:embed="rId1"/>
          <a:stretch/>
        </p:blipFill>
        <p:spPr>
          <a:xfrm>
            <a:off x="4952880" y="1482840"/>
            <a:ext cx="3810240" cy="248112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8" descr=""/>
          <p:cNvPicPr/>
          <p:nvPr/>
        </p:nvPicPr>
        <p:blipFill>
          <a:blip r:embed="rId2"/>
          <a:stretch/>
        </p:blipFill>
        <p:spPr>
          <a:xfrm>
            <a:off x="5662440" y="4167360"/>
            <a:ext cx="2391120" cy="2523960"/>
          </a:xfrm>
          <a:prstGeom prst="rect">
            <a:avLst/>
          </a:prstGeom>
          <a:ln w="0">
            <a:noFill/>
          </a:ln>
        </p:spPr>
      </p:pic>
      <p:sp>
        <p:nvSpPr>
          <p:cNvPr id="320" name="Text Box 9"/>
          <p:cNvSpPr/>
          <p:nvPr/>
        </p:nvSpPr>
        <p:spPr>
          <a:xfrm>
            <a:off x="6095880" y="6537240"/>
            <a:ext cx="198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rom McArdle (1994)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10"/>
          <p:cNvSpPr/>
          <p:nvPr/>
        </p:nvSpPr>
        <p:spPr>
          <a:xfrm>
            <a:off x="5105520" y="3809880"/>
            <a:ext cx="19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rom Graham et al. (2006)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Measurement PMDDs (cont.)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990720" y="1409400"/>
            <a:ext cx="7772400" cy="25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-form design (Graham, Hofer, &amp; Piccinin, 1994; other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tems split into 4 sets (X, A, B, 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l Ss get X + 2 additional sets (XAB, XAC, XB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re hypotheses testable [k(k-1)/2 2-variable effects w/in each set + k2 2-variable effects across 2 se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n’t forget multiplicity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plit questionnaire survey design (SQSD; Raghunathan &amp; Grizzle, 1995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4" name="Picture 11" descr=""/>
          <p:cNvPicPr/>
          <p:nvPr/>
        </p:nvPicPr>
        <p:blipFill>
          <a:blip r:embed="rId1"/>
          <a:stretch/>
        </p:blipFill>
        <p:spPr>
          <a:xfrm>
            <a:off x="5029200" y="3733920"/>
            <a:ext cx="3886200" cy="295092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12" descr=""/>
          <p:cNvPicPr/>
          <p:nvPr/>
        </p:nvPicPr>
        <p:blipFill>
          <a:blip r:embed="rId2"/>
          <a:stretch/>
        </p:blipFill>
        <p:spPr>
          <a:xfrm>
            <a:off x="990720" y="4075200"/>
            <a:ext cx="3809880" cy="1868400"/>
          </a:xfrm>
          <a:prstGeom prst="rect">
            <a:avLst/>
          </a:prstGeom>
          <a:ln w="0">
            <a:noFill/>
          </a:ln>
        </p:spPr>
      </p:pic>
      <p:sp>
        <p:nvSpPr>
          <p:cNvPr id="326" name="Text Box 13"/>
          <p:cNvSpPr/>
          <p:nvPr/>
        </p:nvSpPr>
        <p:spPr>
          <a:xfrm>
            <a:off x="1752480" y="5791320"/>
            <a:ext cx="198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rom Graham et al. (2006)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14"/>
          <p:cNvSpPr/>
          <p:nvPr/>
        </p:nvSpPr>
        <p:spPr>
          <a:xfrm>
            <a:off x="5867280" y="6477120"/>
            <a:ext cx="198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rom Graham et al. (2006)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Measurement PMDDs (cont.)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25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-method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ny cases w/ cheap, relatively noisy (lower reliability) mea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.e. self-re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y require a response bias correction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ew cases w/ both cheap and expensive, more reliable mea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.e. biological mark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0" name="Picture 7" descr=""/>
          <p:cNvPicPr/>
          <p:nvPr/>
        </p:nvPicPr>
        <p:blipFill>
          <a:blip r:embed="rId1"/>
          <a:stretch/>
        </p:blipFill>
        <p:spPr>
          <a:xfrm>
            <a:off x="2438280" y="3886200"/>
            <a:ext cx="4953240" cy="2862360"/>
          </a:xfrm>
          <a:prstGeom prst="rect">
            <a:avLst/>
          </a:prstGeom>
          <a:ln w="0">
            <a:noFill/>
          </a:ln>
        </p:spPr>
      </p:pic>
      <p:sp>
        <p:nvSpPr>
          <p:cNvPr id="331" name="Text Box 8"/>
          <p:cNvSpPr/>
          <p:nvPr/>
        </p:nvSpPr>
        <p:spPr>
          <a:xfrm>
            <a:off x="6705720" y="6095880"/>
            <a:ext cx="19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rom Graham et al. (2006)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e51837"/>
                </a:solidFill>
                <a:latin typeface="Verdana"/>
              </a:rPr>
              <a:t>Computer Adaptive Testing (CAT)</a:t>
            </a:r>
            <a:endParaRPr b="1" lang="en-US" sz="27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990720" y="1447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CAT administers items that are most appropriate for a given ability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xample, higher-ability examinees will be administered harder i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ems are essentially weighted according to their difficulty, making test scores compar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CAT can often achieve the precision of a fixed-length test using half as many i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de practical through Item Response Theory (IR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4" name="Picture 5" descr=""/>
          <p:cNvPicPr/>
          <p:nvPr/>
        </p:nvPicPr>
        <p:blipFill>
          <a:blip r:embed="rId1"/>
          <a:stretch/>
        </p:blipFill>
        <p:spPr>
          <a:xfrm>
            <a:off x="3200400" y="5410080"/>
            <a:ext cx="5410080" cy="10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IRT: Item Response Function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336" name="Picture 3" descr=""/>
          <p:cNvPicPr/>
          <p:nvPr/>
        </p:nvPicPr>
        <p:blipFill>
          <a:blip r:embed="rId1"/>
          <a:stretch/>
        </p:blipFill>
        <p:spPr>
          <a:xfrm>
            <a:off x="2095560" y="1447920"/>
            <a:ext cx="55627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IRT: Item Information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338" name="Picture 3" descr=""/>
          <p:cNvPicPr/>
          <p:nvPr/>
        </p:nvPicPr>
        <p:blipFill>
          <a:blip r:embed="rId1"/>
          <a:stretch/>
        </p:blipFill>
        <p:spPr>
          <a:xfrm>
            <a:off x="1982880" y="1447920"/>
            <a:ext cx="57895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IRT: Test Information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340" name="Picture 3" descr=""/>
          <p:cNvPicPr/>
          <p:nvPr/>
        </p:nvPicPr>
        <p:blipFill>
          <a:blip r:embed="rId1"/>
          <a:stretch/>
        </p:blipFill>
        <p:spPr>
          <a:xfrm>
            <a:off x="2130480" y="1447920"/>
            <a:ext cx="5491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My Motivating Context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2010-15]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Investigator (Statistician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he Language Bases of Skilled Reading Comprehension (USDOE-IES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UNL Sub-Award PI: T. Hogan; Ohio State University PI: L. Justic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2004-10]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Methodological Consultant (Statistician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valuation of the Efficacy of CBC for Addressing Disruptive Behaviors of Children at-Risk for Academic Failu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USDOE). PI: S. Sherida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2009-14]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Co-Principal Investigator (Core Director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he National Center for Research on Rural Education (R2Ed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USDOE/IES). PI: S. Sherida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2010-14]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Co-Principal Investigat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 Randomized Trail of Conjoint Behavioral Consultation (CBC) in Rural Education Settings: Efficacy for Elementary Students with Disruptive Behavi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USDOE/IES). PI: S. Sheridan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How CAT Work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begin, all examinees are administered moderately difficult i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ssing an item will result in a lower ability estimate, and the computer will administer an easier 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swering an item correctly will increase one’s ability estimate, and the computer will administer a more difficult 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ing IRT, the computer estimates the respondent’s ability level after each item is administe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bsequent items are tailored to the respondent’s ability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sting continues until the algorithm identifies the difficulty level at which the respondent will miss about 50% of the i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ation is concentrated and maximized at this most-appropriate difficulty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pping rules are based on EITHER </a:t>
            </a:r>
            <a:r>
              <a:rPr b="1" i="1" lang="en-US" sz="2000" spc="-1" strike="noStrike">
                <a:solidFill>
                  <a:srgbClr val="e51837"/>
                </a:solidFill>
                <a:latin typeface="Times New Roman"/>
              </a:rPr>
              <a:t>logistical conven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fixed # of items) OR a sufficiently </a:t>
            </a:r>
            <a:r>
              <a:rPr b="1" i="1" lang="en-US" sz="2000" spc="-1" strike="noStrike">
                <a:solidFill>
                  <a:srgbClr val="e51837"/>
                </a:solidFill>
                <a:latin typeface="Times New Roman"/>
              </a:rPr>
              <a:t>small standard err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How CAT Works (cont.)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344" name="Picture 7" descr=""/>
          <p:cNvPicPr/>
          <p:nvPr/>
        </p:nvPicPr>
        <p:blipFill>
          <a:blip r:embed="rId1"/>
          <a:stretch/>
        </p:blipFill>
        <p:spPr>
          <a:xfrm>
            <a:off x="990720" y="1447920"/>
            <a:ext cx="7772400" cy="5257800"/>
          </a:xfrm>
          <a:prstGeom prst="rect">
            <a:avLst/>
          </a:prstGeom>
          <a:ln w="0">
            <a:noFill/>
          </a:ln>
        </p:spPr>
      </p:pic>
      <p:sp>
        <p:nvSpPr>
          <p:cNvPr id="345" name="Text Box 8"/>
          <p:cNvSpPr/>
          <p:nvPr/>
        </p:nvSpPr>
        <p:spPr>
          <a:xfrm>
            <a:off x="2666880" y="6477120"/>
            <a:ext cx="594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 http://www.nlsinfo.org/nlsy97/nlsdocs/nlsy97/codesup/mapp10.html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All instruments are delivered to those who are assessed, but not all Ss are assessed </a:t>
            </a:r>
            <a:br>
              <a:rPr sz="2600"/>
            </a:b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e51837"/>
                </a:solidFill>
                <a:latin typeface="Verdana"/>
              </a:rPr>
              <a:t>Fixed vs. Sequential Designs</a:t>
            </a:r>
            <a:endParaRPr b="1" lang="en-US" sz="33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90360" y="1447560"/>
            <a:ext cx="38163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Fixed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experimental desig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728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ypical design in education and the social and behavioral scienc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728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ample size and composition (e.g., experimental group allocation) determined prior to conducting the experi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946400" y="1447560"/>
            <a:ext cx="38163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Sequential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experimental desig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e51837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51837"/>
                </a:solidFill>
                <a:latin typeface="Times New Roman"/>
              </a:rPr>
              <a:t>Sample size treated as a random vari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ows sequential interim analyses and decision-mak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cumulative data and previous design decis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ile maintaining appropriate Type I (α) &amp; Type II (β) error r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Sequential Design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Also referred to as </a:t>
            </a:r>
            <a:r>
              <a:rPr b="1" i="1" lang="en-US" sz="2500" spc="-1" strike="noStrike">
                <a:solidFill>
                  <a:srgbClr val="000000"/>
                </a:solidFill>
                <a:latin typeface="Times New Roman"/>
              </a:rPr>
              <a:t>adaptiv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i="1" lang="en-US" sz="2500" spc="-1" strike="noStrike">
                <a:solidFill>
                  <a:srgbClr val="000000"/>
                </a:solidFill>
                <a:latin typeface="Times New Roman"/>
              </a:rPr>
              <a:t>flexibl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design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000000"/>
                </a:solidFill>
                <a:latin typeface="Times New Roman"/>
                <a:ea typeface="Gulim"/>
              </a:rPr>
              <a:t>Current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Gulim"/>
              </a:rPr>
              <a:t> design decisions are sequentially selected according to </a:t>
            </a:r>
            <a:r>
              <a:rPr b="1" i="1" lang="en-US" sz="2500" spc="-1" strike="noStrike">
                <a:solidFill>
                  <a:srgbClr val="000000"/>
                </a:solidFill>
                <a:latin typeface="Times New Roman"/>
                <a:ea typeface="Gulim"/>
              </a:rPr>
              <a:t>previous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Gulim"/>
              </a:rPr>
              <a:t> design point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000000"/>
                </a:solidFill>
                <a:latin typeface="Times New Roman"/>
                <a:ea typeface="Gulim"/>
              </a:rPr>
              <a:t>Kind of Bayesian…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Gulim"/>
              </a:rPr>
              <a:t>Fixed design = sample size and composition determined a priori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Gulim"/>
              </a:rPr>
              <a:t>Sequential design = the number of observations/participants is not predetermined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Gulim"/>
              </a:rPr>
              <a:t>Sample size and composition are considered random due to decision dependence on previous observation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Gulim"/>
              </a:rPr>
              <a:t>A finite upper limit is often set in practi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Gulim"/>
              </a:rPr>
              <a:t>~ the original fixed sample siz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Primary Benefits of Sequential Designs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Allow for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Gulim"/>
              </a:rPr>
              <a:t>early terminatio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 of experiments if cumulative evidence suggests a clear effect or lack there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Ethical perspectiv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Prevent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Gulim"/>
              </a:rPr>
              <a:t>unnecessary exposur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 to unsafe experimental conditions in terms of both length of exposure and the number of participants expos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Prevent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Gulim"/>
              </a:rPr>
              <a:t>unnecessarily withholding administratio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 when the experimental condition is clearly benefic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Logistical perspectiv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Gulim"/>
              </a:rPr>
              <a:t>Financial saving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 due to reduced sample siz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Fail to Reject 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Gulim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: early termination for lack of effectiveness at a total sample size smaller than would be the case with a fixed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Reject 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Gulim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: a similar savings is observed in the total sample size required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Sample size savings typically reported as greater under 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Gulim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 than under 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Gulim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Actual sample savings generally reported to be as large as 10% under 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Gulim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 &amp; as large as 50% under 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Gulim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History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192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Development of a double sampling inspection procedure for the purpose of industrial quality control. (Harold F. Dodge and Harry G. Romi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193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Census of Bengalese jute area (Prasanta Chandra Mahalanobi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194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Sequential probability ratio test for military armament testing. (Abraham Wald; Statistical Research Group at Columbia University: Milton Friedman, W. Allen Walli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Launched the complementary field of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sequential analysi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Statistical hypothesis testing procedures which allow a statistical test to be calculated at any stage of the experiment prior to comple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3-alternative rule for inferential decision-making: FTR H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  <a:ea typeface="Gulim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, reject H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  <a:ea typeface="Gulim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, or continue experi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19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Book on sequential medical trials effectively introduced the sequential design of randomized clinical trials (RCT), (Peter Armitage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1980’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e51837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e51837"/>
                </a:solidFill>
                <a:latin typeface="Times New Roman"/>
                <a:ea typeface="Gulim"/>
              </a:rPr>
              <a:t>Computerized adaptive test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 procedures for educational and psychological testing based on the principles of sequential design of experiment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Roots can be attributed to Alfred Binet (1905) with the start of adaptive individualized intelligence testing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Sequential Design Characteristic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e5183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51837"/>
                </a:solidFill>
                <a:latin typeface="Times New Roman"/>
                <a:ea typeface="Gulim"/>
              </a:rPr>
              <a:t>At least 1 interim analysi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 at a pre-specified interim stage prior to formal completion of the experi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Statistical details are determined a priori (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there’s a protocol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# interim stages,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n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 at each stage, desired nominal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α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 and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β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 lev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Critical values 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boundary values)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are computed 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Gulim"/>
              </a:rPr>
              <a:t>for each interim st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All available data is analyzed (data from that stage + all previous stag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The appropriate test statistic and the Fisher information level (the inverse of the squared standard error) are computed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The test statistic is then compared with critical boundary values determined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a prior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 to maintain appropriate nominal experiment-wise Type I and Type II error rates given the occurrence of multiple statistical tests at interim stag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If the test statistic falls within a decision region, the experiment stops. Otherwise, the experiment continues to the next stage or until the maximum sample size is reach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990720" y="612720"/>
            <a:ext cx="769608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Boundary Plot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360" name="Picture 32" descr=""/>
          <p:cNvPicPr/>
          <p:nvPr/>
        </p:nvPicPr>
        <p:blipFill>
          <a:blip r:embed="rId1"/>
          <a:stretch/>
        </p:blipFill>
        <p:spPr>
          <a:xfrm>
            <a:off x="3743280" y="1447920"/>
            <a:ext cx="2654280" cy="249876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34" descr="BoundaryPlot-WHT"/>
          <p:cNvPicPr/>
          <p:nvPr/>
        </p:nvPicPr>
        <p:blipFill>
          <a:blip r:embed="rId2"/>
          <a:stretch/>
        </p:blipFill>
        <p:spPr>
          <a:xfrm>
            <a:off x="6410160" y="1447920"/>
            <a:ext cx="2657520" cy="250020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6" descr="CombinedBoundaryPlot"/>
          <p:cNvPicPr/>
          <p:nvPr/>
        </p:nvPicPr>
        <p:blipFill>
          <a:blip r:embed="rId3"/>
          <a:stretch/>
        </p:blipFill>
        <p:spPr>
          <a:xfrm>
            <a:off x="1076400" y="1447920"/>
            <a:ext cx="2654280" cy="249876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7" descr="CombinedBoundaryPlot2"/>
          <p:cNvPicPr/>
          <p:nvPr/>
        </p:nvPicPr>
        <p:blipFill>
          <a:blip r:embed="rId4"/>
          <a:stretch/>
        </p:blipFill>
        <p:spPr>
          <a:xfrm>
            <a:off x="1076400" y="3962520"/>
            <a:ext cx="2651040" cy="249696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8" descr="BoundaryPlot6"/>
          <p:cNvPicPr/>
          <p:nvPr/>
        </p:nvPicPr>
        <p:blipFill>
          <a:blip r:embed="rId5"/>
          <a:stretch/>
        </p:blipFill>
        <p:spPr>
          <a:xfrm>
            <a:off x="3743280" y="3962520"/>
            <a:ext cx="2651040" cy="249876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9" descr="BoundaryPlot8"/>
          <p:cNvPicPr/>
          <p:nvPr/>
        </p:nvPicPr>
        <p:blipFill>
          <a:blip r:embed="rId6"/>
          <a:stretch/>
        </p:blipFill>
        <p:spPr>
          <a:xfrm>
            <a:off x="6410160" y="3962520"/>
            <a:ext cx="2651400" cy="249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Types of Sequential Design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Gulim"/>
              </a:rPr>
              <a:t>3 General Typ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000000"/>
                </a:solidFill>
                <a:latin typeface="Times New Roman"/>
                <a:ea typeface="Gulim"/>
              </a:rPr>
              <a:t>Fully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Gulim"/>
              </a:rPr>
              <a:t> sequential design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Gulim"/>
              </a:rPr>
              <a:t>Continuous monitoring - updated after every observation or after every participant completes the stud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000000"/>
                </a:solidFill>
                <a:latin typeface="Times New Roman"/>
                <a:ea typeface="Gulim"/>
              </a:rPr>
              <a:t>Group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Gulim"/>
              </a:rPr>
              <a:t> sequential design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Gulim"/>
              </a:rPr>
              <a:t>Considered analogous to fully sequential designs EXCEPT that boundary values are computed for a predetermined number of equally spaced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Gulim"/>
              </a:rPr>
              <a:t>stag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Gulim"/>
              </a:rPr>
              <a:t> rather than after each participa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000000"/>
                </a:solidFill>
                <a:latin typeface="Times New Roman"/>
                <a:ea typeface="Gulim"/>
              </a:rPr>
              <a:t>Flexible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Gulim"/>
              </a:rPr>
              <a:t> sequential design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Gulim"/>
              </a:rPr>
              <a:t>Can be viewed as a compromise between fully sequential and group sequential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Gulim"/>
              </a:rPr>
              <a:t>Differ based on sample recruitment and decision-making criteri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What is Missing Data?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Selective non-respons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nts complete some measures or respond to some items but not oth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kipping some questions, missing a measurement occasion but returning for the n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Attri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drop-out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participant ceased to participate in or is removed from the stud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nging schools, death/illness, disinterest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ecause of the study itself or the outcome mea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Missing by desig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observation was not intended to be observed in the first pl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hort sequential studies, planned missing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Human/technology err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observation was lost due to experimenter or technological error in a non-systematic fash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-line data collection and the internet connection fails during data storage, spill coffee on the laptop, poor data en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Limitations of Sequential Design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Gulim"/>
              </a:rPr>
              <a:t>Increased design complex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Gulim"/>
              </a:rPr>
              <a:t>Increased computational burde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Gulim"/>
              </a:rPr>
              <a:t>Determining boundary valu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Gulim"/>
              </a:rPr>
              <a:t>Controlling the experiment-wise error rat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Gulim"/>
              </a:rPr>
              <a:t>Threat to validity due to ability for early termin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Gulim"/>
              </a:rPr>
              <a:t>Early termination for efficacy, futility, or participant safety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Gulim"/>
              </a:rPr>
              <a:t>Smaller sample sizes can lead to a distrust of the finding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Gulim"/>
              </a:rPr>
              <a:t>Some analytic assumption problems due to asymptotic principles (i.e. ML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Gulim"/>
              </a:rPr>
              <a:t>Early termination decision is more complex than just a statistical criterio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Gulim"/>
              </a:rPr>
              <a:t>Consistency across both primary and secondary outcomes, risk groups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Substantive Context</a:t>
            </a: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 </a:t>
            </a:r>
            <a:br>
              <a:rPr sz="2600"/>
            </a:br>
            <a:r>
              <a:rPr b="1" lang="en-US" sz="1800" spc="-1" strike="noStrike">
                <a:solidFill>
                  <a:srgbClr val="e51837"/>
                </a:solidFill>
                <a:latin typeface="Verdana"/>
              </a:rPr>
              <a:t>CBC in the Early Grades (Sheridan </a:t>
            </a:r>
            <a:r>
              <a:rPr b="1" i="1" lang="en-US" sz="1800" spc="-1" strike="noStrike">
                <a:solidFill>
                  <a:srgbClr val="e51837"/>
                </a:solidFill>
                <a:latin typeface="Verdana"/>
              </a:rPr>
              <a:t>et al</a:t>
            </a:r>
            <a:r>
              <a:rPr b="1" lang="en-US" sz="1800" spc="-1" strike="noStrike">
                <a:solidFill>
                  <a:srgbClr val="e51837"/>
                </a:solidFill>
                <a:latin typeface="Verdana"/>
              </a:rPr>
              <a:t>, 2011)</a:t>
            </a:r>
            <a:endParaRPr b="1" lang="en-US" sz="18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990360" y="1447560"/>
            <a:ext cx="7745400" cy="52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-cohort fixed-design cluster randomized trial to evaluate the effectiveness of a school-based consultation (CBC) approach for students with challenging classroom behavi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72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2 schools, 90 classrooms/teachers, 207 K-3rd grade students &amp; par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72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ly assigned as small (2-3) parent-teacher groups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siness-as-usual control condi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erimental CBC condi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designed to detect a medium standardized effect (ES = .38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72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ed sample size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70 children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90 classrooms w/ 3 kids/class) was determined through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prior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ower analysis using Optimal Desig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Methodological Study </a:t>
            </a:r>
            <a:br>
              <a:rPr sz="3000"/>
            </a:br>
            <a:r>
              <a:rPr b="1" lang="en-US" sz="1800" spc="-1" strike="noStrike">
                <a:solidFill>
                  <a:srgbClr val="e51837"/>
                </a:solidFill>
                <a:latin typeface="Verdana"/>
              </a:rPr>
              <a:t>(Bovaird </a:t>
            </a:r>
            <a:r>
              <a:rPr b="1" i="1" lang="en-US" sz="1800" spc="-1" strike="noStrike">
                <a:solidFill>
                  <a:srgbClr val="e51837"/>
                </a:solidFill>
                <a:latin typeface="Verdana"/>
              </a:rPr>
              <a:t>et al, </a:t>
            </a:r>
            <a:r>
              <a:rPr b="1" lang="en-US" sz="1800" spc="-1" strike="noStrike">
                <a:solidFill>
                  <a:srgbClr val="e51837"/>
                </a:solidFill>
                <a:latin typeface="Verdana"/>
              </a:rPr>
              <a:t>2009; Bovaird, 2010)</a:t>
            </a:r>
            <a:endParaRPr b="1" lang="en-US" sz="18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ced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plemented a post hoc application of a sequential design and analysis strateg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hort (4) = “Group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ming eventual “known” fixed design conclusions as true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51837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e51837"/>
                </a:solidFill>
                <a:latin typeface="Times New Roman"/>
              </a:rPr>
              <a:t>What is the degree to which sample size savings may have been realized if we had implemented a group sequential design rather than a fixed desig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analyses implemented in SA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C SEQDESIGN – design the boundary val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C GLIMMIX – analytic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C SEQTEST – evaluate analytic results based on boundary val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Adaptive Skills:</a:t>
            </a:r>
            <a:br>
              <a:rPr sz="2600"/>
            </a:br>
            <a:r>
              <a:rPr b="1" lang="en-US" sz="1800" spc="-1" strike="noStrike">
                <a:solidFill>
                  <a:srgbClr val="e51837"/>
                </a:solidFill>
                <a:latin typeface="Verdana"/>
              </a:rPr>
              <a:t>Parent vs. Teacher Reports</a:t>
            </a:r>
            <a:endParaRPr b="1" lang="en-US" sz="18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375" name="Picture 3" descr="TestPlot-BPAS"/>
          <p:cNvPicPr/>
          <p:nvPr/>
        </p:nvPicPr>
        <p:blipFill>
          <a:blip r:embed="rId1"/>
          <a:stretch/>
        </p:blipFill>
        <p:spPr>
          <a:xfrm>
            <a:off x="993600" y="2319480"/>
            <a:ext cx="3816360" cy="359244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4" descr="TestPlot-BTAS"/>
          <p:cNvPicPr/>
          <p:nvPr/>
        </p:nvPicPr>
        <p:blipFill>
          <a:blip r:embed="rId2"/>
          <a:stretch/>
        </p:blipFill>
        <p:spPr>
          <a:xfrm>
            <a:off x="4946760" y="2279520"/>
            <a:ext cx="3816360" cy="3592800"/>
          </a:xfrm>
          <a:prstGeom prst="rect">
            <a:avLst/>
          </a:prstGeom>
          <a:ln w="0">
            <a:noFill/>
          </a:ln>
        </p:spPr>
      </p:pic>
      <p:sp>
        <p:nvSpPr>
          <p:cNvPr id="377" name="Text Box 5"/>
          <p:cNvSpPr/>
          <p:nvPr/>
        </p:nvSpPr>
        <p:spPr>
          <a:xfrm>
            <a:off x="1066680" y="175248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ent-Repo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6"/>
          <p:cNvSpPr/>
          <p:nvPr/>
        </p:nvSpPr>
        <p:spPr>
          <a:xfrm>
            <a:off x="5791320" y="175248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acher-Repo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Externalizing Behaviors:</a:t>
            </a:r>
            <a:br>
              <a:rPr sz="2600"/>
            </a:br>
            <a:r>
              <a:rPr b="1" lang="en-US" sz="1800" spc="-1" strike="noStrike">
                <a:solidFill>
                  <a:srgbClr val="e51837"/>
                </a:solidFill>
                <a:latin typeface="Verdana"/>
              </a:rPr>
              <a:t>Parent vs. Teacher Reports</a:t>
            </a:r>
            <a:endParaRPr b="1" lang="en-US" sz="18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380" name="Picture 3" descr="TestPlot-BPEX"/>
          <p:cNvPicPr/>
          <p:nvPr/>
        </p:nvPicPr>
        <p:blipFill>
          <a:blip r:embed="rId1"/>
          <a:stretch/>
        </p:blipFill>
        <p:spPr>
          <a:xfrm>
            <a:off x="990720" y="2279520"/>
            <a:ext cx="3816360" cy="359280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4" descr="TestPlot-BTEX"/>
          <p:cNvPicPr/>
          <p:nvPr/>
        </p:nvPicPr>
        <p:blipFill>
          <a:blip r:embed="rId2"/>
          <a:stretch/>
        </p:blipFill>
        <p:spPr>
          <a:xfrm>
            <a:off x="4946760" y="2279520"/>
            <a:ext cx="3816360" cy="3592800"/>
          </a:xfrm>
          <a:prstGeom prst="rect">
            <a:avLst/>
          </a:prstGeom>
          <a:ln w="0">
            <a:noFill/>
          </a:ln>
        </p:spPr>
      </p:pic>
      <p:sp>
        <p:nvSpPr>
          <p:cNvPr id="382" name="Text Box 5"/>
          <p:cNvSpPr/>
          <p:nvPr/>
        </p:nvSpPr>
        <p:spPr>
          <a:xfrm>
            <a:off x="1066680" y="175248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ent-Repo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6"/>
          <p:cNvSpPr/>
          <p:nvPr/>
        </p:nvSpPr>
        <p:spPr>
          <a:xfrm>
            <a:off x="5791320" y="175248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acher-Repo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Parent-Teacher Relationship:</a:t>
            </a:r>
            <a:br>
              <a:rPr sz="2600"/>
            </a:br>
            <a:r>
              <a:rPr b="1" lang="en-US" sz="1800" spc="-1" strike="noStrike">
                <a:solidFill>
                  <a:srgbClr val="e51837"/>
                </a:solidFill>
                <a:latin typeface="Verdana"/>
              </a:rPr>
              <a:t>Parent vs. Teacher Reports</a:t>
            </a:r>
            <a:endParaRPr b="1" lang="en-US" sz="18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385" name="Picture 3" descr="TestPlot-PTRPTO"/>
          <p:cNvPicPr/>
          <p:nvPr/>
        </p:nvPicPr>
        <p:blipFill>
          <a:blip r:embed="rId1"/>
          <a:stretch/>
        </p:blipFill>
        <p:spPr>
          <a:xfrm>
            <a:off x="990720" y="2279520"/>
            <a:ext cx="3816360" cy="359280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4" descr="TestPlot-PTRTTO"/>
          <p:cNvPicPr/>
          <p:nvPr/>
        </p:nvPicPr>
        <p:blipFill>
          <a:blip r:embed="rId2"/>
          <a:stretch/>
        </p:blipFill>
        <p:spPr>
          <a:xfrm>
            <a:off x="4946760" y="2279520"/>
            <a:ext cx="3816360" cy="3592800"/>
          </a:xfrm>
          <a:prstGeom prst="rect">
            <a:avLst/>
          </a:prstGeom>
          <a:ln w="0">
            <a:noFill/>
          </a:ln>
        </p:spPr>
      </p:pic>
      <p:sp>
        <p:nvSpPr>
          <p:cNvPr id="387" name="Text Box 5"/>
          <p:cNvSpPr/>
          <p:nvPr/>
        </p:nvSpPr>
        <p:spPr>
          <a:xfrm>
            <a:off x="1066680" y="175248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ent-Repo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6"/>
          <p:cNvSpPr/>
          <p:nvPr/>
        </p:nvSpPr>
        <p:spPr>
          <a:xfrm>
            <a:off x="5791320" y="175248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acher-Repo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Social Skills:</a:t>
            </a:r>
            <a:br>
              <a:rPr sz="2600"/>
            </a:br>
            <a:r>
              <a:rPr b="1" lang="en-US" sz="1800" spc="-1" strike="noStrike">
                <a:solidFill>
                  <a:srgbClr val="e51837"/>
                </a:solidFill>
                <a:latin typeface="Verdana"/>
              </a:rPr>
              <a:t>Parent vs. Teacher Reports</a:t>
            </a:r>
            <a:endParaRPr b="1" lang="en-US" sz="18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390" name="Picture 3" descr="TestPlot-SSRPTO"/>
          <p:cNvPicPr/>
          <p:nvPr/>
        </p:nvPicPr>
        <p:blipFill>
          <a:blip r:embed="rId1"/>
          <a:stretch/>
        </p:blipFill>
        <p:spPr>
          <a:xfrm>
            <a:off x="990720" y="2279520"/>
            <a:ext cx="3816360" cy="359280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4" descr="TestPlot-SSRTTO"/>
          <p:cNvPicPr/>
          <p:nvPr/>
        </p:nvPicPr>
        <p:blipFill>
          <a:blip r:embed="rId2"/>
          <a:stretch/>
        </p:blipFill>
        <p:spPr>
          <a:xfrm>
            <a:off x="4946760" y="2279520"/>
            <a:ext cx="3816360" cy="3592800"/>
          </a:xfrm>
          <a:prstGeom prst="rect">
            <a:avLst/>
          </a:prstGeom>
          <a:ln w="0">
            <a:noFill/>
          </a:ln>
        </p:spPr>
      </p:pic>
      <p:sp>
        <p:nvSpPr>
          <p:cNvPr id="392" name="Text Box 5"/>
          <p:cNvSpPr/>
          <p:nvPr/>
        </p:nvSpPr>
        <p:spPr>
          <a:xfrm>
            <a:off x="1066680" y="175248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ent-Repo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6"/>
          <p:cNvSpPr/>
          <p:nvPr/>
        </p:nvSpPr>
        <p:spPr>
          <a:xfrm>
            <a:off x="5791320" y="175248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acher-Repo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Sequential vs. Fixed Design Results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395" name="Picture 3" descr=""/>
          <p:cNvPicPr/>
          <p:nvPr/>
        </p:nvPicPr>
        <p:blipFill>
          <a:blip r:embed="rId1"/>
          <a:stretch/>
        </p:blipFill>
        <p:spPr>
          <a:xfrm>
            <a:off x="1219320" y="1600200"/>
            <a:ext cx="7772400" cy="5021280"/>
          </a:xfrm>
          <a:prstGeom prst="rect">
            <a:avLst/>
          </a:prstGeom>
          <a:ln w="0">
            <a:noFill/>
          </a:ln>
        </p:spPr>
      </p:pic>
      <p:grpSp>
        <p:nvGrpSpPr>
          <p:cNvPr id="396" name="Group 12"/>
          <p:cNvGrpSpPr/>
          <p:nvPr/>
        </p:nvGrpSpPr>
        <p:grpSpPr>
          <a:xfrm>
            <a:off x="3124080" y="3048120"/>
            <a:ext cx="5639040" cy="3200400"/>
            <a:chOff x="3124080" y="3048120"/>
            <a:chExt cx="5639040" cy="3200400"/>
          </a:xfrm>
        </p:grpSpPr>
        <p:sp>
          <p:nvSpPr>
            <p:cNvPr id="397" name="Line 4"/>
            <p:cNvSpPr/>
            <p:nvPr/>
          </p:nvSpPr>
          <p:spPr>
            <a:xfrm>
              <a:off x="3733920" y="3048120"/>
              <a:ext cx="0" cy="7617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Line 5"/>
            <p:cNvSpPr/>
            <p:nvPr/>
          </p:nvSpPr>
          <p:spPr>
            <a:xfrm>
              <a:off x="3733920" y="3886200"/>
              <a:ext cx="0" cy="762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Line 6"/>
            <p:cNvSpPr/>
            <p:nvPr/>
          </p:nvSpPr>
          <p:spPr>
            <a:xfrm>
              <a:off x="3733920" y="4724280"/>
              <a:ext cx="0" cy="762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Line 7"/>
            <p:cNvSpPr/>
            <p:nvPr/>
          </p:nvSpPr>
          <p:spPr>
            <a:xfrm>
              <a:off x="3124080" y="5486400"/>
              <a:ext cx="0" cy="762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Line 8"/>
            <p:cNvSpPr/>
            <p:nvPr/>
          </p:nvSpPr>
          <p:spPr>
            <a:xfrm>
              <a:off x="6858000" y="3048120"/>
              <a:ext cx="0" cy="7617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Line 9"/>
            <p:cNvSpPr/>
            <p:nvPr/>
          </p:nvSpPr>
          <p:spPr>
            <a:xfrm>
              <a:off x="8763120" y="3886200"/>
              <a:ext cx="0" cy="762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Line 10"/>
            <p:cNvSpPr/>
            <p:nvPr/>
          </p:nvSpPr>
          <p:spPr>
            <a:xfrm>
              <a:off x="8153280" y="4648320"/>
              <a:ext cx="0" cy="7617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Line 11"/>
            <p:cNvSpPr/>
            <p:nvPr/>
          </p:nvSpPr>
          <p:spPr>
            <a:xfrm>
              <a:off x="7467480" y="5486400"/>
              <a:ext cx="0" cy="762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Sequential Designs Source Material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990360" y="1447560"/>
            <a:ext cx="7745400" cy="52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rmitage P. (1975).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Sequential Medical Trial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(2nd ed.). New York: John Wiley &amp; S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ovaird, J.A., &amp; Kupzyk, K.A. (2010). Sequential Designs. In N.L. Salkind, D.M. Dougherty, &amp; B. Frey (Eds.)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ncyclopedia of research desig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 London: Sag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ovaird, J.A. (2010, August).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xploring Sequential Design of Cluster Randomized Trials.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per presented at the American Psychological Association annual meeting. San Diego, C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ovaird, J.A., Sheridan, S.M., Glover, T.A., &amp; Garbacz, S.A. (2009, June).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Fixed vs. Sequential Experimental Designs: Implications for Cluster Randomized Trials in Educatio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 Poster presented at the IES Research Conference, Washington, DC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ernoff, H. (1959). Sequential design of experiments.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The Annals of Mathematical Statistics, 30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, 755-770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Mets, D.L. (1998). Sequential designs in clinical trials.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Cardiac Electrophysiology Review, 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, 57–60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ainer, H. (2000).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Computerized adaptive testing: A primer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nd ed.). Mahwah, NJ: Lawrence Erlbaum Associates, In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ald, A. (1945). Sequential tests of statistical hypotheses.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The Annals of Mathematical Statistics, 16,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17-18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Conclusions &amp; Things to Think About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5183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51837"/>
                </a:solidFill>
                <a:latin typeface="Times New Roman"/>
              </a:rPr>
              <a:t>Different approaches for different questions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 overlap (i.e. core items/measures) necessary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verlap across Ss vs. across items/measures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Yes – common items/measures should reflect central hypothe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Yes – necessary for linking, equating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ow large should the core be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lanced sets, but not necessari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hat should be included in the core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ant effects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e51837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51837"/>
                </a:solidFill>
                <a:latin typeface="Times New Roman"/>
              </a:rPr>
              <a:t>What is/are the effect size(s)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fferent sample sizes for different effects – a small effect size requires more (complete) dat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here should the core occur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ly not la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unterbalanced is ideal but sometimes impracti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e51837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51837"/>
                </a:solidFill>
                <a:latin typeface="Times New Roman"/>
              </a:rPr>
              <a:t>Don’t forget experimental control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Types of Missing Data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ppose we are modeling literacy (Y) as a function of SES (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me respondents did not complete the literacy measure, so we have missing data on literacy (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hy do we have incomplete data on our literacy measure (Y)?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 it a random or systematic proces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n we determine the nature of any systematic influence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ypolog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issing at Random (MA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issing Completely at Random (MCA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st relevant for planned missing data designs – entirely under the researcher’s control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issing Not at Random (MNA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ining the elements of the system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 = completely observed variable(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Y = partly observed variable(s) [partly missing data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Z = component(s) of the causes of missingness unrelated to X or 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 = indicates missingness or the probability of missingn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28" descr="PP_lastslid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0" name="Rectangle 23"/>
          <p:cNvSpPr/>
          <p:nvPr/>
        </p:nvSpPr>
        <p:spPr>
          <a:xfrm>
            <a:off x="1371600" y="1371600"/>
            <a:ext cx="64008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jbovaird2@unl.ed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ww.cyfs.unl.ed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2ed.unl.ed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hs.unl.edu/edpsyc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e51837"/>
                </a:solidFill>
                <a:latin typeface="Verdana"/>
              </a:rPr>
              <a:t>Missing Completely At Random (MCAR)</a:t>
            </a:r>
            <a:endParaRPr b="1" lang="en-US" sz="25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25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The missing values on a given variable (Y) are not associated with other variables in a given data set or with the variable (Y) itself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s does not mean the missing data pattern is random, but that the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missing values are not associated with any other variabl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The probability that Y is missing (R) is not dependent on X or Y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other words, there i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o particular reas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hy some respondents completed the literacy measure and others did no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You can think of the measured/observed data points as a random sample of the theoretically complete data set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90720" y="4114440"/>
            <a:ext cx="7772400" cy="2552760"/>
          </a:xfrm>
          <a:prstGeom prst="rect">
            <a:avLst/>
          </a:prstGeom>
          <a:ln w="0">
            <a:noFill/>
          </a:ln>
        </p:spPr>
      </p:pic>
      <p:grpSp>
        <p:nvGrpSpPr>
          <p:cNvPr id="106" name="Group 10"/>
          <p:cNvGrpSpPr/>
          <p:nvPr/>
        </p:nvGrpSpPr>
        <p:grpSpPr>
          <a:xfrm>
            <a:off x="2209680" y="4267080"/>
            <a:ext cx="5354640" cy="2456280"/>
            <a:chOff x="2209680" y="4267080"/>
            <a:chExt cx="5354640" cy="2456280"/>
          </a:xfrm>
        </p:grpSpPr>
        <p:pic>
          <p:nvPicPr>
            <p:cNvPr id="107" name="Picture 11" descr=""/>
            <p:cNvPicPr/>
            <p:nvPr/>
          </p:nvPicPr>
          <p:blipFill>
            <a:blip r:embed="rId2"/>
            <a:stretch/>
          </p:blipFill>
          <p:spPr>
            <a:xfrm>
              <a:off x="2209680" y="4267080"/>
              <a:ext cx="5354640" cy="225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Text Box 12"/>
            <p:cNvSpPr/>
            <p:nvPr/>
          </p:nvSpPr>
          <p:spPr>
            <a:xfrm>
              <a:off x="3581280" y="647712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rom Schafer &amp; Graham (2002)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Rectangle 13"/>
          <p:cNvSpPr/>
          <p:nvPr/>
        </p:nvSpPr>
        <p:spPr>
          <a:xfrm>
            <a:off x="2286000" y="4343400"/>
            <a:ext cx="1523880" cy="21337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Group 18"/>
          <p:cNvGrpSpPr/>
          <p:nvPr/>
        </p:nvGrpSpPr>
        <p:grpSpPr>
          <a:xfrm>
            <a:off x="2209680" y="4267080"/>
            <a:ext cx="5354640" cy="2456280"/>
            <a:chOff x="2209680" y="4267080"/>
            <a:chExt cx="5354640" cy="2456280"/>
          </a:xfrm>
        </p:grpSpPr>
        <p:grpSp>
          <p:nvGrpSpPr>
            <p:cNvPr id="111" name="Group 14"/>
            <p:cNvGrpSpPr/>
            <p:nvPr/>
          </p:nvGrpSpPr>
          <p:grpSpPr>
            <a:xfrm>
              <a:off x="2209680" y="4267080"/>
              <a:ext cx="5354640" cy="2456280"/>
              <a:chOff x="2209680" y="4267080"/>
              <a:chExt cx="5354640" cy="2456280"/>
            </a:xfrm>
          </p:grpSpPr>
          <p:pic>
            <p:nvPicPr>
              <p:cNvPr id="112" name="Picture 15" descr=""/>
              <p:cNvPicPr/>
              <p:nvPr/>
            </p:nvPicPr>
            <p:blipFill>
              <a:blip r:embed="rId3"/>
              <a:stretch/>
            </p:blipFill>
            <p:spPr>
              <a:xfrm>
                <a:off x="2209680" y="4267080"/>
                <a:ext cx="5354640" cy="2257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" name="Text Box 16"/>
              <p:cNvSpPr/>
              <p:nvPr/>
            </p:nvSpPr>
            <p:spPr>
              <a:xfrm>
                <a:off x="3581280" y="6477120"/>
                <a:ext cx="19814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From Schafer &amp; Graham (2002)</a:t>
                </a: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4" name="Rectangle 17"/>
            <p:cNvSpPr/>
            <p:nvPr/>
          </p:nvSpPr>
          <p:spPr>
            <a:xfrm>
              <a:off x="2286000" y="4343400"/>
              <a:ext cx="1523880" cy="21337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Missing At Random (MAR)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25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missing values on a given variable (Y) are not associated with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nobserved variables (Z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 with the variable (Y) itself, but may be related to other measured/observed variab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probability that Y is missing (R) is dependent on X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probability (R) that a literacy score (Y) is missing depends on their level of SES (X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at is, respondents with high SES (or low SES) didn’t complete the literacy measur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990720" y="4114440"/>
            <a:ext cx="7772400" cy="2552760"/>
          </a:xfrm>
          <a:prstGeom prst="rect">
            <a:avLst/>
          </a:prstGeom>
          <a:ln w="0">
            <a:noFill/>
          </a:ln>
        </p:spPr>
      </p:pic>
      <p:grpSp>
        <p:nvGrpSpPr>
          <p:cNvPr id="118" name="Group 9"/>
          <p:cNvGrpSpPr/>
          <p:nvPr/>
        </p:nvGrpSpPr>
        <p:grpSpPr>
          <a:xfrm>
            <a:off x="2209680" y="4267080"/>
            <a:ext cx="5354640" cy="2456280"/>
            <a:chOff x="2209680" y="4267080"/>
            <a:chExt cx="5354640" cy="2456280"/>
          </a:xfrm>
        </p:grpSpPr>
        <p:pic>
          <p:nvPicPr>
            <p:cNvPr id="119" name="Picture 10" descr=""/>
            <p:cNvPicPr/>
            <p:nvPr/>
          </p:nvPicPr>
          <p:blipFill>
            <a:blip r:embed="rId2"/>
            <a:stretch/>
          </p:blipFill>
          <p:spPr>
            <a:xfrm>
              <a:off x="2209680" y="4267080"/>
              <a:ext cx="5354640" cy="225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Text Box 11"/>
            <p:cNvSpPr/>
            <p:nvPr/>
          </p:nvSpPr>
          <p:spPr>
            <a:xfrm>
              <a:off x="3581280" y="647712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rom Schafer &amp; Graham (2002)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Rectangle 12"/>
          <p:cNvSpPr/>
          <p:nvPr/>
        </p:nvSpPr>
        <p:spPr>
          <a:xfrm>
            <a:off x="4191120" y="4343400"/>
            <a:ext cx="1523880" cy="21337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Group 17"/>
          <p:cNvGrpSpPr/>
          <p:nvPr/>
        </p:nvGrpSpPr>
        <p:grpSpPr>
          <a:xfrm>
            <a:off x="2209680" y="4267080"/>
            <a:ext cx="5354640" cy="2456280"/>
            <a:chOff x="2209680" y="4267080"/>
            <a:chExt cx="5354640" cy="2456280"/>
          </a:xfrm>
        </p:grpSpPr>
        <p:grpSp>
          <p:nvGrpSpPr>
            <p:cNvPr id="123" name="Group 13"/>
            <p:cNvGrpSpPr/>
            <p:nvPr/>
          </p:nvGrpSpPr>
          <p:grpSpPr>
            <a:xfrm>
              <a:off x="2209680" y="4267080"/>
              <a:ext cx="5354640" cy="2456280"/>
              <a:chOff x="2209680" y="4267080"/>
              <a:chExt cx="5354640" cy="2456280"/>
            </a:xfrm>
          </p:grpSpPr>
          <p:pic>
            <p:nvPicPr>
              <p:cNvPr id="124" name="Picture 14" descr=""/>
              <p:cNvPicPr/>
              <p:nvPr/>
            </p:nvPicPr>
            <p:blipFill>
              <a:blip r:embed="rId3"/>
              <a:stretch/>
            </p:blipFill>
            <p:spPr>
              <a:xfrm>
                <a:off x="2209680" y="4267080"/>
                <a:ext cx="5354640" cy="2257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5" name="Text Box 15"/>
              <p:cNvSpPr/>
              <p:nvPr/>
            </p:nvSpPr>
            <p:spPr>
              <a:xfrm>
                <a:off x="3581280" y="6477120"/>
                <a:ext cx="19814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From Schafer &amp; Graham (2002)</a:t>
                </a: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6" name="Rectangle 16"/>
            <p:cNvSpPr/>
            <p:nvPr/>
          </p:nvSpPr>
          <p:spPr>
            <a:xfrm>
              <a:off x="4191120" y="4343400"/>
              <a:ext cx="1523880" cy="21337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Group 18"/>
          <p:cNvGrpSpPr/>
          <p:nvPr/>
        </p:nvGrpSpPr>
        <p:grpSpPr>
          <a:xfrm>
            <a:off x="2209680" y="4267080"/>
            <a:ext cx="5354640" cy="2456280"/>
            <a:chOff x="2209680" y="4267080"/>
            <a:chExt cx="5354640" cy="2456280"/>
          </a:xfrm>
        </p:grpSpPr>
        <p:grpSp>
          <p:nvGrpSpPr>
            <p:cNvPr id="128" name="Group 19"/>
            <p:cNvGrpSpPr/>
            <p:nvPr/>
          </p:nvGrpSpPr>
          <p:grpSpPr>
            <a:xfrm>
              <a:off x="2209680" y="4267080"/>
              <a:ext cx="5354640" cy="2456280"/>
              <a:chOff x="2209680" y="4267080"/>
              <a:chExt cx="5354640" cy="2456280"/>
            </a:xfrm>
          </p:grpSpPr>
          <p:pic>
            <p:nvPicPr>
              <p:cNvPr id="129" name="Picture 20" descr=""/>
              <p:cNvPicPr/>
              <p:nvPr/>
            </p:nvPicPr>
            <p:blipFill>
              <a:blip r:embed="rId4"/>
              <a:stretch/>
            </p:blipFill>
            <p:spPr>
              <a:xfrm>
                <a:off x="2209680" y="4267080"/>
                <a:ext cx="5354640" cy="2257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0" name="Text Box 21"/>
              <p:cNvSpPr/>
              <p:nvPr/>
            </p:nvSpPr>
            <p:spPr>
              <a:xfrm>
                <a:off x="3581280" y="6477120"/>
                <a:ext cx="19814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From Schafer &amp; Graham (2002)</a:t>
                </a: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1" name="Rectangle 22"/>
            <p:cNvSpPr/>
            <p:nvPr/>
          </p:nvSpPr>
          <p:spPr>
            <a:xfrm>
              <a:off x="4191120" y="4343400"/>
              <a:ext cx="1523880" cy="21337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Group 23"/>
          <p:cNvGrpSpPr/>
          <p:nvPr/>
        </p:nvGrpSpPr>
        <p:grpSpPr>
          <a:xfrm>
            <a:off x="2209680" y="4267080"/>
            <a:ext cx="5354640" cy="2456280"/>
            <a:chOff x="2209680" y="4267080"/>
            <a:chExt cx="5354640" cy="2456280"/>
          </a:xfrm>
        </p:grpSpPr>
        <p:grpSp>
          <p:nvGrpSpPr>
            <p:cNvPr id="133" name="Group 24"/>
            <p:cNvGrpSpPr/>
            <p:nvPr/>
          </p:nvGrpSpPr>
          <p:grpSpPr>
            <a:xfrm>
              <a:off x="2209680" y="4267080"/>
              <a:ext cx="5354640" cy="2456280"/>
              <a:chOff x="2209680" y="4267080"/>
              <a:chExt cx="5354640" cy="2456280"/>
            </a:xfrm>
          </p:grpSpPr>
          <p:pic>
            <p:nvPicPr>
              <p:cNvPr id="134" name="Picture 25" descr=""/>
              <p:cNvPicPr/>
              <p:nvPr/>
            </p:nvPicPr>
            <p:blipFill>
              <a:blip r:embed="rId5"/>
              <a:stretch/>
            </p:blipFill>
            <p:spPr>
              <a:xfrm>
                <a:off x="2209680" y="4267080"/>
                <a:ext cx="5354640" cy="2257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5" name="Text Box 26"/>
              <p:cNvSpPr/>
              <p:nvPr/>
            </p:nvSpPr>
            <p:spPr>
              <a:xfrm>
                <a:off x="3581280" y="6477120"/>
                <a:ext cx="19814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From Schafer &amp; Graham (2002)</a:t>
                </a: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6" name="Rectangle 27"/>
            <p:cNvSpPr/>
            <p:nvPr/>
          </p:nvSpPr>
          <p:spPr>
            <a:xfrm>
              <a:off x="4191120" y="4343400"/>
              <a:ext cx="1523880" cy="21337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Not Missing At Random (NMAR)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25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association with unobserved variables (Z) and maybe with observed variables (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robability that Y is missing (R) is dependent on the underlying values of Y itsel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who did not complete the literacy measure did so because of poor literacy skil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990720" y="4114440"/>
            <a:ext cx="7772400" cy="2552760"/>
          </a:xfrm>
          <a:prstGeom prst="rect">
            <a:avLst/>
          </a:prstGeom>
          <a:ln w="0">
            <a:noFill/>
          </a:ln>
        </p:spPr>
      </p:pic>
      <p:grpSp>
        <p:nvGrpSpPr>
          <p:cNvPr id="140" name="Group 9"/>
          <p:cNvGrpSpPr/>
          <p:nvPr/>
        </p:nvGrpSpPr>
        <p:grpSpPr>
          <a:xfrm>
            <a:off x="2209680" y="4267080"/>
            <a:ext cx="5354640" cy="2456280"/>
            <a:chOff x="2209680" y="4267080"/>
            <a:chExt cx="5354640" cy="2456280"/>
          </a:xfrm>
        </p:grpSpPr>
        <p:pic>
          <p:nvPicPr>
            <p:cNvPr id="141" name="Picture 10" descr=""/>
            <p:cNvPicPr/>
            <p:nvPr/>
          </p:nvPicPr>
          <p:blipFill>
            <a:blip r:embed="rId2"/>
            <a:stretch/>
          </p:blipFill>
          <p:spPr>
            <a:xfrm>
              <a:off x="2209680" y="4267080"/>
              <a:ext cx="5354640" cy="225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Text Box 11"/>
            <p:cNvSpPr/>
            <p:nvPr/>
          </p:nvSpPr>
          <p:spPr>
            <a:xfrm>
              <a:off x="3581280" y="647712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rom Schafer &amp; Graham (2002)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Rectangle 12"/>
          <p:cNvSpPr/>
          <p:nvPr/>
        </p:nvSpPr>
        <p:spPr>
          <a:xfrm>
            <a:off x="6019920" y="4343400"/>
            <a:ext cx="1523880" cy="21337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Group 17"/>
          <p:cNvGrpSpPr/>
          <p:nvPr/>
        </p:nvGrpSpPr>
        <p:grpSpPr>
          <a:xfrm>
            <a:off x="2209680" y="4267080"/>
            <a:ext cx="5354640" cy="2456280"/>
            <a:chOff x="2209680" y="4267080"/>
            <a:chExt cx="5354640" cy="2456280"/>
          </a:xfrm>
        </p:grpSpPr>
        <p:grpSp>
          <p:nvGrpSpPr>
            <p:cNvPr id="145" name="Group 13"/>
            <p:cNvGrpSpPr/>
            <p:nvPr/>
          </p:nvGrpSpPr>
          <p:grpSpPr>
            <a:xfrm>
              <a:off x="2209680" y="4267080"/>
              <a:ext cx="5354640" cy="2456280"/>
              <a:chOff x="2209680" y="4267080"/>
              <a:chExt cx="5354640" cy="2456280"/>
            </a:xfrm>
          </p:grpSpPr>
          <p:pic>
            <p:nvPicPr>
              <p:cNvPr id="146" name="Picture 14" descr=""/>
              <p:cNvPicPr/>
              <p:nvPr/>
            </p:nvPicPr>
            <p:blipFill>
              <a:blip r:embed="rId3"/>
              <a:stretch/>
            </p:blipFill>
            <p:spPr>
              <a:xfrm>
                <a:off x="2209680" y="4267080"/>
                <a:ext cx="5354640" cy="2257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" name="Text Box 15"/>
              <p:cNvSpPr/>
              <p:nvPr/>
            </p:nvSpPr>
            <p:spPr>
              <a:xfrm>
                <a:off x="3581280" y="6477120"/>
                <a:ext cx="19814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From Schafer &amp; Graham (2002)</a:t>
                </a: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8" name="Rectangle 16"/>
            <p:cNvSpPr/>
            <p:nvPr/>
          </p:nvSpPr>
          <p:spPr>
            <a:xfrm>
              <a:off x="6019920" y="4343400"/>
              <a:ext cx="1523880" cy="21337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5T16:10:50Z</dcterms:created>
  <dc:creator>Jim Bovaird</dc:creator>
  <dc:description/>
  <dc:language>en-US</dc:language>
  <cp:lastModifiedBy>Michael Ahern</cp:lastModifiedBy>
  <dcterms:modified xsi:type="dcterms:W3CDTF">2012-04-09T16:18:25Z</dcterms:modified>
  <cp:revision>48</cp:revision>
  <dc:subject/>
  <dc:title>Slide 1</dc:title>
</cp:coreProperties>
</file>