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31.png" ContentType="image/png"/>
  <Override PartName="/ppt/media/image27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6.jpeg" ContentType="image/jpeg"/>
  <Override PartName="/ppt/media/image19.png" ContentType="image/png"/>
  <Override PartName="/ppt/media/image20.png" ContentType="image/png"/>
  <Override PartName="/ppt/media/image2.jpeg" ContentType="image/jpeg"/>
  <Override PartName="/ppt/media/image17.png" ContentType="image/png"/>
  <Override PartName="/ppt/media/image14.png" ContentType="image/png"/>
  <Override PartName="/ppt/media/image25.wmf" ContentType="image/x-wmf"/>
  <Override PartName="/ppt/media/image3.png" ContentType="image/png"/>
  <Override PartName="/ppt/media/image33.png" ContentType="image/png"/>
  <Override PartName="/ppt/media/image41.png" ContentType="image/png"/>
  <Override PartName="/ppt/media/image35.png" ContentType="image/png"/>
  <Override PartName="/ppt/media/image36.png" ContentType="image/png"/>
  <Override PartName="/ppt/media/image40.png" ContentType="image/png"/>
  <Override PartName="/ppt/media/image11.jpeg" ContentType="image/jpeg"/>
  <Override PartName="/ppt/media/image42.png" ContentType="image/png"/>
  <Override PartName="/ppt/media/image32.png" ContentType="image/png"/>
  <Override PartName="/ppt/media/image15.wmf" ContentType="image/x-wmf"/>
  <Override PartName="/ppt/media/image44.png" ContentType="image/png"/>
  <Override PartName="/ppt/media/image45.png" ContentType="image/png"/>
  <Override PartName="/ppt/media/image30.wmf" ContentType="image/x-wmf"/>
  <Override PartName="/ppt/media/image5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46.png" ContentType="image/png"/>
  <Override PartName="/ppt/media/image43.png" ContentType="image/png"/>
  <Override PartName="/ppt/media/image47.jpeg" ContentType="image/jpe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1846-E4B1-4FB8-8461-AC4F1FDC4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E38B-22B1-451A-82DF-A7E56F651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6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4F49-9D5B-4899-A2BE-3C91EA319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7: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AF71-D37E-47A5-BA20-E04020E92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8: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A179-F69C-4469-B517-D54F16E79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C387-6191-44FC-A4FC-263F81D63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CF4B-83A2-454E-A828-4E0537F84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D721-1216-4992-9323-8E2D1C21F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0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5905-3A13-4042-A0CB-C3CC4DAEB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1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4A90-A3B6-4B04-AE2E-12CF59675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5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1ADA-7328-4F92-91F1-7CEDFDA6F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6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4600-6C5A-4DC3-8658-DC15A8A10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A5D4-7F19-4C42-BD0F-B61A9087D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8: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F667-C198-4095-A0A5-D28CC9A8E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EFD9-BAB8-4D90-8432-B878EFDCA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1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0262-6DD0-41E5-8A94-650AE1B3A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441C-69E6-45EB-AF69-882D8FDBF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8010-4650-4644-92D8-4972F1F07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4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9D1B-22A4-4F23-9177-EAAD0AE1C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420F-9F7D-4A79-B407-D3DCA3BB9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A0A0-D298-4742-9D01-C359A02F2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7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0C48-8294-42D5-AA87-367309122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8: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869E-C828-41B8-924B-3A31329E0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3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D0B5-B277-42F5-9A56-163DE5050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9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EA8E-59CC-4B8B-8A1E-3900496E5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AC86-5400-44CC-949F-9AC385474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3971-63E8-4F98-9895-CB9F96F0F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2: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D9CD-88FE-4858-96AC-F8E05E657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4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E51E-C0C0-46E6-A474-4FA461C19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6: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7D2A-16D4-418A-A175-D68E45ECE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9: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EDD8-6FF4-4761-8966-27BC596B1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2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D2DC-F5B3-474F-A0B4-CE18EF611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5: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558F-6A9D-4671-A5D6-37C87BCDF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7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2B2E-88EF-4500-BD94-52CD7599B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6: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E656-E652-445B-8233-EA6858124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8: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A9DE-5951-4C5E-95C6-72ECEDB0E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0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9688-F653-49B4-B461-CB5D5D838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61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8395-59EB-4A26-AD46-75DCD18D9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1: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F1EE-1CA6-481D-BACB-2E047A785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2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F8CF-3639-4116-B6BD-B41EE3BC3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4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EF3C-F9A0-4C09-AC1E-C8DAEF60C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5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3043-5F24-4B8B-95F9-1D3DEDD50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7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7621-C5A6-46BA-8D78-1B1BDBC28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0: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DA08-07A8-44D2-B0FF-B6D7B6D2E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CEB4-FAAD-422E-9596-21B05B3EF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A8D0-12C3-4F42-A06C-A816D76E4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F3E2-7ACE-4AAB-9F95-3331D81D9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5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E95E-6754-4E9A-AF8A-ADBDF4385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7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AB0E-71B3-4E64-B0A4-D29104FF6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9: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7EAC-CCC8-4D64-9142-576217FFD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0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C9AC-0E34-42AA-ACD5-9729A71BA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FBF4-A243-4093-9995-A58A62511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12E8-1DD5-43A8-BA82-6439FCFC8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9D4EB-BF54-4167-900A-F08539669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2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9DAC-0F85-4008-A697-E87966DE9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3: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E743-A66A-4ABC-ADD3-4719FCB17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6B25-0E67-424A-9B6E-7B58E2F74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B73B-393F-4F3B-8FE7-8DEF2E7EA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6: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3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81FE-83F7-4F1B-80E8-7A777D965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4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1AEF-342C-456D-B5FE-FB6BFDD4C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5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1397-0000-4EF5-AF7E-DA4CC8E18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CYFS identity - center"/>
          <p:cNvPicPr/>
          <p:nvPr/>
        </p:nvPicPr>
        <p:blipFill>
          <a:blip r:embed="rId3"/>
          <a:stretch/>
        </p:blipFill>
        <p:spPr>
          <a:xfrm>
            <a:off x="457200" y="0"/>
            <a:ext cx="3048120" cy="1222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1523520" y="6536880"/>
            <a:ext cx="7620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5183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Times New Roman"/>
              </a:rPr>
              <a:t>Originally presented on 8/8/08 by the </a:t>
            </a:r>
            <a:r>
              <a:rPr b="0" i="1" lang="en-US" sz="1400" spc="-1" strike="noStrike">
                <a:solidFill>
                  <a:srgbClr val="e51837"/>
                </a:solidFill>
                <a:latin typeface="Times New Roman"/>
              </a:rPr>
              <a:t>Statistics &amp; Research Methodology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mailto:jbovaird2@unl.edu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1523880" y="6537240"/>
            <a:ext cx="7620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Arial"/>
              </a:rPr>
              <a:t>10/7/11 – NCSER Mee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All Students Need to be Assessed: </a:t>
            </a:r>
            <a:br>
              <a:rPr sz="2600"/>
            </a:br>
            <a:br>
              <a:rPr sz="1300"/>
            </a:b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Research Designs Where Data are Intentionally Missing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41148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mes A. Bovaird, P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ssociate Professo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f Educational Psych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irector of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ebraska Center for Research on Children, Youth, Families and Sch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-Director for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ational Center for Research on Rural Education (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identity"/>
          <p:cNvPicPr/>
          <p:nvPr/>
        </p:nvPicPr>
        <p:blipFill>
          <a:blip r:embed="rId1"/>
          <a:stretch/>
        </p:blipFill>
        <p:spPr>
          <a:xfrm>
            <a:off x="5715000" y="228600"/>
            <a:ext cx="31528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What Can We Tell From Our Data?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have access to what is measured/observed for each variable in our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test (reject)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 is not testable (Potthof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2006)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not distinguish between MAR and MNAR because we would need values of the missing data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do so would require knowledge of what was not meas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 the case of a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planned missing data desig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, we (the experimenter) are the mechanism (Z) leading to the probability of missing data (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s long as the selection process is non-systematic, then we meet the MCAR assump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Techniqu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ssume MAR or M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ir-wi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-wise &amp; Case-wis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an Sub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ression Imputation w/ Focal or Full Item P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Regression Imp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-group S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rn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ll Information Maximum Likeliho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IM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ltiple Impu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single data point is missing, delete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is uniform but 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eptable only if power is not an issue and the incomplete data is at least M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ased estimates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 biased, means bi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is is the default in most pack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e don’t want to delete cases (Ss) if we intentionally did not collect data on some measu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" descr="missing4"/>
          <p:cNvPicPr/>
          <p:nvPr/>
        </p:nvPicPr>
        <p:blipFill>
          <a:blip r:embed="rId2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missing4"/>
          <p:cNvPicPr/>
          <p:nvPr/>
        </p:nvPicPr>
        <p:blipFill>
          <a:blip r:embed="rId3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" descr="missing4"/>
          <p:cNvPicPr/>
          <p:nvPr/>
        </p:nvPicPr>
        <p:blipFill>
          <a:blip r:embed="rId4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3" descr="missing4"/>
          <p:cNvPicPr/>
          <p:nvPr/>
        </p:nvPicPr>
        <p:blipFill>
          <a:blip r:embed="rId5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34"/>
          <p:cNvGrpSpPr/>
          <p:nvPr/>
        </p:nvGrpSpPr>
        <p:grpSpPr>
          <a:xfrm>
            <a:off x="5029200" y="3276720"/>
            <a:ext cx="3429000" cy="182520"/>
            <a:chOff x="5029200" y="3276720"/>
            <a:chExt cx="3429000" cy="182520"/>
          </a:xfrm>
        </p:grpSpPr>
        <p:sp>
          <p:nvSpPr>
            <p:cNvPr id="164" name="Rectangle 35"/>
            <p:cNvSpPr/>
            <p:nvPr/>
          </p:nvSpPr>
          <p:spPr>
            <a:xfrm>
              <a:off x="5029200" y="327672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6"/>
            <p:cNvSpPr/>
            <p:nvPr/>
          </p:nvSpPr>
          <p:spPr>
            <a:xfrm>
              <a:off x="5105160" y="335304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37"/>
          <p:cNvGrpSpPr/>
          <p:nvPr/>
        </p:nvGrpSpPr>
        <p:grpSpPr>
          <a:xfrm>
            <a:off x="5029200" y="5075280"/>
            <a:ext cx="3429000" cy="182520"/>
            <a:chOff x="5029200" y="5075280"/>
            <a:chExt cx="3429000" cy="182520"/>
          </a:xfrm>
        </p:grpSpPr>
        <p:sp>
          <p:nvSpPr>
            <p:cNvPr id="167" name="Rectangle 38"/>
            <p:cNvSpPr/>
            <p:nvPr/>
          </p:nvSpPr>
          <p:spPr>
            <a:xfrm>
              <a:off x="5029200" y="507528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9"/>
            <p:cNvSpPr/>
            <p:nvPr/>
          </p:nvSpPr>
          <p:spPr>
            <a:xfrm>
              <a:off x="5105160" y="515160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54"/>
          <p:cNvGrpSpPr/>
          <p:nvPr/>
        </p:nvGrpSpPr>
        <p:grpSpPr>
          <a:xfrm>
            <a:off x="4952880" y="1862280"/>
            <a:ext cx="3814920" cy="4690800"/>
            <a:chOff x="4952880" y="1862280"/>
            <a:chExt cx="3814920" cy="4690800"/>
          </a:xfrm>
        </p:grpSpPr>
        <p:pic>
          <p:nvPicPr>
            <p:cNvPr id="170" name="Picture 47" descr="missing4"/>
            <p:cNvPicPr/>
            <p:nvPr/>
          </p:nvPicPr>
          <p:blipFill>
            <a:blip r:embed="rId6"/>
            <a:stretch/>
          </p:blipFill>
          <p:spPr>
            <a:xfrm>
              <a:off x="4952880" y="1862280"/>
              <a:ext cx="3814920" cy="469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48"/>
            <p:cNvGrpSpPr/>
            <p:nvPr/>
          </p:nvGrpSpPr>
          <p:grpSpPr>
            <a:xfrm>
              <a:off x="5029200" y="3233880"/>
              <a:ext cx="3429000" cy="182520"/>
              <a:chOff x="5029200" y="3233880"/>
              <a:chExt cx="3429000" cy="182520"/>
            </a:xfrm>
          </p:grpSpPr>
          <p:sp>
            <p:nvSpPr>
              <p:cNvPr id="172" name="Rectangle 49"/>
              <p:cNvSpPr/>
              <p:nvPr/>
            </p:nvSpPr>
            <p:spPr>
              <a:xfrm>
                <a:off x="5029200" y="323388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50"/>
              <p:cNvSpPr/>
              <p:nvPr/>
            </p:nvSpPr>
            <p:spPr>
              <a:xfrm>
                <a:off x="5105160" y="331020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51"/>
            <p:cNvGrpSpPr/>
            <p:nvPr/>
          </p:nvGrpSpPr>
          <p:grpSpPr>
            <a:xfrm>
              <a:off x="5029200" y="5032440"/>
              <a:ext cx="3429000" cy="182520"/>
              <a:chOff x="5029200" y="5032440"/>
              <a:chExt cx="3429000" cy="182520"/>
            </a:xfrm>
          </p:grpSpPr>
          <p:sp>
            <p:nvSpPr>
              <p:cNvPr id="175" name="Rectangle 52"/>
              <p:cNvSpPr/>
              <p:nvPr/>
            </p:nvSpPr>
            <p:spPr>
              <a:xfrm>
                <a:off x="5029200" y="503244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53"/>
              <p:cNvSpPr/>
              <p:nvPr/>
            </p:nvSpPr>
            <p:spPr>
              <a:xfrm>
                <a:off x="5105160" y="510876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data point is missing, delete cases on an analysis-by-analysis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varies per analysis (e.g., correlation, ANO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biased estimates only under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, means, SEs biased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lation/covariance matrices often non-positive definite (NP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missing4"/>
          <p:cNvPicPr/>
          <p:nvPr/>
        </p:nvPicPr>
        <p:blipFill>
          <a:blip r:embed="rId1"/>
          <a:stretch/>
        </p:blipFill>
        <p:spPr>
          <a:xfrm>
            <a:off x="4948200" y="1890720"/>
            <a:ext cx="3814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monly available in most packages, but not as the defa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gain, we don’t want to delete cases (Ss) if we intentionally did not collect data on some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y be OK for pair-wise univariate comparisons but not for omnibus multivariate analyses (NP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missing4"/>
          <p:cNvPicPr/>
          <p:nvPr/>
        </p:nvPicPr>
        <p:blipFill>
          <a:blip r:embed="rId1"/>
          <a:stretch/>
        </p:blipFill>
        <p:spPr>
          <a:xfrm>
            <a:off x="4952880" y="1981080"/>
            <a:ext cx="3814920" cy="44262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0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1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3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9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1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2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3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5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6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7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8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9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0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1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2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3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4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5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6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9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6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80"/>
          <p:cNvGrpSpPr/>
          <p:nvPr/>
        </p:nvGrpSpPr>
        <p:grpSpPr>
          <a:xfrm>
            <a:off x="4952880" y="1905120"/>
            <a:ext cx="3814920" cy="4502160"/>
            <a:chOff x="4952880" y="1905120"/>
            <a:chExt cx="3814920" cy="4502160"/>
          </a:xfrm>
        </p:grpSpPr>
        <p:pic>
          <p:nvPicPr>
            <p:cNvPr id="248" name="Picture 69" descr="missing4"/>
            <p:cNvPicPr/>
            <p:nvPr/>
          </p:nvPicPr>
          <p:blipFill>
            <a:blip r:embed="rId2"/>
            <a:stretch/>
          </p:blipFill>
          <p:spPr>
            <a:xfrm>
              <a:off x="4952880" y="1981080"/>
              <a:ext cx="3814920" cy="442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Rectangle 70"/>
            <p:cNvSpPr/>
            <p:nvPr/>
          </p:nvSpPr>
          <p:spPr>
            <a:xfrm>
              <a:off x="647712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71"/>
            <p:cNvSpPr/>
            <p:nvPr/>
          </p:nvSpPr>
          <p:spPr>
            <a:xfrm>
              <a:off x="777240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72"/>
            <p:cNvSpPr/>
            <p:nvPr/>
          </p:nvSpPr>
          <p:spPr>
            <a:xfrm>
              <a:off x="7696080" y="312408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73"/>
            <p:cNvSpPr/>
            <p:nvPr/>
          </p:nvSpPr>
          <p:spPr>
            <a:xfrm>
              <a:off x="6400800" y="312408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74"/>
            <p:cNvSpPr/>
            <p:nvPr/>
          </p:nvSpPr>
          <p:spPr>
            <a:xfrm>
              <a:off x="6553080" y="33526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75"/>
            <p:cNvSpPr/>
            <p:nvPr/>
          </p:nvSpPr>
          <p:spPr>
            <a:xfrm>
              <a:off x="7848720" y="335268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76"/>
            <p:cNvSpPr/>
            <p:nvPr/>
          </p:nvSpPr>
          <p:spPr>
            <a:xfrm>
              <a:off x="7848720" y="502920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77"/>
            <p:cNvSpPr/>
            <p:nvPr/>
          </p:nvSpPr>
          <p:spPr>
            <a:xfrm>
              <a:off x="6553080" y="502920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78"/>
            <p:cNvSpPr/>
            <p:nvPr/>
          </p:nvSpPr>
          <p:spPr>
            <a:xfrm>
              <a:off x="6400800" y="480060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79"/>
            <p:cNvSpPr/>
            <p:nvPr/>
          </p:nvSpPr>
          <p:spPr>
            <a:xfrm>
              <a:off x="7696080" y="480060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Mean-Substitution Approache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the mean of the sample (sample-wise) or the mean score of other items (case-wise) for any missing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nces and correlations/covariances truncated/bi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biased means under MCAR, MAR, or M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3"/>
          <p:cNvGrpSpPr/>
          <p:nvPr/>
        </p:nvGrpSpPr>
        <p:grpSpPr>
          <a:xfrm>
            <a:off x="1600200" y="2743200"/>
            <a:ext cx="7238520" cy="3962160"/>
            <a:chOff x="1600200" y="2743200"/>
            <a:chExt cx="7238520" cy="3962160"/>
          </a:xfrm>
        </p:grpSpPr>
        <p:sp>
          <p:nvSpPr>
            <p:cNvPr id="262" name="Text Box 14"/>
            <p:cNvSpPr/>
            <p:nvPr/>
          </p:nvSpPr>
          <p:spPr>
            <a:xfrm>
              <a:off x="1743120" y="446760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We’d like to obtain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5"/>
            <p:cNvSpPr/>
            <p:nvPr/>
          </p:nvSpPr>
          <p:spPr>
            <a:xfrm>
              <a:off x="5575680" y="445644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But instead we get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4" name="Picture 16" descr=""/>
            <p:cNvPicPr/>
            <p:nvPr/>
          </p:nvPicPr>
          <p:blipFill>
            <a:blip r:embed="rId1"/>
            <a:stretch/>
          </p:blipFill>
          <p:spPr>
            <a:xfrm>
              <a:off x="5645160" y="4739040"/>
              <a:ext cx="280584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17" descr=""/>
            <p:cNvPicPr/>
            <p:nvPr/>
          </p:nvPicPr>
          <p:blipFill>
            <a:blip r:embed="rId2"/>
            <a:stretch/>
          </p:blipFill>
          <p:spPr>
            <a:xfrm>
              <a:off x="2025720" y="4739040"/>
              <a:ext cx="277488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18" descr=""/>
            <p:cNvPicPr/>
            <p:nvPr/>
          </p:nvPicPr>
          <p:blipFill>
            <a:blip r:embed="rId3"/>
            <a:stretch/>
          </p:blipFill>
          <p:spPr>
            <a:xfrm>
              <a:off x="5290200" y="2743200"/>
              <a:ext cx="3548520" cy="165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19" descr=""/>
            <p:cNvPicPr/>
            <p:nvPr/>
          </p:nvPicPr>
          <p:blipFill>
            <a:blip r:embed="rId4"/>
            <a:stretch/>
          </p:blipFill>
          <p:spPr>
            <a:xfrm>
              <a:off x="1600200" y="2743200"/>
              <a:ext cx="3548160" cy="1654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odern Model-Based Approaches 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Imputation (MI) –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3 st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several complete data sets by imputing missing values (similar to plausible valu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CAUTION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5 may not be enough (see Graham et al, 200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, NORM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ze each data set using standard “complete case”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 GLIMMIX, M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l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PSS ANOVA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ine results into a single result using Rubin’s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ANALYZE, MS Excel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Information Maximum Likelihood (FIML) -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simulta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ditional upon endogenous (Y-side) variab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ed in principle to the use of multiple group S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fficient statistics (mean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variances/covariance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) are estimated from the raw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comple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se estimates then serve as the start values for the ML model estim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vailable in most SEM &amp; HLM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Resourc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xtboo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ers (20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ttle &amp; Rubin (2002) [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dition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er Reviewed Artic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llins, L. M., Schafer, J. L., &amp; Kam, C. M. (2001). A comparison of inclusive and restrictive strategies in modern missing data procedure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6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3-351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 (2003). Adding missing-data-relevant variables to FIML-based structural equation model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Structural Equation Modeling: A Multidisciplinary Journal, 1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80–100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Olchowski, A.E., &amp; Gilreath, T.D. (2007). How many imputations are really needed? Some practical clarifications of multiple imputation theory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revention Science, 8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206-21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Taylor, B.J., Olchowski, A.E., &amp; Cumsille, P.E. (2006). Planned missing data designs in psychological research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1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23-34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ubin, D.B. (1976) Inference and missing data. 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Biometrika, 6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581-592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chafer , J.L., &amp; Graham, J.W. (2002). Missing data: Our view of the state of the art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147-177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andbook of Psychology: Research Methods in Psychology (Volume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ham, Cumsille, &amp; Elek-Fisk (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is list is NOT exhaustive, just the ones I have found to be the most useful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nguage and Reading Research Consortium (LARRC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ing for Understanding Research Init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hio State University (lead) – PI: Laura Jus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izona State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Ka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caster University (U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Nebraska-Lincol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y 1: Assessment P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K through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sectional aim for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inform Studies 2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for years 1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4" descr="LARRClogoFINAL-wbook"/>
          <p:cNvPicPr/>
          <p:nvPr/>
        </p:nvPicPr>
        <p:blipFill>
          <a:blip r:embed="rId1"/>
          <a:stretch/>
        </p:blipFill>
        <p:spPr>
          <a:xfrm>
            <a:off x="5791320" y="2743200"/>
            <a:ext cx="3200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Does Every Student Need to Take Every Assessment in My Study?”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ck answ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treated as a missing dat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enty of examples in the lit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Accelerated longitudin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Planned missing data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Measurement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rix sampl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equentially designed 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riginally proposed 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,200 PK to G3 in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400 PK, 200 K, 200 G1, 200 G2, 200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ed annually within a set window over multiple test s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ldren are followed until they reach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ied cohort sequential design (more late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ally proposed 4-hr battery was expanded to a 6-hr battery for the PK and K children and a 7-hr battery for G1-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ot of constructs + at least 3 measures/construct = a lot of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anded testing window from 8-12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ed testing outside of school hours (nights, weekend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1"/>
          <a:stretch/>
        </p:blipFill>
        <p:spPr>
          <a:xfrm>
            <a:off x="2843280" y="1490760"/>
            <a:ext cx="406728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ce we realized the problem, some sites were already well underway with 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sites felt they could collect the entire planned sample, others not so sur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sion factors were not eas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” measurement solutions vs. complex modeling nee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just multiple items on a unidimensional constr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multiple measures as part of a comprehensive batt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nted to be as “experimental” as possible – protocol driv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ral measures are new, modified, translated, or otherwise experim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require more data to test/insure measurement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-thought out battery (we’re really attached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lt we were “over-powered” to begin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ed to maximize between-measure information by making use of previous design decisions and initial over-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Consider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opping measures or administering certain measures to sub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ecid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duce the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RRC vs. RfU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8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4038480" cy="2903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"/>
          <p:cNvPicPr/>
          <p:nvPr/>
        </p:nvPicPr>
        <p:blipFill>
          <a:blip r:embed="rId2"/>
          <a:stretch/>
        </p:blipFill>
        <p:spPr>
          <a:xfrm>
            <a:off x="4114800" y="3828960"/>
            <a:ext cx="4800600" cy="286092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9"/>
          <p:cNvSpPr/>
          <p:nvPr/>
        </p:nvSpPr>
        <p:spPr>
          <a:xfrm>
            <a:off x="5410080" y="18604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RC is still not collecting all data on all 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2057400" y="463536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U panels are not all assessing at all grade level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ll Ss are assessed, but not assessed on all instrumen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gence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l (195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sequenti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aie (196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ort-sequential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selroade &amp; Baltes (197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lerated longitudin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ry, Ohlin, &amp; Farrington (199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Does Accelerated Mean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ping ‘Cohorts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ohort is a group of participants that begin a study at a common age or grade in sch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cked for a limited number of measurement occa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s are linked at their overlapping time points to approximate the true longitudinal curve/traj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1"/>
          <a:stretch/>
        </p:blipFill>
        <p:spPr>
          <a:xfrm>
            <a:off x="2209680" y="3505320"/>
            <a:ext cx="56390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for assessment of intra-individual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kes less time than a purely longitudinal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ject attrition and cumulative testing effects are not as pre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le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y longitudinal research se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mental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al or Classroom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rontology or aging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mportant Design Featur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require relatively large sample siz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universally accepted sample size recommendations, but typically at least 150 subjects (total) are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ly depends on analytic method (i.e. ML vs. OLS estim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fficiency of overl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least two points of overlap are required to test for differences in linear slopes between adjacent 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re than two if higher order trends are expected (e.g., quadratic, cubi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Object 7"/>
          <p:cNvGraphicFramePr/>
          <p:nvPr/>
        </p:nvGraphicFramePr>
        <p:xfrm>
          <a:off x="1523880" y="3833640"/>
          <a:ext cx="7010640" cy="30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833640"/>
                    <a:ext cx="701064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Text Box 8"/>
          <p:cNvSpPr/>
          <p:nvPr/>
        </p:nvSpPr>
        <p:spPr>
          <a:xfrm>
            <a:off x="5486400" y="64008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from Miyazaki &amp; Raudenbush (2000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Outlin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ivating contex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oration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-based randomized control t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es of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hods for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are assessed, but not assessed on all instr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Reading for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lerated Longitudinal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ned Missing Data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rized Adaptive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instruments are delivered to those who are assessed, but not all Ss are asses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CYFS randomized control tria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quentially Designed Experi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4948200" y="4165560"/>
            <a:ext cx="3814920" cy="25401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"/>
          <p:cNvPicPr/>
          <p:nvPr/>
        </p:nvPicPr>
        <p:blipFill>
          <a:blip r:embed="rId2"/>
          <a:stretch/>
        </p:blipFill>
        <p:spPr>
          <a:xfrm>
            <a:off x="1447920" y="1447920"/>
            <a:ext cx="1622160" cy="52578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"/>
          <p:cNvPicPr/>
          <p:nvPr/>
        </p:nvPicPr>
        <p:blipFill>
          <a:blip r:embed="rId3"/>
          <a:stretch/>
        </p:blipFill>
        <p:spPr>
          <a:xfrm>
            <a:off x="4952880" y="1447920"/>
            <a:ext cx="3814920" cy="25398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6"/>
          <p:cNvSpPr/>
          <p:nvPr/>
        </p:nvSpPr>
        <p:spPr>
          <a:xfrm>
            <a:off x="609480" y="28940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Group S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4191120" y="2286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e as a time-invariant covari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4114800" y="4387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ssing By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1454040" y="2935440"/>
            <a:ext cx="2887920" cy="22827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"/>
          <p:cNvSpPr/>
          <p:nvPr/>
        </p:nvSpPr>
        <p:spPr>
          <a:xfrm>
            <a:off x="1066680" y="16765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dividually Varying Timepoi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7315200" y="58356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ndom Coeffici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35916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lanned Missing Data Designs (PMDDs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” (Graham, Taylor, Olchowski, &amp; Cumsille,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Allison, Allison, Faith, Paultre, &amp; Pi-Sunyer (199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 cost ($) with statistical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ctional Factor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Box, Hunter, &amp; Hunter (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efully chosen subset of cells from a factorial design focus “information” on most important conditions while minimizing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so different from adaptive testing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ment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ple matrix sampling (Shoemaker, 197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ful for means, but not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ctional block design (McArdle, 199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means + SOME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multiple-group SEM for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incomplete blocks (spiral) designs (Johnson, 199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ns &amp; correlation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e number of Ss respond to each 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6" descr=""/>
          <p:cNvPicPr/>
          <p:nvPr/>
        </p:nvPicPr>
        <p:blipFill>
          <a:blip r:embed="rId1"/>
          <a:stretch/>
        </p:blipFill>
        <p:spPr>
          <a:xfrm>
            <a:off x="4952880" y="1482840"/>
            <a:ext cx="3810240" cy="2481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/>
          <p:cNvPicPr/>
          <p:nvPr/>
        </p:nvPicPr>
        <p:blipFill>
          <a:blip r:embed="rId2"/>
          <a:stretch/>
        </p:blipFill>
        <p:spPr>
          <a:xfrm>
            <a:off x="5662440" y="4167360"/>
            <a:ext cx="2391120" cy="25239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9"/>
          <p:cNvSpPr/>
          <p:nvPr/>
        </p:nvSpPr>
        <p:spPr>
          <a:xfrm>
            <a:off x="6095880" y="653724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McArdle (1994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5105520" y="3809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720" y="140940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-form design (Graham, Hofer, &amp; Piccinin, 1994; oth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ems split into 4 sets (X, A, B, 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get X + 2 additional sets (XAB, XAC, XB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hypotheses testable [k(k-1)/2 2-variable effects w/in each set + k2 2-variable effects across 2 se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n’t forget multiplicit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lit questionnaire survey design (SQSD; Raghunathan &amp; Grizzle, 199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11" descr=""/>
          <p:cNvPicPr/>
          <p:nvPr/>
        </p:nvPicPr>
        <p:blipFill>
          <a:blip r:embed="rId1"/>
          <a:stretch/>
        </p:blipFill>
        <p:spPr>
          <a:xfrm>
            <a:off x="5029200" y="3733920"/>
            <a:ext cx="3886200" cy="2950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2"/>
          <a:stretch/>
        </p:blipFill>
        <p:spPr>
          <a:xfrm>
            <a:off x="990720" y="4075200"/>
            <a:ext cx="3809880" cy="18684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13"/>
          <p:cNvSpPr/>
          <p:nvPr/>
        </p:nvSpPr>
        <p:spPr>
          <a:xfrm>
            <a:off x="1752480" y="57913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5867280" y="64771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-method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cases w/ cheap, relatively noisy (lower reliability)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self-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require a response bias correction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w cases w/ both cheap and expensive, more reliable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biological mar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7" descr=""/>
          <p:cNvPicPr/>
          <p:nvPr/>
        </p:nvPicPr>
        <p:blipFill>
          <a:blip r:embed="rId1"/>
          <a:stretch/>
        </p:blipFill>
        <p:spPr>
          <a:xfrm>
            <a:off x="2438280" y="3886200"/>
            <a:ext cx="4953240" cy="286236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8"/>
          <p:cNvSpPr/>
          <p:nvPr/>
        </p:nvSpPr>
        <p:spPr>
          <a:xfrm>
            <a:off x="6705720" y="6095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51837"/>
                </a:solidFill>
                <a:latin typeface="Verdana"/>
              </a:rPr>
              <a:t>Computer Adaptive Testing (CAT)</a:t>
            </a:r>
            <a:endParaRPr b="1" lang="en-US" sz="27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administers items that are most appropriate for a given ability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higher-ability examinees will be administered harder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s are essentially weighted according to their difficulty, making test scores compa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can often achieve the precision of a fixed-length test using half as many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practical through Item Response Theory (I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5" descr=""/>
          <p:cNvPicPr/>
          <p:nvPr/>
        </p:nvPicPr>
        <p:blipFill>
          <a:blip r:embed="rId1"/>
          <a:stretch/>
        </p:blipFill>
        <p:spPr>
          <a:xfrm>
            <a:off x="3200400" y="5410080"/>
            <a:ext cx="5410080" cy="10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Response Func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2095560" y="1447920"/>
            <a:ext cx="5562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1"/>
          <a:stretch/>
        </p:blipFill>
        <p:spPr>
          <a:xfrm>
            <a:off x="1982880" y="1447920"/>
            <a:ext cx="5789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Test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2130480" y="1447920"/>
            <a:ext cx="5491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y Motivating Contex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5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vestigator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Language Bases of Skilled Reading Comprehension (USDOE-IE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UNL Sub-Award PI: T. Hogan; Ohio State University PI: L. Just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4-10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thodological Consultant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valuation of the Efficacy of CBC for Addressing Disruptive Behaviors of Children at-Risk for Academic Fail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9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 (Core Director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National Center for Research on Rural Education (R2Ed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Randomized Trail of Conjoint Behavioral Consultation (CBC) in Rural Education Settings: Efficacy for Elementary Students with Disruptive Behavi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begin, all examinees are administered moderately difficult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sing an item will result in a lower ability estimate, and the computer will administer an easier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ing an item correctly will increase one’s ability estimate, and the computer will administer a more difficult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IRT, the computer estimates the respondent’s ability level after each item is administ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equent items are tailored to the respondent’s abili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ing continues until the algorithm identifies the difficulty level at which the respondent will miss about 50% of the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is concentrated and maximized at this most-appropriate difficul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ping rules are based on EITHER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logistical conven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fixed # of items) OR a sufficiently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small standard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772400" cy="5257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8"/>
          <p:cNvSpPr/>
          <p:nvPr/>
        </p:nvSpPr>
        <p:spPr>
          <a:xfrm>
            <a:off x="2666880" y="647712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http://www.nlsinfo.org/nlsy97/nlsdocs/nlsy97/codesup/mapp10.htm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ll instruments are delivered to those who are assessed, but not all Ss are assessed </a:t>
            </a:r>
            <a:br>
              <a:rPr sz="2600"/>
            </a:b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1837"/>
                </a:solidFill>
                <a:latin typeface="Verdana"/>
              </a:rPr>
              <a:t>Fixed vs. Sequential Designs</a:t>
            </a:r>
            <a:endParaRPr b="1" lang="en-US" sz="33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 design in education and the social and behavioral scien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 size and composition (e.g., experimental group allocation) determined prior to conducting the exper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4640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equenti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ample size treated as a random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sequential interim analyses and decision-mak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cumulative data and previous design decis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le maintaining appropriate Type I (α) &amp; Type II (β) error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lso referred to as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adaptiv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flexib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desig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Curren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decisions are sequentially selected according to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previou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poi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Kind of Bayesian…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Fixed design = sample size and composition determined a prior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design = the number of observations/participants is not predetermin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and composition are considered random due to decision dependence on previous observ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A finite upper limit is often set in pract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~ the original fixed sample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rimary Benefits of Sequential Design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ow fo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early termin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of experiments if cumulative evidence suggests a clear effect or lack there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Eth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y expos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unsafe experimental conditions in terms of both length of exposure and the number of participants exp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ily withholding administr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when the experimental condition is clearly bene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Logist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inancial saving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due to reduced sample siz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Fail to 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early termination for lack of effectiveness at a total sample size smaller than would be the case with a fixed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a similar savings is observed in the total sample size require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savings typically reported as greater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han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ctual sample savings generally reported to be as large as 1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&amp; as large as 5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istory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Development of a double sampling inspection procedure for the purpose of industrial quality control. (Harold F. Dodge and Harry G. Romi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Census of Bengalese jute area (Prasanta Chandra Mahalanob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probability ratio test for military armament testing. (Abraham Wald; Statistical Research Group at Columbia University: Milton Friedman, W. Allen Wall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Launched the complementary field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analysi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hypothesis testing procedures which allow a statistical test to be calculated at any stage of the experiment prior to comple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3-alternative rule for inferential decision-making: FTR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or continue experi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Book on sequential medical trials effectively introduced the sequential design of randomized clinical trials (RCT), (Peter Armitag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80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e51837"/>
                </a:solidFill>
                <a:latin typeface="Times New Roman"/>
                <a:ea typeface="Gulim"/>
              </a:rPr>
              <a:t>Computerized adaptive tes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 procedures for educational and psychological testing based on the principles of sequential design of experimen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Roots can be attributed to Alfred Binet (1905) with the start of adaptive individualized intelligence test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 Characteristic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  <a:ea typeface="Gulim"/>
              </a:rPr>
              <a:t>At least 1 interim analys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a pre-specified interim stage prior to formal completion of the experi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details are determined a priori 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re’s a protoco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# interim stages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each stage, desired nominal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Critical values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boundary values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re computed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or each interim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 available data is analyzed (data from that stage + all previous st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appropriate test statistic and the Fisher information level (the inverse of the squared standard error) are comput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test statistic is then compared with critical boundary values determine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 prior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maintain appropriate nominal experiment-wise Type I and Type II error rates given the occurrence of multiple statistical tests at interim stag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If the test statistic falls within a decision region, the experiment stops. Otherwise, the experiment continues to the next stage or until the maximum sample size is rea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720" y="612720"/>
            <a:ext cx="769608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Boundary Plo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60" name="Picture 32" descr=""/>
          <p:cNvPicPr/>
          <p:nvPr/>
        </p:nvPicPr>
        <p:blipFill>
          <a:blip r:embed="rId1"/>
          <a:stretch/>
        </p:blipFill>
        <p:spPr>
          <a:xfrm>
            <a:off x="374328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4" descr="BoundaryPlot-WHT"/>
          <p:cNvPicPr/>
          <p:nvPr/>
        </p:nvPicPr>
        <p:blipFill>
          <a:blip r:embed="rId2"/>
          <a:stretch/>
        </p:blipFill>
        <p:spPr>
          <a:xfrm>
            <a:off x="6410160" y="1447920"/>
            <a:ext cx="2657520" cy="2500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" descr="CombinedBoundaryPlot"/>
          <p:cNvPicPr/>
          <p:nvPr/>
        </p:nvPicPr>
        <p:blipFill>
          <a:blip r:embed="rId3"/>
          <a:stretch/>
        </p:blipFill>
        <p:spPr>
          <a:xfrm>
            <a:off x="107640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CombinedBoundaryPlot2"/>
          <p:cNvPicPr/>
          <p:nvPr/>
        </p:nvPicPr>
        <p:blipFill>
          <a:blip r:embed="rId4"/>
          <a:stretch/>
        </p:blipFill>
        <p:spPr>
          <a:xfrm>
            <a:off x="1076400" y="3962520"/>
            <a:ext cx="2651040" cy="24969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BoundaryPlot6"/>
          <p:cNvPicPr/>
          <p:nvPr/>
        </p:nvPicPr>
        <p:blipFill>
          <a:blip r:embed="rId5"/>
          <a:stretch/>
        </p:blipFill>
        <p:spPr>
          <a:xfrm>
            <a:off x="3743280" y="3962520"/>
            <a:ext cx="2651040" cy="24987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9" descr="BoundaryPlot8"/>
          <p:cNvPicPr/>
          <p:nvPr/>
        </p:nvPicPr>
        <p:blipFill>
          <a:blip r:embed="rId6"/>
          <a:stretch/>
        </p:blipFill>
        <p:spPr>
          <a:xfrm>
            <a:off x="6410160" y="3962520"/>
            <a:ext cx="265140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3 General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ul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tinuous monitoring - updated after every observation or after every participant completes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Grou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sidered analogous to fully sequential designs EXCEPT that boundary values are computed for a predetermined number of equally space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tag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 rather than after each particip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lexibl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an be viewed as a compromise between fully sequential and group sequent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Differ based on sample recruitment and decision-making criter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is Missing Data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lective non-respon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nts complete some measures or respond to some items but not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ipping some questions, missing a measurement occasion but returning for the 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ttr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drop-ou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articipant ceased to participate in or is removed from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ing schools, death/illness, disinterest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ecause of the study itself or the outcome 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by desig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not intended to be observed in the first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sequential studies, planned missing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uman/technology err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lost due to experimenter or technological error in a non-systematic fash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-line data collection and the internet connection fails during data storage, spill coffee on the laptop, poor data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imitation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design 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computational burd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Determining boundary valu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Controlling the experiment-wise error ra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Threat to validity due to ability for early ter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for efficacy, futility, or participant safe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maller sample sizes can lead to a distrust of the finding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ome analytic assumption problems due to asymptotic principles (i.e. ML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decision is more complex than just a statistical criter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Consistency across both primary and secondary outcomes, risk group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ubstantive Context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CBC in the Early Grades (Sheridan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, 2011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cohort fixed-design cluster randomized trial to evaluate the effectiveness of a school-based consultation (CBC) approach for students with challenging classroom behavi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 schools, 90 classrooms/teachers, 207 K-3rd grade students &amp;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ly assigned as small (2-3) parent-teacher groups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-as-usual control cond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 CBC cond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designed to detect a medium standardized effect (ES = .3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sample siz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70 childre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90 classrooms w/ 3 kids/class) was determined throug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pri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wer analysis using Optimal Desig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thodological Study </a:t>
            </a:r>
            <a:br>
              <a:rPr sz="30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(Bovaird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, 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2009; Bovaird, 2010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ed a post hoc application of a sequential design and analysis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(4) = “Group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ing eventual “known” fixed design conclusions as tru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What is the degree to which sample size savings may have been realized if we had implemented a group sequential design rather than a fixed desig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analyses implemented in S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DESIGN – design the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GLIMMIX – analyt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TEST – evaluate analytic results based on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daptive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75" name="Picture 3" descr="TestPlot-BPAS"/>
          <p:cNvPicPr/>
          <p:nvPr/>
        </p:nvPicPr>
        <p:blipFill>
          <a:blip r:embed="rId1"/>
          <a:stretch/>
        </p:blipFill>
        <p:spPr>
          <a:xfrm>
            <a:off x="993600" y="2319480"/>
            <a:ext cx="3816360" cy="35924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TestPlot-BTAS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Externalizing Behavior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0" name="Picture 3" descr="TestPlot-BPEX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TestPlot-BTEX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arent-Teacher Relationship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5" name="Picture 3" descr="TestPlot-PT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TestPlot-PT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ocial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0" name="Picture 3" descr="TestPlot-SS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TestPlot-SS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equential vs. Fixed Design Result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772400" cy="5021280"/>
          </a:xfrm>
          <a:prstGeom prst="rect">
            <a:avLst/>
          </a:prstGeom>
          <a:ln w="0">
            <a:noFill/>
          </a:ln>
        </p:spPr>
      </p:pic>
      <p:grpSp>
        <p:nvGrpSpPr>
          <p:cNvPr id="396" name="Group 12"/>
          <p:cNvGrpSpPr/>
          <p:nvPr/>
        </p:nvGrpSpPr>
        <p:grpSpPr>
          <a:xfrm>
            <a:off x="3124080" y="3048120"/>
            <a:ext cx="5639040" cy="3200400"/>
            <a:chOff x="3124080" y="3048120"/>
            <a:chExt cx="5639040" cy="3200400"/>
          </a:xfrm>
        </p:grpSpPr>
        <p:sp>
          <p:nvSpPr>
            <p:cNvPr id="397" name="Line 4"/>
            <p:cNvSpPr/>
            <p:nvPr/>
          </p:nvSpPr>
          <p:spPr>
            <a:xfrm>
              <a:off x="373392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"/>
            <p:cNvSpPr/>
            <p:nvPr/>
          </p:nvSpPr>
          <p:spPr>
            <a:xfrm>
              <a:off x="37339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6"/>
            <p:cNvSpPr/>
            <p:nvPr/>
          </p:nvSpPr>
          <p:spPr>
            <a:xfrm>
              <a:off x="3733920" y="472428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7"/>
            <p:cNvSpPr/>
            <p:nvPr/>
          </p:nvSpPr>
          <p:spPr>
            <a:xfrm>
              <a:off x="31240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8"/>
            <p:cNvSpPr/>
            <p:nvPr/>
          </p:nvSpPr>
          <p:spPr>
            <a:xfrm>
              <a:off x="685800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9"/>
            <p:cNvSpPr/>
            <p:nvPr/>
          </p:nvSpPr>
          <p:spPr>
            <a:xfrm>
              <a:off x="87631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0"/>
            <p:cNvSpPr/>
            <p:nvPr/>
          </p:nvSpPr>
          <p:spPr>
            <a:xfrm>
              <a:off x="8153280" y="46483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1"/>
            <p:cNvSpPr/>
            <p:nvPr/>
          </p:nvSpPr>
          <p:spPr>
            <a:xfrm>
              <a:off x="74674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 Source Material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mitage P. (1975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quential Medical Trial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2nd ed.). New York: John Wiley &amp; S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&amp; Kupzyk, K.A. (2010). Sequential Designs. In N.L. Salkind, D.M. Dougherty, &amp; B. Frey (Eds.)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ncyclopedia of research desig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London: S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 (2010, August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xploring Sequential Design of Cluster Randomized Trials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per presented at the American Psychological Association annual meeting. San Diego, 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Sheridan, S.M., Glover, T.A., &amp; Garbacz, S.A. (2009, June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xed vs. Sequential Experimental Designs: Implications for Cluster Randomized Trials in Educ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Poster presented at the IES Research Conference, Washington, D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rnoff, H. (1959). Sequential design of experiment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3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755-77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Mets, D.L. (1998). Sequential designs in clinical trial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ardiac Electrophysiology Review,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57–6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iner, H. (2000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mputerized adaptive testing: A primer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nd ed.). Mahwah, NJ: Lawrence Erlbaum Associate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ld, A. (1945). Sequential tests of statistical hypothese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16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7-18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Conclusions &amp; Things to Think About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ifferent approaches for different question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overlap (i.e. core items/measures) necessar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 across Ss vs. across items/measure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common items/measures should reflect central hypothe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necessary for linking, equating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large should the core b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sets, but not necessari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should be included in the co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ant effect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What is/are the effect size(s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 sample sizes for different effects – a small effect size requires more (complete)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should the core occu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ly not l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unterbalanced is ideal but sometimes imprac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Don’t forget experimental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Missing Data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se we are modeling literacy (Y) as a function of SES 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respondents did not complete the literacy measure, so we have missing data on literacy (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y do we have incomplete data on our literacy measure (Y)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it a random or systematic proces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we determine the nature of any systematic influenc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olog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at Random (M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Completely at Random (MC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st relevant for planned missing data designs – entirely under the researcher’s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Not at Random (MN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ing the elements of the syste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= completely observed variable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 = partly observed variable(s) [partly missing data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 = component(s) of the causes of missingness unrelated to X or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 = indicates missingness or the probability of missing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8" descr="PP_lastsli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23"/>
          <p:cNvSpPr/>
          <p:nvPr/>
        </p:nvSpPr>
        <p:spPr>
          <a:xfrm>
            <a:off x="1371600" y="1371600"/>
            <a:ext cx="6400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jbovaird2@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yfs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2ed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hs.unl.edu/edpsy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51837"/>
                </a:solidFill>
                <a:latin typeface="Verdana"/>
              </a:rPr>
              <a:t>Missing Completely At Random (MCAR)</a:t>
            </a:r>
            <a:endParaRPr b="1" lang="en-US" sz="25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other variables in a given data set or with the variable (Y) itself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does not mean the missing data pattern is random, but that th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issing values are not associated with any other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probability that Y is missing (R) is not dependent on X or Y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other words, there i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o particular rea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y some respondents completed the literacy measure and others did n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You can think of the measured/observed data points as a random sample of the theoretically complete data set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0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07" name="Picture 11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2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13"/>
          <p:cNvSpPr/>
          <p:nvPr/>
        </p:nvSpPr>
        <p:spPr>
          <a:xfrm>
            <a:off x="228600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11" name="Group 1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12" name="Pictur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1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Rectangle 17"/>
            <p:cNvSpPr/>
            <p:nvPr/>
          </p:nvSpPr>
          <p:spPr>
            <a:xfrm>
              <a:off x="228600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At Random (MAR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observed variables (Z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with the variable (Y) itself, but may be related to other measured/observed vari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bability (R) that a literacy score (Y) is missing depends on their level of SES (X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 is, respondents with high SES (or low SES) didn’t complete the literacy meas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19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12"/>
          <p:cNvSpPr/>
          <p:nvPr/>
        </p:nvSpPr>
        <p:spPr>
          <a:xfrm>
            <a:off x="41911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3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4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Rectangle 16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8" name="Group 19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9" name="Picture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Text Box 21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Rectangle 22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23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33" name="Group 2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34" name="Picture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Text Box 2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Rectangle 27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Missing At Random (NMAR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ssociation with unobserved variables (Z) and maybe with observed variables 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the underlying values of Y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who did not complete the literacy measure did so because of poor literacy ski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41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12"/>
          <p:cNvSpPr/>
          <p:nvPr/>
        </p:nvSpPr>
        <p:spPr>
          <a:xfrm>
            <a:off x="60199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45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46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Rectangle 16"/>
            <p:cNvSpPr/>
            <p:nvPr/>
          </p:nvSpPr>
          <p:spPr>
            <a:xfrm>
              <a:off x="60199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6:10:50Z</dcterms:created>
  <dc:creator>Jim Bovaird</dc:creator>
  <dc:description/>
  <dc:language>en-US</dc:language>
  <cp:lastModifiedBy>Michael Ahern</cp:lastModifiedBy>
  <dcterms:modified xsi:type="dcterms:W3CDTF">2012-04-09T16:18:25Z</dcterms:modified>
  <cp:revision>48</cp:revision>
  <dc:subject/>
  <dc:title>Slide 1</dc:title>
</cp:coreProperties>
</file>