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4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46.png" ContentType="image/png"/>
  <Override PartName="/ppt/media/image43.png" ContentType="image/png"/>
  <Override PartName="/ppt/media/image47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29C7-33E9-47B4-A710-CFA2B9FF3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7EA7-6F5A-4636-8B85-0E5A805C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6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D005-012A-4E4E-88CF-D7839396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7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780D-011C-4A3A-B42B-AFD2663E7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8: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6DE-9C74-4B39-B773-5189580B4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F0D1-50C4-4E3F-A6F3-28B0F693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0106-A710-4734-9C05-BA298F885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9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00C1-09E1-4E60-9826-0B0872353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0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9A79-1FCB-431E-B6F0-7604F1D51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1: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9082-DA84-4238-9F1C-9377FD36B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5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DCC9-BB97-4DB1-9BFE-53156C82C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6: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4358-8BE9-4424-89F6-2298B39BD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0: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F624-819E-45C4-BEC1-CE10456F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28: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00F4-2931-499F-9813-0964A6D2B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753B-19D5-41E4-98C8-6A230EF6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1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5019-056D-4651-87CE-0C82C4C0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978B-605F-4AA8-B8DD-C5DEB423F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F6A2-B4EB-4BE1-86FD-CBA5F3A54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4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D324-AFF0-4849-9C6E-EFA935108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E12E-9521-47C6-9351-A9CA394AE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5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884F-1E27-4F75-9A50-7751EADF8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7: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8991-6C79-4B57-B792-5FCB8B21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8: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923F-3EEC-44E9-9EAB-4B08BCB75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3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E652-E2D5-4DA7-BC86-53C58F1D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39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D0C6-C5A9-4B2C-B22E-D788FA5D9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1E9A-8274-4044-9418-DC58B155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0: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C73E-7982-4FA8-BBBC-B602E280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2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A2C7-9B0A-45A1-A4FA-78934FFA7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4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E86C-6E86-4B09-BC7B-1467867AA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6: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D8D3-D14E-4178-BAFD-A3CD590BF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49: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B49-B62B-496A-A0EE-3B940E323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2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52D3-1D41-46CD-A415-69776DFEF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5: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DACA-286A-41B7-B277-E1362FBC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0710-779B-466F-8411-4692651E1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06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9063-B744-40D2-A42D-D76301642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58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4894-1810-4FA2-93F7-2048F5F0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0: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80A1-CA06-4D01-BEE2-2C7E35B7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1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1C87-26B6-4745-8B74-E6255FFAF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1: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0C05-DD6D-4DA0-BA7D-2D51F3E9F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2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2545-F01B-4C86-AA09-ECBD0A05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4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2B0B-916C-4E6E-A62E-A58C54424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5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B425-A91E-4FB5-94CC-0562CE427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67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DAE6-72E2-416D-BE47-CEC7BCEF5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0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5153-20AD-4BDA-8EA6-3A77B4A72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AC29-E0A8-4479-B2B9-CEE5C2AA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0: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3708-4D78-488B-8EE4-2974D77E8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3: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3787-6242-4EFE-BC88-3F31693EB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5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06F3-43A3-4C49-ABAB-ED6790639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7: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7EFD-E50E-486A-8768-5B5AA5E7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79: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4FAC-BD2F-4DCE-A5D4-9AADF2EC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0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5F83-EC17-468F-8FA6-29683B20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001D-779C-46AE-837F-406A34C2A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581E-37E3-41F8-8361-3EC3B282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1: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1857-9FF4-4FAA-B958-DB138724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2: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5D85-DA40-46E4-A344-52F08D7C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3: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08BB-0FF9-453B-B17E-85E4D1B0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469-0C5E-45AB-A73C-E42FD8E0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0CFC-4021-4FA5-9D4B-9E8E43E4D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86: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3: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3E69-2E5D-4CFE-B9F7-222ACDAB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4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E58E-94AE-4DD4-93DD-1280DED1E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:1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1983-7AEE-4A96-81BA-FC79D7AA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P_2contentBKG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Line 5"/>
          <p:cNvSpPr/>
          <p:nvPr/>
        </p:nvSpPr>
        <p:spPr>
          <a:xfrm>
            <a:off x="1066680" y="1295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YFS identity - center"/>
          <p:cNvPicPr/>
          <p:nvPr/>
        </p:nvPicPr>
        <p:blipFill>
          <a:blip r:embed="rId3"/>
          <a:stretch/>
        </p:blipFill>
        <p:spPr>
          <a:xfrm>
            <a:off x="457200" y="0"/>
            <a:ext cx="304812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1523520" y="6536880"/>
            <a:ext cx="7620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18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Times New Roman"/>
              </a:rPr>
              <a:t>Originally presented on 8/8/08 by the </a:t>
            </a:r>
            <a:r>
              <a:rPr b="0" i="1" lang="en-US" sz="1400" spc="-1" strike="noStrike">
                <a:solidFill>
                  <a:srgbClr val="e51837"/>
                </a:solidFill>
                <a:latin typeface="Times New Roman"/>
              </a:rPr>
              <a:t>Statistics &amp; Research Methodolog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mailto:jbovaird2@unl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1523880" y="6537240"/>
            <a:ext cx="762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1837"/>
                </a:solidFill>
                <a:latin typeface="Arial"/>
              </a:rPr>
              <a:t>10/7/11 – NCSER Mee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All Students Need to be Assessed: </a:t>
            </a:r>
            <a:br>
              <a:rPr sz="2600"/>
            </a:br>
            <a:br>
              <a:rPr sz="1300"/>
            </a:b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Research Designs Where Data are Intentionally Missing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A. Bovaird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ociate Professo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Educational Psyc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rector of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ebraska Center for Research on Children, Youth, Families and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-Director for Statistics &amp; Research Method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National Center for Research on Rural Education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identity"/>
          <p:cNvPicPr/>
          <p:nvPr/>
        </p:nvPicPr>
        <p:blipFill>
          <a:blip r:embed="rId1"/>
          <a:stretch/>
        </p:blipFill>
        <p:spPr>
          <a:xfrm>
            <a:off x="5715000" y="228600"/>
            <a:ext cx="3152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What Can We Tell From Our Data?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access to what is measured/observed for each variable in ou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test (reject)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 is not testable (Pottho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6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distinguish between MAR and MNAR because we would need values of the missing dat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o so would require knowledge of what was not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the case of a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lanned missing data desig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we (the experimenter) are the mechanism (Z) leading to the probability of missing data (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long as the selection process is non-systematic, then we meet the MCAR assum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Techniqu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ssume MAR or M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ir-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wise &amp; Case-wi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Imputation w/ Focal or Full Ite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Regression I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Information Maximum Likelih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Imp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ingle data point is missing, delet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uniform but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able only if power is not an issue and the incomplete data is at least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d estimates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 biased, means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st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the default in most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to delete cases (Ss) if we intentionally did not collect data on some mea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missing4"/>
          <p:cNvPicPr/>
          <p:nvPr/>
        </p:nvPicPr>
        <p:blipFill>
          <a:blip r:embed="rId1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missing4"/>
          <p:cNvPicPr/>
          <p:nvPr/>
        </p:nvPicPr>
        <p:blipFill>
          <a:blip r:embed="rId2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issing4"/>
          <p:cNvPicPr/>
          <p:nvPr/>
        </p:nvPicPr>
        <p:blipFill>
          <a:blip r:embed="rId3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missing4"/>
          <p:cNvPicPr/>
          <p:nvPr/>
        </p:nvPicPr>
        <p:blipFill>
          <a:blip r:embed="rId4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missing4"/>
          <p:cNvPicPr/>
          <p:nvPr/>
        </p:nvPicPr>
        <p:blipFill>
          <a:blip r:embed="rId5"/>
          <a:stretch/>
        </p:blipFill>
        <p:spPr>
          <a:xfrm>
            <a:off x="4952880" y="1905120"/>
            <a:ext cx="3814920" cy="46908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5029200" y="3276720"/>
            <a:ext cx="3429000" cy="182520"/>
            <a:chOff x="5029200" y="3276720"/>
            <a:chExt cx="3429000" cy="182520"/>
          </a:xfrm>
        </p:grpSpPr>
        <p:sp>
          <p:nvSpPr>
            <p:cNvPr id="164" name="Rectangle 35"/>
            <p:cNvSpPr/>
            <p:nvPr/>
          </p:nvSpPr>
          <p:spPr>
            <a:xfrm>
              <a:off x="5029200" y="327672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5105160" y="335304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5029200" y="5075280"/>
            <a:ext cx="3429000" cy="182520"/>
            <a:chOff x="5029200" y="5075280"/>
            <a:chExt cx="3429000" cy="182520"/>
          </a:xfrm>
        </p:grpSpPr>
        <p:sp>
          <p:nvSpPr>
            <p:cNvPr id="167" name="Rectangle 38"/>
            <p:cNvSpPr/>
            <p:nvPr/>
          </p:nvSpPr>
          <p:spPr>
            <a:xfrm>
              <a:off x="5029200" y="5075280"/>
              <a:ext cx="34290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105160" y="51516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4952880" y="1862280"/>
            <a:ext cx="3814920" cy="4690800"/>
            <a:chOff x="4952880" y="1862280"/>
            <a:chExt cx="3814920" cy="4690800"/>
          </a:xfrm>
        </p:grpSpPr>
        <p:pic>
          <p:nvPicPr>
            <p:cNvPr id="170" name="Picture 47" descr="missing4"/>
            <p:cNvPicPr/>
            <p:nvPr/>
          </p:nvPicPr>
          <p:blipFill>
            <a:blip r:embed="rId6"/>
            <a:stretch/>
          </p:blipFill>
          <p:spPr>
            <a:xfrm>
              <a:off x="4952880" y="1862280"/>
              <a:ext cx="3814920" cy="469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48"/>
            <p:cNvGrpSpPr/>
            <p:nvPr/>
          </p:nvGrpSpPr>
          <p:grpSpPr>
            <a:xfrm>
              <a:off x="5029200" y="3233880"/>
              <a:ext cx="3429000" cy="182520"/>
              <a:chOff x="5029200" y="3233880"/>
              <a:chExt cx="3429000" cy="182520"/>
            </a:xfrm>
          </p:grpSpPr>
          <p:sp>
            <p:nvSpPr>
              <p:cNvPr id="172" name="Rectangle 49"/>
              <p:cNvSpPr/>
              <p:nvPr/>
            </p:nvSpPr>
            <p:spPr>
              <a:xfrm>
                <a:off x="5029200" y="323388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5105160" y="331020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51"/>
            <p:cNvGrpSpPr/>
            <p:nvPr/>
          </p:nvGrpSpPr>
          <p:grpSpPr>
            <a:xfrm>
              <a:off x="5029200" y="5032440"/>
              <a:ext cx="3429000" cy="182520"/>
              <a:chOff x="5029200" y="5032440"/>
              <a:chExt cx="3429000" cy="182520"/>
            </a:xfrm>
          </p:grpSpPr>
          <p:sp>
            <p:nvSpPr>
              <p:cNvPr id="175" name="Rectangle 52"/>
              <p:cNvSpPr/>
              <p:nvPr/>
            </p:nvSpPr>
            <p:spPr>
              <a:xfrm>
                <a:off x="5029200" y="5032440"/>
                <a:ext cx="3429000" cy="182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>
                <a:off x="5105160" y="5108760"/>
                <a:ext cx="3200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ata point is missing, delete cases on an analysis-by-analysi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varies per analysis (e.g., correlation, AN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iased estimates only under M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s, means, SEs biased under MAR and M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/covariance matrices often non-positive definite (NP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missing4"/>
          <p:cNvPicPr/>
          <p:nvPr/>
        </p:nvPicPr>
        <p:blipFill>
          <a:blip r:embed="rId1"/>
          <a:stretch/>
        </p:blipFill>
        <p:spPr>
          <a:xfrm>
            <a:off x="4948200" y="1890720"/>
            <a:ext cx="3814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Deletion Approach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814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-wis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only available in most packages, but not as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ain, we don’t want to delete cases (Ss) if we intentionally did not collect data on som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be OK for pair-wise univariate comparisons but not for omnibus multivariate analyses (N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missing4"/>
          <p:cNvPicPr/>
          <p:nvPr/>
        </p:nvPicPr>
        <p:blipFill>
          <a:blip r:embed="rId1"/>
          <a:stretch/>
        </p:blipFill>
        <p:spPr>
          <a:xfrm>
            <a:off x="4952880" y="1981080"/>
            <a:ext cx="3814920" cy="442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5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8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9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0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2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4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5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7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647712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7772400" y="1905120"/>
            <a:ext cx="457200" cy="41907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7696080" y="312408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6400800" y="312408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3"/>
          <p:cNvSpPr/>
          <p:nvPr/>
        </p:nvSpPr>
        <p:spPr>
          <a:xfrm>
            <a:off x="655308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7848720" y="50292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655308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7"/>
          <p:cNvSpPr/>
          <p:nvPr/>
        </p:nvSpPr>
        <p:spPr>
          <a:xfrm>
            <a:off x="6400800" y="4800600"/>
            <a:ext cx="60948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8"/>
          <p:cNvSpPr/>
          <p:nvPr/>
        </p:nvSpPr>
        <p:spPr>
          <a:xfrm>
            <a:off x="7696080" y="4800600"/>
            <a:ext cx="609840" cy="4572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0"/>
          <p:cNvGrpSpPr/>
          <p:nvPr/>
        </p:nvGrpSpPr>
        <p:grpSpPr>
          <a:xfrm>
            <a:off x="4952880" y="1905120"/>
            <a:ext cx="3814920" cy="4502160"/>
            <a:chOff x="4952880" y="1905120"/>
            <a:chExt cx="3814920" cy="4502160"/>
          </a:xfrm>
        </p:grpSpPr>
        <p:pic>
          <p:nvPicPr>
            <p:cNvPr id="248" name="Picture 69" descr="missing4"/>
            <p:cNvPicPr/>
            <p:nvPr/>
          </p:nvPicPr>
          <p:blipFill>
            <a:blip r:embed="rId2"/>
            <a:stretch/>
          </p:blipFill>
          <p:spPr>
            <a:xfrm>
              <a:off x="4952880" y="1981080"/>
              <a:ext cx="3814920" cy="44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70"/>
            <p:cNvSpPr/>
            <p:nvPr/>
          </p:nvSpPr>
          <p:spPr>
            <a:xfrm>
              <a:off x="647712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1"/>
            <p:cNvSpPr/>
            <p:nvPr/>
          </p:nvSpPr>
          <p:spPr>
            <a:xfrm>
              <a:off x="7772400" y="1905120"/>
              <a:ext cx="457200" cy="41907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2"/>
            <p:cNvSpPr/>
            <p:nvPr/>
          </p:nvSpPr>
          <p:spPr>
            <a:xfrm>
              <a:off x="7696080" y="312408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3"/>
            <p:cNvSpPr/>
            <p:nvPr/>
          </p:nvSpPr>
          <p:spPr>
            <a:xfrm>
              <a:off x="6400800" y="312408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6553080" y="33526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78487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6"/>
            <p:cNvSpPr/>
            <p:nvPr/>
          </p:nvSpPr>
          <p:spPr>
            <a:xfrm>
              <a:off x="7848720" y="5029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7"/>
            <p:cNvSpPr/>
            <p:nvPr/>
          </p:nvSpPr>
          <p:spPr>
            <a:xfrm>
              <a:off x="6553080" y="50292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8"/>
            <p:cNvSpPr/>
            <p:nvPr/>
          </p:nvSpPr>
          <p:spPr>
            <a:xfrm>
              <a:off x="6400800" y="4800600"/>
              <a:ext cx="60948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9"/>
            <p:cNvSpPr/>
            <p:nvPr/>
          </p:nvSpPr>
          <p:spPr>
            <a:xfrm>
              <a:off x="7696080" y="4800600"/>
              <a:ext cx="609840" cy="457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Mean-Substitution Approache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mean of the sample (sample-wise) or the mean score of other items (case-wise) for any miss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ces and correlations/covariances truncated/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iased means under MCAR, MAR, or M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1600200" y="2743200"/>
            <a:ext cx="7238520" cy="3962160"/>
            <a:chOff x="1600200" y="2743200"/>
            <a:chExt cx="7238520" cy="3962160"/>
          </a:xfrm>
        </p:grpSpPr>
        <p:sp>
          <p:nvSpPr>
            <p:cNvPr id="262" name="Text Box 14"/>
            <p:cNvSpPr/>
            <p:nvPr/>
          </p:nvSpPr>
          <p:spPr>
            <a:xfrm>
              <a:off x="1743120" y="446760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We’d like to obtain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5575680" y="445644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51837"/>
                  </a:solidFill>
                  <a:latin typeface="Garamond"/>
                </a:rPr>
                <a:t>But instead we get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6" descr=""/>
            <p:cNvPicPr/>
            <p:nvPr/>
          </p:nvPicPr>
          <p:blipFill>
            <a:blip r:embed="rId1"/>
            <a:stretch/>
          </p:blipFill>
          <p:spPr>
            <a:xfrm>
              <a:off x="5645160" y="4739040"/>
              <a:ext cx="280584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7" descr=""/>
            <p:cNvPicPr/>
            <p:nvPr/>
          </p:nvPicPr>
          <p:blipFill>
            <a:blip r:embed="rId2"/>
            <a:stretch/>
          </p:blipFill>
          <p:spPr>
            <a:xfrm>
              <a:off x="2025720" y="4739040"/>
              <a:ext cx="2774880" cy="19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8" descr=""/>
            <p:cNvPicPr/>
            <p:nvPr/>
          </p:nvPicPr>
          <p:blipFill>
            <a:blip r:embed="rId3"/>
            <a:stretch/>
          </p:blipFill>
          <p:spPr>
            <a:xfrm>
              <a:off x="5290200" y="2743200"/>
              <a:ext cx="3548520" cy="16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9" descr=""/>
            <p:cNvPicPr/>
            <p:nvPr/>
          </p:nvPicPr>
          <p:blipFill>
            <a:blip r:embed="rId4"/>
            <a:stretch/>
          </p:blipFill>
          <p:spPr>
            <a:xfrm>
              <a:off x="1600200" y="2743200"/>
              <a:ext cx="3548160" cy="165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odern Model-Based Approaches 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Imputation (MI) –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several complete data sets by imputing missing values (similar to plausible val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CAU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 may not be enough (see Graham et al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, NORM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each data set using standard “complete case”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 GLIMMIX, 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PSS ANO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 results into a single result using Rubin’s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S PROC MIANALYZE, MS Excel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Information Maximum Likelihood (FIML) - </a:t>
            </a: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upon endogenous (Y-side)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ed in principle to the use of multiple group 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statistics (mean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variances/covarianc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are estimated from the raw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mple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estimates then serve as the start values for the ML model esti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vailable in most SEM &amp; HLM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Data Resourc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ers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tle &amp; Rubin (2002) [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er Reviewed Art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llins, L. M., Schafer, J. L., &amp; Kam, C. M. (2001). A comparison of inclusive and restrictive strategies in modern missing data procedure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3-351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 (2003). Adding missing-data-relevant variables to FIML-based structural equation models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tructural Equation Modeling: A Multidisciplinary Journal, 1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80–100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Olchowski, A.E., &amp; Gilreath, T.D. (2007). How many imputations are really needed? Some practical clarifications of multiple imputation theory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revention Science, 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206-21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raham, J.W., Taylor, B.J., Olchowski, A.E., &amp; Cumsille, P.E. (2006). Planned missing data designs in psychological research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1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323-343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ubin, D.B. (1976) Inference and missing data. 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iometrika, 6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581-59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chafer , J.L., &amp; Graham, J.W. (2002). Missing data: Our view of the state of the art.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sychological Methods, 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147-177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andbook of Psychology: Research Methods in Psychology (Volum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ham, Cumsille, &amp; Elek-Fisk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list is NOT exhaustive, just the ones I have found to be the most usefu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nguage and Reading Research Consortium (LARRC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for Understanding Research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hio State University (lead) – PI: Laura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zon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caster University (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1: Assessment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K throug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sectional aim for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nform Studies 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for years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ARRClogoFINAL-wbook"/>
          <p:cNvPicPr/>
          <p:nvPr/>
        </p:nvPicPr>
        <p:blipFill>
          <a:blip r:embed="rId1"/>
          <a:stretch/>
        </p:blipFill>
        <p:spPr>
          <a:xfrm>
            <a:off x="5791320" y="2743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Does Every Student Need to Take Every Assessment in My Study?”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eated as a missing dat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nty of examples in the lit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Accelerated longitudin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Planned missing data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Measurem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sam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equentially designe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iginally proposed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,200 PK to G3 in Ye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00 PK, 200 K, 200 G1, 200 G2, 200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annually within a set window over multiple test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are followed until they reach 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cohort sequential design (more la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ly proposed 4-hr battery was expanded to a 6-hr battery for the PK and K children and a 7-hr battery for G1-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t of constructs + at least 3 measures/construct = a lot of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ed testing window from 8-12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esting outside of school hours (nights, weekend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1"/>
          <a:stretch/>
        </p:blipFill>
        <p:spPr>
          <a:xfrm>
            <a:off x="2843280" y="1490760"/>
            <a:ext cx="4067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we realized the problem, some sites were already well underway with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ites felt they could collect the entire planned sample, others not so su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sion factors were not eas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measurement solutions vs. complex modeling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multiple items on a unidimensional con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multiple measures as part of a comprehensive 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ed to be as “experimental” as possible – protocol driv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measures are new, modified, translated, or otherwise experi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itudinal aims require more data to test/insure measurement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thought out battery (we’re really attached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t we were “over-powered” to begi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LARRC Study 1: 5-Year Assessment Panel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ed to maximize between-measure information by making use of previous design decisions and initial over-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Conside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opping measures or administering certain measures to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eci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duce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ARRC vs. RfU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4038480" cy="2903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14800" y="3828960"/>
            <a:ext cx="4800600" cy="2860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5410080" y="1860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C is still not collecting all data on all 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057400" y="463536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U panels are not all assessing at all grade level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ll Ss are assessed, but not assessed on all instrumen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l (19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quenti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ie (196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-sequenti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selroade &amp; Baltes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d longitudinal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ry, Ohlin, &amp; Farrington (199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Does Accelerated Mean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ping ‘Cohort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hort is a group of participants that begin a study at a common age or grade in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ed for a limited number of measurement occa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s are linked at their overlapping time points to approximate the true longitudinal curve/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5639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Accelerated Longitudinal Desig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assessment of intra-individu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s less time than a purely longitudin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attrition and cumulative testing effects are not as pre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longitudinal research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or Classroom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ontology or aging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mportant Design Feature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relatively large sample 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universally accepted sample size recommendations, but typically at least 150 subjects (total) ar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ly depends on analytic method (i.e. ML vs. OLS estim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fficiency of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least two points of overlap are required to test for differences in linear slopes between adjacent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than two if higher order trends are expected (e.g., quadratic, cub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7"/>
          <p:cNvGraphicFramePr/>
          <p:nvPr/>
        </p:nvGraphicFramePr>
        <p:xfrm>
          <a:off x="1523880" y="3833640"/>
          <a:ext cx="701064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33640"/>
                    <a:ext cx="70106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8"/>
          <p:cNvSpPr/>
          <p:nvPr/>
        </p:nvSpPr>
        <p:spPr>
          <a:xfrm>
            <a:off x="5486400" y="6400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Miyazaki &amp; Raudenbush (200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Outline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ng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ration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based randomized control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 of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for 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are assessed, but not assessed on al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Reading for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lerated Longitudinal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Missing Data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ized Adaptiv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struments are delivered to those who are assessed, but not all Ss are ass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– CYFS randomized control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ly Designed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4948200" y="4165560"/>
            <a:ext cx="3814920" cy="254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1622160" cy="525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814920" cy="2539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609480" y="28940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Group S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19112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s a time-invariant covari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114800" y="438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sing By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nalytic Models: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lanned Missingness or Individually-Varying Occasion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1454040" y="2935440"/>
            <a:ext cx="2887920" cy="22827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10666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ly Varying Time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315200" y="5835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359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lanned Missing Data Designs (PMDDs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-of-measurement design” (Graham, Taylor, Olchowski, &amp; Cumsille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lison, Allison, Faith, Paultre, &amp; Pi-Sunyer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cost ($) with statistica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Factor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Box, Hunter, &amp; Hunter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chosen subset of cells from a factorial design focus “information” on most important conditions while minimiz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o different from adaptive tes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matrix sampling (Shoemaker, 197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for means, but not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ctional block design (McArdle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means + SOME cor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multiple-group SEM f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incomplete blocks (spiral) designs (Johnson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s &amp; correl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number of Ss respond to each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4952880" y="148284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5662440" y="4167360"/>
            <a:ext cx="2391120" cy="25239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095880" y="6537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McArdle (1994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105520" y="3809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40940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form design (Graham, Hofer, &amp; Piccinin, 1994;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s split into 4 sets (X, 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s get X + 2 additional sets (XAB, XAC, X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hypotheses testable [k(k-1)/2 2-variable effects w/in each set + k2 2-variable effects across 2 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forget multiplicit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t questionnaire survey design (SQSD; Raghunathan &amp; Grizzle, 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950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2"/>
          <a:stretch/>
        </p:blipFill>
        <p:spPr>
          <a:xfrm>
            <a:off x="990720" y="4075200"/>
            <a:ext cx="3809880" cy="18684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3"/>
          <p:cNvSpPr/>
          <p:nvPr/>
        </p:nvSpPr>
        <p:spPr>
          <a:xfrm>
            <a:off x="1752480" y="57913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867280" y="6477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asurement PMDD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method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ases w/ cheap, relatively noisy (lower reliability)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elf-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a response bias corre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cases w/ both cheap and expensive, more reliable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biological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953240" cy="28623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70572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Graham et al. (2006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1837"/>
                </a:solidFill>
                <a:latin typeface="Verdana"/>
              </a:rPr>
              <a:t>Computer Adaptive Testing (CAT)</a:t>
            </a:r>
            <a:endParaRPr b="1" lang="en-US" sz="27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administers items that are most appropriate for a given abil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higher-ability examinees will be administered harder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s are essentially weighted according to their difficulty, making test scores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T can often achieve the precision of a fixed-length test using half as man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practical through Item Response Theory (I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54100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Response Func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095560" y="1447920"/>
            <a:ext cx="556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Item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982880" y="1447920"/>
            <a:ext cx="578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IRT: Test Information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549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y Motivating Contex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5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gator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anguage Bases of Skilled Reading Comprehension (USDOE-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UNL Sub-Award PI: T. Hogan; Ohio State University PI: L. Jus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4-10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ical Consultant (Statistici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ion of the Efficacy of CBC for Addressing Disruptive Behaviors of Children at-Risk for Academic Fail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09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 (Core Directo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National Center for Research on Rural Education (R2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010-14]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-Principal Investig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andomized Trail of Conjoint Behavioral Consultation (CBC) in Rural Education Settings: Efficacy for Elementary Students with Disruptive Behavi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SDOE/IES). PI: S. Sherida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gin, all examinees are administered moderately difficul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n item will result in a lower ability estimate, and the computer will administer an easie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ing an item correctly will increase one’s ability estimate, and the computer will administer a more difficul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IRT, the computer estimates the respondent’s ability level after each item is admin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items are tailored to the respondent’s abil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continues until the algorithm identifies the difficulty level at which the respondent will miss about 50% of th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is concentrated and maximized at this most-appropriate difficul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ping rules are based on EITHER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logistical 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ixed # of items) OR a sufficiently </a:t>
            </a: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small standard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ow CAT Works (cont.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2666880" y="647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www.nlsinfo.org/nlsy97/nlsdocs/nlsy97/codesup/mapp10.htm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ll instruments are delivered to those who are assessed, but not all Ss are assessed </a:t>
            </a:r>
            <a:br>
              <a:rPr sz="2600"/>
            </a:b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1837"/>
                </a:solidFill>
                <a:latin typeface="Verdana"/>
              </a:rPr>
              <a:t>Fixed vs. Sequential Designs</a:t>
            </a:r>
            <a:endParaRPr b="1" lang="en-US" sz="33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design in education and the social and behavioral sci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size and composition (e.g., experimental group allocation) determined prior to conducting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6400" y="144756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perimental desig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1837"/>
                </a:solidFill>
                <a:latin typeface="Times New Roman"/>
              </a:rPr>
              <a:t>Sample size treated as a 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quential interim analyses and decision-ma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cumulative data and previous design d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intaining appropriate Type I (α) &amp; Type II (β)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decisions are sequentially selected according to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previo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 design 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Kind of Bayesian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Fixed design = sample size and composition determined a pri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design = the number of observations/participants is not predetermin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and composition are considered random due to decision dependence on previous observ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A finite upper limit is often set in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~ the original fixed sample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rimary Benefits of Sequential Design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ow f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early ter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of experiments if cumulative evidence suggests a clear effect or lack ther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Eth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y expo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unsafe experimental conditions in terms of both length of exposure and the number of participants ex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Prev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unnecessarily withholding administ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when the experimental condition is clearly bene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Logistical persp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inancial sav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due to reduced sample si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Fail to 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early termination for lack of effectiveness at a total sample size smaller than would be the case with a fixe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: a similar savings is observed in the total sample size requir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ample size savings typically reported as greater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han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tual sample savings generally reported to be as large as 1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&amp; as large as 50%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History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Development of a double sampling inspection procedure for the purpose of industrial quality control. (Harold F. Dodge and Harry G. Rom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Census of Bengalese jute area (Prasanta Chandra Mahalanob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probability ratio test for military armament testing. (Abraham Wald; Statistical Research Group at Columbia University: Milton Friedman, W. Allen Wall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Launched the complementary field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equential analys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hypothesis testing procedures which allow a statistical test to be calculated at any stage of the experiment prior to 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3-alternative rule for inferential decision-making: FTR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Gulim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, or continu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Book on sequential medical trials effectively introduced the sequential design of randomized clinical trials (RCT), (Peter Armitag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51837"/>
                </a:solidFill>
                <a:latin typeface="Times New Roman"/>
                <a:ea typeface="Gulim"/>
              </a:rPr>
              <a:t>Computerized adaptive te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 procedures for educational and psychological testing based on the principles of sequential design of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Roots can be attributed to Alfred Binet (1905) with the start of adaptive individualized intelligence tes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 Characteristic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  <a:ea typeface="Gulim"/>
              </a:rPr>
              <a:t>At least 1 interim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a pre-specified interim stage prior to formal completion of the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Statistical details are determined a priori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re’s a protoc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# interim stage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t each stage, desired nomin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ritical values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boundary valu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re compute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for each interim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vailable data is analyzed (data from that stage + all previous st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appropriate test statistic and the Fisher information level (the inverse of the squared standard error) are compu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The test statistic is then compared with critical boundary values determin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 to maintain appropriate nominal experiment-wise Type I and Type II error rates given the occurrence of multiple statistical tests at interim st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If the test statistic falls within a decision region, the experiment stops. Otherwise, the experiment continues to the next stage or until the maximum sample size is re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612720"/>
            <a:ext cx="769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Boundary Plot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74328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4" descr="BoundaryPlot-WHT"/>
          <p:cNvPicPr/>
          <p:nvPr/>
        </p:nvPicPr>
        <p:blipFill>
          <a:blip r:embed="rId2"/>
          <a:stretch/>
        </p:blipFill>
        <p:spPr>
          <a:xfrm>
            <a:off x="6410160" y="1447920"/>
            <a:ext cx="2657520" cy="2500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ombinedBoundaryPlot"/>
          <p:cNvPicPr/>
          <p:nvPr/>
        </p:nvPicPr>
        <p:blipFill>
          <a:blip r:embed="rId3"/>
          <a:stretch/>
        </p:blipFill>
        <p:spPr>
          <a:xfrm>
            <a:off x="1076400" y="1447920"/>
            <a:ext cx="2654280" cy="2498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ombinedBoundaryPlot2"/>
          <p:cNvPicPr/>
          <p:nvPr/>
        </p:nvPicPr>
        <p:blipFill>
          <a:blip r:embed="rId4"/>
          <a:stretch/>
        </p:blipFill>
        <p:spPr>
          <a:xfrm>
            <a:off x="1076400" y="3962520"/>
            <a:ext cx="2651040" cy="2496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BoundaryPlot6"/>
          <p:cNvPicPr/>
          <p:nvPr/>
        </p:nvPicPr>
        <p:blipFill>
          <a:blip r:embed="rId5"/>
          <a:stretch/>
        </p:blipFill>
        <p:spPr>
          <a:xfrm>
            <a:off x="3743280" y="3962520"/>
            <a:ext cx="2651040" cy="24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BoundaryPlot8"/>
          <p:cNvPicPr/>
          <p:nvPr/>
        </p:nvPicPr>
        <p:blipFill>
          <a:blip r:embed="rId6"/>
          <a:stretch/>
        </p:blipFill>
        <p:spPr>
          <a:xfrm>
            <a:off x="6410160" y="3962520"/>
            <a:ext cx="2651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3 Genera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ul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tinuous monitoring - updated after every observation or after every participant completes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Grou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onsidered analogous to fully sequential designs EXCEPT that boundary values are computed for a predetermined number of equally spac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t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rather than after each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Flexi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 sequential desig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an be viewed as a compromise between fully sequential and group sequential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Differ based on sample recruitment and decision-making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What is Missing Data?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lective non-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 complete some measures or respond to some items but no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ping some questions, missing a measurement occasion but returning for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op-ou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ipant ceased to participate in or is removed from th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schools, death/illness, disinteres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cause of the study itself or the outcome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by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not intended to be observed in the firs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sequential studies, planned missing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uman/technology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servation was lost due to experimenter or technological error in a non-systematic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data collection and the internet connection fails during data storage, spill coffee on the laptop, poor data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Limitations of Sequential Designs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design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creased computational bur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Determining boundary valu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Controlling the experiment-wise error 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Threat to validity due to ability for early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for efficacy, futility, or participant saf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maller sample sizes can lead to a distrust of the findi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Some analytic assumption problems due to asymptotic principles (i.e. M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Gulim"/>
              </a:rPr>
              <a:t>Early termination decision is more complex than just a statistical criter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Consistency across both primary and secondary outcomes, risk gro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ubstantive Context</a:t>
            </a: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CBC in the Early Grades (Sheridan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, 2011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cohort fixed-design cluster randomized trial to evaluate the effectiveness of a school-based consultation (CBC) approach for students with challenging classroom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schools, 90 classrooms/teachers, 207 K-3rd grade students &amp;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assigned as small (2-3) parent-teacher grou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-as-usual control con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CBC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designed to detect a medium standardized effect (ES = .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ample siz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0 childre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 classrooms w/ 3 kids/class) was determined throug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 analysis using Opti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ethodological Study </a:t>
            </a:r>
            <a:br>
              <a:rPr sz="30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(Bovaird </a:t>
            </a:r>
            <a:r>
              <a:rPr b="1" i="1" lang="en-US" sz="1800" spc="-1" strike="noStrike">
                <a:solidFill>
                  <a:srgbClr val="e51837"/>
                </a:solidFill>
                <a:latin typeface="Verdana"/>
              </a:rPr>
              <a:t>et al, </a:t>
            </a: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2009; Bovaird, 2010)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a post hoc application of a sequential design and analysis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ort (4) = “Gro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eventual “known” fixed design conclusions as tru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1837"/>
                </a:solidFill>
                <a:latin typeface="Times New Roman"/>
              </a:rPr>
              <a:t>What is the degree to which sample size savings may have been realized if we had implemented a group sequential design rather than a fixed de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nalyses implemented in 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DESIGN – design the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GLIMMIX – analy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 SEQTEST – evaluate analytic results based on boundar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Adaptive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75" name="Picture 3" descr="TestPlot-BPAS"/>
          <p:cNvPicPr/>
          <p:nvPr/>
        </p:nvPicPr>
        <p:blipFill>
          <a:blip r:embed="rId1"/>
          <a:stretch/>
        </p:blipFill>
        <p:spPr>
          <a:xfrm>
            <a:off x="993600" y="2319480"/>
            <a:ext cx="3816360" cy="359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TestPlot-BTAS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Externalizing Behavior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0" name="Picture 3" descr="TestPlot-BPEX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TestPlot-BTEX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Parent-Teacher Relationship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85" name="Picture 3" descr="TestPlot-PT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TestPlot-PT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ocial Skills:</a:t>
            </a:r>
            <a:br>
              <a:rPr sz="2600"/>
            </a:br>
            <a:r>
              <a:rPr b="1" lang="en-US" sz="1800" spc="-1" strike="noStrike">
                <a:solidFill>
                  <a:srgbClr val="e51837"/>
                </a:solidFill>
                <a:latin typeface="Verdana"/>
              </a:rPr>
              <a:t>Parent vs. Teacher Reports</a:t>
            </a:r>
            <a:endParaRPr b="1" lang="en-US" sz="18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0" name="Picture 3" descr="TestPlot-SSRPTO"/>
          <p:cNvPicPr/>
          <p:nvPr/>
        </p:nvPicPr>
        <p:blipFill>
          <a:blip r:embed="rId1"/>
          <a:stretch/>
        </p:blipFill>
        <p:spPr>
          <a:xfrm>
            <a:off x="990720" y="2279520"/>
            <a:ext cx="3816360" cy="359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TestPlot-SSRTTO"/>
          <p:cNvPicPr/>
          <p:nvPr/>
        </p:nvPicPr>
        <p:blipFill>
          <a:blip r:embed="rId2"/>
          <a:stretch/>
        </p:blipFill>
        <p:spPr>
          <a:xfrm>
            <a:off x="4946760" y="2279520"/>
            <a:ext cx="3816360" cy="3592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1066680" y="1752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7913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-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Sequential vs. Fixed Design Results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502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2"/>
          <p:cNvGrpSpPr/>
          <p:nvPr/>
        </p:nvGrpSpPr>
        <p:grpSpPr>
          <a:xfrm>
            <a:off x="3124080" y="3048120"/>
            <a:ext cx="5639040" cy="3200400"/>
            <a:chOff x="3124080" y="3048120"/>
            <a:chExt cx="5639040" cy="3200400"/>
          </a:xfrm>
        </p:grpSpPr>
        <p:sp>
          <p:nvSpPr>
            <p:cNvPr id="397" name="Line 4"/>
            <p:cNvSpPr/>
            <p:nvPr/>
          </p:nvSpPr>
          <p:spPr>
            <a:xfrm>
              <a:off x="373392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7339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3733920" y="4724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1240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"/>
            <p:cNvSpPr/>
            <p:nvPr/>
          </p:nvSpPr>
          <p:spPr>
            <a:xfrm>
              <a:off x="6858000" y="30481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>
              <a:off x="8763120" y="38862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8153280" y="4648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>
              <a:off x="7467480" y="548640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Sequential Designs Source Material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360" y="1447560"/>
            <a:ext cx="77454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itage P. (1975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quential Medical T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nd ed.). New York: John Wiley &amp; 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&amp; Kupzyk, K.A. (2010). Sequential Designs. In N.L. Salkind, D.M. Dougherty, &amp; B. Frey (Eds.)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cyclopedia of research desig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London: 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 (2010, August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loring Sequential Design of Cluster Randomized Trial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er presented at the American Psychological Association annual meeting. San Diego,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vaird, J.A., Sheridan, S.M., Glover, T.A., &amp; Garbacz, S.A. (2009, June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xed vs. Sequential Experimental Designs: Implications for Cluster Randomized Trials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Poster presented at the IES Research Conference, Washington, D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rnoff, H. (1959). Sequential design of experim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55-77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ets, D.L. (1998). Sequential designs in clinical trial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rdiac Electrophysiology Review,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–6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ner, H. (200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ized adaptive testing: A prim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nd ed.). Mahwah, NJ: Lawrence Erlbaum Associate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ld, A. (1945). Sequential tests of statistical hypothes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nnals of Mathematical Statistics, 16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-1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Conclusions &amp; Things to Think About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1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1837"/>
                </a:solidFill>
                <a:latin typeface="Times New Roman"/>
              </a:rPr>
              <a:t>Different approaches for different questi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overlap (i.e. core items/measures) necess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lap across Ss vs. across items/measu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common items/measures should reflect central hypoth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– necessary for linking, equa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large should the core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d sets, but not 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should be included in the co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eff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What is/are the effect size(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sample sizes for different effects – a small effect size requires more (complete)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should the core occu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ly not 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erbalanced is ideal but sometimes im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18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1837"/>
                </a:solidFill>
                <a:latin typeface="Times New Roman"/>
              </a:rPr>
              <a:t>Don’t forget experimental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Types of Missing Data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are modeling literacy (Y) as a function of S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spondents did not complete the literacy measure, so we have missing data on literacy 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have incomplete data on our literacy measure (Y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a random or systematic proc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we determine the nature of any systematic influ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at Random (M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Completely at Random (MC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relevant for planned missing data designs – entirely under the researcher’s contr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Not at Random (M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the elements of the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completely observed variabl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partly observed variable(s) [partly missing dat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component(s) of the causes of missingness unrelated to X o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indicates missingness or the probability of missing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8" descr="PP_last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3"/>
          <p:cNvSpPr/>
          <p:nvPr/>
        </p:nvSpPr>
        <p:spPr>
          <a:xfrm>
            <a:off x="1371600" y="13716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bovaird2@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yfs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ed.unl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hs.unl.edu/edps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51837"/>
                </a:solidFill>
                <a:latin typeface="Verdana"/>
              </a:rPr>
              <a:t>Missing Completely At Random (MCAR)</a:t>
            </a:r>
            <a:endParaRPr b="1" lang="en-US" sz="25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other variables in a given data set or with the variable (Y) itse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mean the missing data pattern is random, but that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ssing values are not associated with any other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 probability that Y is missing (R) is not dependent on X or 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, there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o particular rea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y some respondents completed the literacy measure and others did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ou can think of the measured/observed data points as a random sample of the theoretically complete data se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0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07" name="Picture 11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2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228600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11" name="Group 1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1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7"/>
            <p:cNvSpPr/>
            <p:nvPr/>
          </p:nvSpPr>
          <p:spPr>
            <a:xfrm>
              <a:off x="228600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1837"/>
                </a:solidFill>
                <a:latin typeface="Verdana"/>
              </a:rPr>
              <a:t>Missing At Random (MAR)</a:t>
            </a:r>
            <a:endParaRPr b="1" lang="en-US" sz="30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values on a given variable (Y) are not associated wi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bserved variables (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with the variable (Y) itself, but may be related to other measured/observed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ability (R) that a literacy score (Y) is missing depends on their level of SES 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s, respondents with high SES (or low SES) didn’t complete the literacy mea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19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"/>
          <p:cNvSpPr/>
          <p:nvPr/>
        </p:nvSpPr>
        <p:spPr>
          <a:xfrm>
            <a:off x="41911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3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6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28" name="Group 19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29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21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22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33" name="Group 24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34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6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27"/>
            <p:cNvSpPr/>
            <p:nvPr/>
          </p:nvSpPr>
          <p:spPr>
            <a:xfrm>
              <a:off x="41911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1837"/>
                </a:solidFill>
                <a:latin typeface="Verdana"/>
              </a:rPr>
              <a:t>Not Missing At Random (NMAR)</a:t>
            </a:r>
            <a:endParaRPr b="1" lang="en-US" sz="2600" spc="-1" strike="noStrike">
              <a:solidFill>
                <a:srgbClr val="e5183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ssociation with unobserved variables (Z) and maybe with observed variable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that Y is missing (R) is dependent on the underlying values of 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who did not complete the literacy measure did so because of poor literac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4114440"/>
            <a:ext cx="77724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9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209680" y="4267080"/>
              <a:ext cx="535464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/>
            <p:cNvSpPr/>
            <p:nvPr/>
          </p:nvSpPr>
          <p:spPr>
            <a:xfrm>
              <a:off x="3581280" y="647712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Schafer &amp; Graham (2002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2"/>
          <p:cNvSpPr/>
          <p:nvPr/>
        </p:nvSpPr>
        <p:spPr>
          <a:xfrm>
            <a:off x="6019920" y="4343400"/>
            <a:ext cx="152388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7"/>
          <p:cNvGrpSpPr/>
          <p:nvPr/>
        </p:nvGrpSpPr>
        <p:grpSpPr>
          <a:xfrm>
            <a:off x="2209680" y="4267080"/>
            <a:ext cx="5354640" cy="2456280"/>
            <a:chOff x="2209680" y="4267080"/>
            <a:chExt cx="5354640" cy="2456280"/>
          </a:xfrm>
        </p:grpSpPr>
        <p:grpSp>
          <p:nvGrpSpPr>
            <p:cNvPr id="145" name="Group 13"/>
            <p:cNvGrpSpPr/>
            <p:nvPr/>
          </p:nvGrpSpPr>
          <p:grpSpPr>
            <a:xfrm>
              <a:off x="2209680" y="4267080"/>
              <a:ext cx="5354640" cy="2456280"/>
              <a:chOff x="2209680" y="4267080"/>
              <a:chExt cx="5354640" cy="2456280"/>
            </a:xfrm>
          </p:grpSpPr>
          <p:pic>
            <p:nvPicPr>
              <p:cNvPr id="146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267080"/>
                <a:ext cx="5354640" cy="225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5"/>
              <p:cNvSpPr/>
              <p:nvPr/>
            </p:nvSpPr>
            <p:spPr>
              <a:xfrm>
                <a:off x="3581280" y="647712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rom Schafer &amp; Graham (2002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6"/>
            <p:cNvSpPr/>
            <p:nvPr/>
          </p:nvSpPr>
          <p:spPr>
            <a:xfrm>
              <a:off x="6019920" y="4343400"/>
              <a:ext cx="1523880" cy="213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6:10:50Z</dcterms:created>
  <dc:creator>Jim Bovaird</dc:creator>
  <dc:description/>
  <dc:language>en-US</dc:language>
  <cp:lastModifiedBy>Michael Ahern</cp:lastModifiedBy>
  <dcterms:modified xsi:type="dcterms:W3CDTF">2012-04-09T16:18:25Z</dcterms:modified>
  <cp:revision>48</cp:revision>
  <dc:subject/>
  <dc:title>Slide 1</dc:title>
</cp:coreProperties>
</file>